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D1D11-D161-4D32-AC73-2DFBE108B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4A51C-9D5E-4EA3-8BA1-9D5D25CFD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9DFA2-ABDB-48BE-A4CD-668A43AF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227E6-F4D4-4786-BD48-98E0AB4F0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4AA5A-5D37-4059-8316-945E6B09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E6D0F-5438-40A3-93AD-1DE3367C0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168A-7602-4AF8-A5BE-5EC5F7B9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F31A2-553C-4586-AD35-9A482836D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31D1F-21BD-44D2-B9EF-75AAE1CD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1A8D1-BC9D-4867-8010-D7FEA2973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A4C3A-9707-48C4-BD2E-17AB222B2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5B231-3CE6-4F89-848E-CD287E5E7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1" name="Picture 3" descr=" kjhkiupufgjhrtiyiopm "/>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宋体"/>
              </a:rPr>
              <a:t>Page </a:t>
            </a:r>
            <a:fld id="{27C4D741-280E-458C-B3D5-FF148F48C158}" type="slidenum">
              <a:rPr b="1" lang="fr-FR"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4C09-61D3-4819-AD34-FE8063A45F8C}"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0805-2CE2-486D-A692-187720B2EA2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Free Powerpoint Templates</a:t>
            </a:r>
            <a:endParaRPr b="0" lang="en-US" sz="1800" spc="-1" strike="noStrike">
              <a:solidFill>
                <a:srgbClr val="000000"/>
              </a:solidFill>
              <a:latin typeface="Arial"/>
            </a:endParaRPr>
          </a:p>
        </p:txBody>
      </p:sp>
      <p:pic>
        <p:nvPicPr>
          <p:cNvPr id="81" name="Picture 3" descr="kgh kg eryek yu"/>
          <p:cNvPicPr/>
          <p:nvPr/>
        </p:nvPicPr>
        <p:blipFill>
          <a:blip r:embed="rId2"/>
          <a:stretch/>
        </p:blipFill>
        <p:spPr>
          <a:xfrm>
            <a:off x="0" y="0"/>
            <a:ext cx="9144000" cy="6858000"/>
          </a:xfrm>
          <a:prstGeom prst="rect">
            <a:avLst/>
          </a:prstGeom>
          <a:ln w="0">
            <a:noFill/>
          </a:ln>
        </p:spPr>
      </p:pic>
      <p:sp>
        <p:nvSpPr>
          <p:cNvPr id="82" name="Text Box 4"/>
          <p:cNvSpPr/>
          <p:nvPr/>
        </p:nvSpPr>
        <p:spPr>
          <a:xfrm>
            <a:off x="1187280" y="549360"/>
            <a:ext cx="687708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40176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755640" y="206064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40176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755640" y="206064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2T02:02:09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