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08B-7062-4C05-803A-A0956AFC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00F-65CF-449E-B8FA-CF6D924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79D-1C91-4231-8DF6-E05B099B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1AC-55DE-4F08-9261-7258D237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DED0-3F98-4810-848A-D7F64321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9BA7-C59F-4848-A120-2A9C119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F93B-62E9-4721-8F57-801F348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DAA2-BC4B-4900-877B-FB31454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1B7-90D5-4939-8D12-BDE9987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D2A-3B01-4E53-AB02-728C739F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A2A-BAD1-47FF-B64A-0362B4A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716-835D-47B9-8F72-D9ECC5B9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7EB0-6554-47EC-B42C-72DFA350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412-57EE-4D3C-87DB-1DE311A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4720-0B11-4FD6-8798-52C243F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9D27-D8A8-4973-A874-964D0043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6B72-F0C9-4F73-804D-AF4C4E82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A2EF-F618-4F5A-BEF8-908BEBB1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E2FC-9B31-482C-B8A4-D249201B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AF95-D245-40AA-BD0E-4D5B3E2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7B14-FD9B-4C91-B329-CFAE09F3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A64F-908F-494E-84BE-E827ECB7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8A6-ACCD-4803-8AEF-B6FC1DB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FD65-6537-4C21-8728-3C1B6B0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65D8-96E0-47BC-BDBB-C2FAAD9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812A-2CF2-422D-801E-E16E4A8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FCE4-1CC9-4C49-B1BF-2975AE7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D2FF-C07E-429B-824E-3708E44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0AAA-61E5-4E91-95F4-01F3DF19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96EF-3633-4CFD-9375-71728EA8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D2C-3FD4-40E4-8F9E-A79B5772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654-463C-426A-AC00-481DF099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125-F008-4AD4-A019-9E1C44C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0FD-D3DF-4903-9326-6E7D327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03C-66F1-4364-91BE-2B86597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7BD-9DA0-49FF-8656-90DAC44F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0C5C-194B-4732-A19B-047A922C03D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38E3-D23F-4EA8-9B57-C96BD123DF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2843-87F7-4805-A5AD-6BC71A0C00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F5D8-22B4-4DB9-B1FC-BE0E50196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572000" y="12682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邯郸体-韩绍杰邯郸体"/>
              </a:rPr>
              <a:t>奋斗、进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04000" y="256860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马之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57280" y="1622520"/>
            <a:ext cx="718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马在中华民族的文化中地位极高，具有一系列的象征和寓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龙马精神是中华民族自古以来所崇尚的奋斗不止、自强不息的进取、向上的民族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马是能力、圣贤、人才、有作为的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36680" y="450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00000" y="1666800"/>
            <a:ext cx="7128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马有着神采骏逸的形象，潇洒昂扬的身姿。马是是刚健、明亮、热烈、高昂、升腾、饱满、昌盛、发达的代名词。《易经》中干脆说：“乾为马”，它是天的象征，又代表着君王、父亲、大人、君子、祖考、金玉、敬畏、威严、健康、善良、远大、原始、生生不息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132000" y="4935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482920" y="53352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820880"/>
            <a:ext cx="8209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希望每个人都能拥有马之精神，积极进取、为梦想奋斗，用饱满的热情去实现自己价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祝大家都能马到成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500720" y="2709720"/>
            <a:ext cx="395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谢谢欣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45:43Z</dcterms:modified>
  <cp:revision>1</cp:revision>
  <dc:subject/>
  <dc:title>PowerPoint 演示文稿</dc:title>
</cp:coreProperties>
</file>