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3B1-66AF-4C7B-86C0-ABE980A0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731-026B-4407-846F-6CC80A1E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89A-C57F-4BCF-9E95-0EFD90F5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B2A-F169-4D6B-A3E9-E9B86106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7C1E-DF13-4A2F-9C8F-19A8B149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4AFE-AF40-4A08-9064-2EB5BB24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BB2D-5707-4868-87CB-34BE9778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10C8-54AD-4C2C-9E92-D2386994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FF04-DF9D-442D-B028-7FB10376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BECF-51D9-40AD-8DB3-3CBBB745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CF4C-4640-41B7-825D-B0634E52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7CF-C9DD-4459-80D3-6F5230DA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AA00-C06E-4AC1-8283-709F5E30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8B96-A7FB-4FB0-BC7D-E13839A2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88DA-3F9F-4BF9-9153-CF19CF66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5F64-2C27-4256-AE28-278C546F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A41A-23D8-4EB4-BE62-242AEB9A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5CA-6C8A-41A4-A4CD-A0A1C9AE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E49-1673-4270-86F1-1505BC93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9F4-10F1-4E8C-BE3D-0331FFAB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34E-9D7F-4760-9D53-0566DDFB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48F-BB71-489C-A991-2BD134BB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6DF-9FCC-48DB-8350-4584671E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79F-718D-4083-9EAE-E76E58B2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71FB-B0EF-4791-AAC6-34E2F2CC7B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3511-2449-437F-A2DC-D1959318B5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D11A-DFA3-4A56-8A46-2C6BFA734F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555954066347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论文题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71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答辩学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指导老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所属专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fc8c8904-ab09-40a4-b2eb-dcb05a4254d9"/>
          <p:cNvPicPr/>
          <p:nvPr/>
        </p:nvPicPr>
        <p:blipFill>
          <a:blip r:embed="rId2"/>
          <a:stretch/>
        </p:blipFill>
        <p:spPr>
          <a:xfrm>
            <a:off x="324000" y="573408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p_large_63VX_25090013e9b35c43"/>
          <p:cNvPicPr/>
          <p:nvPr/>
        </p:nvPicPr>
        <p:blipFill>
          <a:blip r:embed="rId3"/>
          <a:stretch/>
        </p:blipFill>
        <p:spPr>
          <a:xfrm>
            <a:off x="1042920" y="5805360"/>
            <a:ext cx="2089080" cy="411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763640" y="61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届本科生论文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致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413000"/>
            <a:ext cx="68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211640" y="587700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4555954066347副本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Thanks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研究概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59280" y="1628640"/>
            <a:ext cx="4176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论文结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调查对象与方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5928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对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据处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调查对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57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微软雅黑"/>
              </a:rPr>
              <a:t>研究方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43280" y="23320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数据处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85680" y="1915920"/>
            <a:ext cx="54226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调查结果与结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31640" y="2332080"/>
            <a:ext cx="850716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421164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建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00000" y="1341360"/>
            <a:ext cx="7343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421164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4:24:37Z</dcterms:created>
  <dc:creator>JIAGE</dc:creator>
  <dc:description/>
  <cp:keywords/>
  <dc:language>en-US</dc:language>
  <cp:lastModifiedBy>a</cp:lastModifiedBy>
  <dcterms:modified xsi:type="dcterms:W3CDTF">2014-05-31T02:18:17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