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B361-1FDA-49D5-BA72-7D0CC70F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835-9451-45DA-A768-C915E851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8D1-D063-49E7-9CA4-B2905651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473-F30D-4D73-81E6-7CB76756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5E71-27DB-445F-A850-419A3ABE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D60D-C07D-48CA-A3D1-D42CB592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549C-71A2-4E87-9BAF-3A48623D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7434-36B4-4156-A7C9-1685B1FE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9B92-C666-45B9-99B6-4738B70C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F621-2887-4FAD-96AC-443232A1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8429-7DDA-430E-B0E8-177A1A2C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23A-6408-48CA-874F-A1794EA2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55EA-8BCB-47D2-968D-3C6811AD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1D04-3EF1-4AB7-8501-3F0C474E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223D-F75A-454E-BC74-FB010E00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BF1F-A420-4D06-A2F1-6B0B7352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2ED3-CAD7-46BB-BCF0-D745F8D8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A4E-71A2-4DF1-9406-1688187E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92A-8A1F-4B10-8139-68B70245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B91-373C-4B9A-8126-23E6B2F8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866-A294-48D4-B5DF-BCAE4841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75C-6BD8-4786-AB3E-F44A346D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F47F-9AE8-40F4-AA9E-EE3D7C84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F36-A3F9-4C6D-B87C-86E3A288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c9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0B65-94C2-45BE-8F02-36AB08B51B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6246-8A86-467B-94C4-19E82353D4A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C185-7185-4A0F-9228-90F122ABF7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2556000" y="1557360"/>
            <a:ext cx="3816360" cy="381636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 rot="2700000">
            <a:off x="757080" y="635040"/>
            <a:ext cx="2547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5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 rot="7440000">
            <a:off x="4282560" y="407520"/>
            <a:ext cx="17946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 rot="20340000">
            <a:off x="6373800" y="4020840"/>
            <a:ext cx="1181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 rot="4800000">
            <a:off x="4866480" y="379620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639600" y="3139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你快乐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1547640" y="1701720"/>
            <a:ext cx="5832720" cy="3598920"/>
          </a:xfrm>
          <a:prstGeom prst="foldedCorner">
            <a:avLst>
              <a:gd name="adj" fmla="val 12500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918520" y="2133720"/>
            <a:ext cx="3228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快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其实很简单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只是你习惯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所以不觉得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116000" y="1413000"/>
            <a:ext cx="6697800" cy="4248000"/>
          </a:xfrm>
          <a:prstGeom prst="rect">
            <a:avLst/>
          </a:prstGeom>
          <a:noFill/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2987640" y="1917720"/>
            <a:ext cx="2881440" cy="2879640"/>
          </a:xfrm>
          <a:prstGeom prst="foldedCorner">
            <a:avLst>
              <a:gd name="adj" fmla="val 12500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558960" y="2060640"/>
            <a:ext cx="1663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 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 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20720" y="1808280"/>
            <a:ext cx="720720" cy="720720"/>
            <a:chOff x="1620720" y="1808280"/>
            <a:chExt cx="720720" cy="720720"/>
          </a:xfrm>
        </p:grpSpPr>
        <p:sp>
          <p:nvSpPr>
            <p:cNvPr id="89" name="Rectangle 3"/>
            <p:cNvSpPr/>
            <p:nvPr/>
          </p:nvSpPr>
          <p:spPr>
            <a:xfrm>
              <a:off x="1620720" y="1808280"/>
              <a:ext cx="720720" cy="7207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1710000" y="1898280"/>
              <a:ext cx="540360" cy="540360"/>
            </a:xfrm>
            <a:prstGeom prst="rect">
              <a:avLst/>
            </a:prstGeom>
            <a:solidFill>
              <a:srgbClr val="d1c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5"/>
          <p:cNvGrpSpPr/>
          <p:nvPr/>
        </p:nvGrpSpPr>
        <p:grpSpPr>
          <a:xfrm>
            <a:off x="1620720" y="2997360"/>
            <a:ext cx="720720" cy="720720"/>
            <a:chOff x="1620720" y="2997360"/>
            <a:chExt cx="720720" cy="720720"/>
          </a:xfrm>
        </p:grpSpPr>
        <p:sp>
          <p:nvSpPr>
            <p:cNvPr id="92" name="Rectangle 6"/>
            <p:cNvSpPr/>
            <p:nvPr/>
          </p:nvSpPr>
          <p:spPr>
            <a:xfrm>
              <a:off x="1620720" y="2997360"/>
              <a:ext cx="720720" cy="7207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1710000" y="3087360"/>
              <a:ext cx="540360" cy="540360"/>
            </a:xfrm>
            <a:prstGeom prst="rect">
              <a:avLst/>
            </a:prstGeom>
            <a:solidFill>
              <a:srgbClr val="d1c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1620720" y="4184640"/>
            <a:ext cx="720720" cy="720720"/>
            <a:chOff x="1620720" y="4184640"/>
            <a:chExt cx="720720" cy="720720"/>
          </a:xfrm>
        </p:grpSpPr>
        <p:sp>
          <p:nvSpPr>
            <p:cNvPr id="95" name="Rectangle 9"/>
            <p:cNvSpPr/>
            <p:nvPr/>
          </p:nvSpPr>
          <p:spPr>
            <a:xfrm>
              <a:off x="1620720" y="4184640"/>
              <a:ext cx="720720" cy="7207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"/>
            <p:cNvSpPr/>
            <p:nvPr/>
          </p:nvSpPr>
          <p:spPr>
            <a:xfrm>
              <a:off x="1710000" y="4274640"/>
              <a:ext cx="540360" cy="540360"/>
            </a:xfrm>
            <a:prstGeom prst="rect">
              <a:avLst/>
            </a:prstGeom>
            <a:solidFill>
              <a:srgbClr val="d1c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1620720" y="5372280"/>
            <a:ext cx="720720" cy="720720"/>
            <a:chOff x="1620720" y="5372280"/>
            <a:chExt cx="720720" cy="720720"/>
          </a:xfrm>
        </p:grpSpPr>
        <p:sp>
          <p:nvSpPr>
            <p:cNvPr id="98" name="Rectangle 12"/>
            <p:cNvSpPr/>
            <p:nvPr/>
          </p:nvSpPr>
          <p:spPr>
            <a:xfrm>
              <a:off x="1620720" y="5372280"/>
              <a:ext cx="720720" cy="7207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1710000" y="5462280"/>
              <a:ext cx="540360" cy="540360"/>
            </a:xfrm>
            <a:prstGeom prst="rect">
              <a:avLst/>
            </a:prstGeom>
            <a:solidFill>
              <a:srgbClr val="d1c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14"/>
          <p:cNvSpPr/>
          <p:nvPr/>
        </p:nvSpPr>
        <p:spPr>
          <a:xfrm>
            <a:off x="2197080" y="404640"/>
            <a:ext cx="287280" cy="10796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 flipH="1">
            <a:off x="1835280" y="404640"/>
            <a:ext cx="1440" cy="108144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 flipH="1">
            <a:off x="1961640" y="404640"/>
            <a:ext cx="1800" cy="1079640"/>
          </a:xfrm>
          <a:prstGeom prst="line">
            <a:avLst/>
          </a:prstGeom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2124000" y="404640"/>
            <a:ext cx="0" cy="107964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"/>
          <p:cNvSpPr/>
          <p:nvPr/>
        </p:nvSpPr>
        <p:spPr>
          <a:xfrm flipH="1">
            <a:off x="2556000" y="404640"/>
            <a:ext cx="1440" cy="107964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2700360" y="404640"/>
            <a:ext cx="0" cy="107964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6588000" y="404640"/>
            <a:ext cx="0" cy="107964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 flipH="1">
            <a:off x="6730560" y="404640"/>
            <a:ext cx="1800" cy="107964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6877080" y="404640"/>
            <a:ext cx="0" cy="1079640"/>
          </a:xfrm>
          <a:prstGeom prst="line">
            <a:avLst/>
          </a:prstGeom>
          <a:ln w="88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 flipH="1">
            <a:off x="7020000" y="404640"/>
            <a:ext cx="1440" cy="107964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4"/>
          <p:cNvSpPr/>
          <p:nvPr/>
        </p:nvSpPr>
        <p:spPr>
          <a:xfrm flipH="1">
            <a:off x="7164360" y="404640"/>
            <a:ext cx="1440" cy="107964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5"/>
          <p:cNvSpPr/>
          <p:nvPr/>
        </p:nvSpPr>
        <p:spPr>
          <a:xfrm>
            <a:off x="7308720" y="404640"/>
            <a:ext cx="0" cy="107964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3667680" y="333360"/>
            <a:ext cx="1840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3366"/>
                </a:solidFill>
                <a:latin typeface="Arial"/>
                <a:ea typeface="微软雅黑"/>
              </a:rPr>
              <a:t>目   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7" descr="未标题-1"/>
          <p:cNvPicPr/>
          <p:nvPr/>
        </p:nvPicPr>
        <p:blipFill>
          <a:blip r:embed="rId1"/>
          <a:stretch/>
        </p:blipFill>
        <p:spPr>
          <a:xfrm>
            <a:off x="1697040" y="1628640"/>
            <a:ext cx="785880" cy="844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8" descr="未标题-1"/>
          <p:cNvPicPr/>
          <p:nvPr/>
        </p:nvPicPr>
        <p:blipFill>
          <a:blip r:embed="rId2"/>
          <a:stretch/>
        </p:blipFill>
        <p:spPr>
          <a:xfrm>
            <a:off x="1692360" y="2798640"/>
            <a:ext cx="784080" cy="84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" descr="未标题-1"/>
          <p:cNvPicPr/>
          <p:nvPr/>
        </p:nvPicPr>
        <p:blipFill>
          <a:blip r:embed="rId3"/>
          <a:stretch/>
        </p:blipFill>
        <p:spPr>
          <a:xfrm>
            <a:off x="1692360" y="4022640"/>
            <a:ext cx="784080" cy="84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0" descr="未标题-1"/>
          <p:cNvPicPr/>
          <p:nvPr/>
        </p:nvPicPr>
        <p:blipFill>
          <a:blip r:embed="rId4"/>
          <a:stretch/>
        </p:blipFill>
        <p:spPr>
          <a:xfrm>
            <a:off x="1692360" y="5248440"/>
            <a:ext cx="784080" cy="844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1"/>
          <p:cNvSpPr/>
          <p:nvPr/>
        </p:nvSpPr>
        <p:spPr>
          <a:xfrm>
            <a:off x="4462920" y="1773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微软雅黑"/>
              </a:rPr>
              <a:t>快乐是一首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2"/>
          <p:cNvSpPr/>
          <p:nvPr/>
        </p:nvSpPr>
        <p:spPr>
          <a:xfrm>
            <a:off x="4462920" y="2997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微软雅黑"/>
              </a:rPr>
              <a:t>快乐是一首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3"/>
          <p:cNvSpPr/>
          <p:nvPr/>
        </p:nvSpPr>
        <p:spPr>
          <a:xfrm>
            <a:off x="4716720" y="41688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微软雅黑"/>
              </a:rPr>
              <a:t>快乐是一种感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3903840" y="5373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微软雅黑"/>
              </a:rPr>
              <a:t>快乐其实很简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125800" y="2924280"/>
            <a:ext cx="287280" cy="10792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1763640" y="2924280"/>
            <a:ext cx="0" cy="10810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1890720" y="2924280"/>
            <a:ext cx="0" cy="1079280"/>
          </a:xfrm>
          <a:prstGeom prst="line">
            <a:avLst/>
          </a:prstGeom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 flipH="1">
            <a:off x="2050560" y="2924280"/>
            <a:ext cx="180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248436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2626920" y="2924280"/>
            <a:ext cx="180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6515280" y="2924280"/>
            <a:ext cx="144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6659640" y="2924280"/>
            <a:ext cx="0" cy="107928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6804000" y="2924280"/>
            <a:ext cx="1440" cy="1079280"/>
          </a:xfrm>
          <a:prstGeom prst="line">
            <a:avLst/>
          </a:prstGeom>
          <a:ln w="88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694836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7093080" y="2924280"/>
            <a:ext cx="0" cy="107928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723600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4258800" y="3068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微软雅黑"/>
              </a:rPr>
              <a:t>快乐是一首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47640" y="1701720"/>
            <a:ext cx="5832720" cy="3598920"/>
          </a:xfrm>
          <a:prstGeom prst="foldedCorner">
            <a:avLst>
              <a:gd name="adj" fmla="val 12500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900160" y="2492280"/>
            <a:ext cx="3189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一首自己百听不厌的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可以让你很  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快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116000" y="1413000"/>
            <a:ext cx="6697800" cy="4248000"/>
          </a:xfrm>
          <a:prstGeom prst="rect">
            <a:avLst/>
          </a:prstGeom>
          <a:noFill/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125800" y="2924280"/>
            <a:ext cx="287280" cy="10792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1763640" y="2924280"/>
            <a:ext cx="0" cy="10810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1890720" y="2924280"/>
            <a:ext cx="0" cy="1079280"/>
          </a:xfrm>
          <a:prstGeom prst="line">
            <a:avLst/>
          </a:prstGeom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 flipH="1">
            <a:off x="2050560" y="2924280"/>
            <a:ext cx="180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248436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"/>
          <p:cNvSpPr/>
          <p:nvPr/>
        </p:nvSpPr>
        <p:spPr>
          <a:xfrm flipH="1">
            <a:off x="2626920" y="2924280"/>
            <a:ext cx="180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6515280" y="2924280"/>
            <a:ext cx="144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6659640" y="2924280"/>
            <a:ext cx="0" cy="107928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 flipH="1">
            <a:off x="6804000" y="2924280"/>
            <a:ext cx="1440" cy="1079280"/>
          </a:xfrm>
          <a:prstGeom prst="line">
            <a:avLst/>
          </a:prstGeom>
          <a:ln w="88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694836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7093080" y="2924280"/>
            <a:ext cx="0" cy="107928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723600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4258800" y="3068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微软雅黑"/>
              </a:rPr>
              <a:t>快乐是一首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1547640" y="1701720"/>
            <a:ext cx="5832720" cy="3598920"/>
          </a:xfrm>
          <a:prstGeom prst="foldedCorner">
            <a:avLst>
              <a:gd name="adj" fmla="val 12500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533680" y="2492280"/>
            <a:ext cx="3189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独自一人吟诗作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可以让你很  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快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116000" y="1413000"/>
            <a:ext cx="6697800" cy="4248000"/>
          </a:xfrm>
          <a:prstGeom prst="rect">
            <a:avLst/>
          </a:prstGeom>
          <a:noFill/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909800" y="2924280"/>
            <a:ext cx="287280" cy="10792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"/>
          <p:cNvSpPr/>
          <p:nvPr/>
        </p:nvSpPr>
        <p:spPr>
          <a:xfrm>
            <a:off x="1547640" y="2924280"/>
            <a:ext cx="0" cy="10810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1674720" y="2924280"/>
            <a:ext cx="0" cy="1079280"/>
          </a:xfrm>
          <a:prstGeom prst="line">
            <a:avLst/>
          </a:prstGeom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 flipH="1">
            <a:off x="1835280" y="2924280"/>
            <a:ext cx="144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26836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 flipH="1">
            <a:off x="2410920" y="2924280"/>
            <a:ext cx="180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 flipH="1">
            <a:off x="6730560" y="2924280"/>
            <a:ext cx="180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6875640" y="2924280"/>
            <a:ext cx="0" cy="107928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H="1">
            <a:off x="7020000" y="2924280"/>
            <a:ext cx="1440" cy="1079280"/>
          </a:xfrm>
          <a:prstGeom prst="line">
            <a:avLst/>
          </a:prstGeom>
          <a:ln w="88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716436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7308720" y="2924280"/>
            <a:ext cx="0" cy="107928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745164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4225320" y="3068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微软雅黑"/>
              </a:rPr>
              <a:t>快乐是一种感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1547640" y="1701720"/>
            <a:ext cx="5832720" cy="3598920"/>
          </a:xfrm>
          <a:prstGeom prst="foldedCorner">
            <a:avLst>
              <a:gd name="adj" fmla="val 12500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728080" y="2492280"/>
            <a:ext cx="353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每个周末可以睡到自然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也是一种  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快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116000" y="1413000"/>
            <a:ext cx="6697800" cy="4248000"/>
          </a:xfrm>
          <a:prstGeom prst="rect">
            <a:avLst/>
          </a:prstGeom>
          <a:noFill/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909800" y="2924280"/>
            <a:ext cx="287280" cy="10792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1547640" y="2924280"/>
            <a:ext cx="0" cy="10810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1674720" y="2924280"/>
            <a:ext cx="0" cy="1079280"/>
          </a:xfrm>
          <a:prstGeom prst="line">
            <a:avLst/>
          </a:prstGeom>
          <a:ln w="1015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 flipH="1">
            <a:off x="1835280" y="2924280"/>
            <a:ext cx="144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226836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 flipH="1">
            <a:off x="2410920" y="2924280"/>
            <a:ext cx="180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 flipH="1">
            <a:off x="6730560" y="2924280"/>
            <a:ext cx="180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6875640" y="2924280"/>
            <a:ext cx="0" cy="107928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7020000" y="2924280"/>
            <a:ext cx="1440" cy="1079280"/>
          </a:xfrm>
          <a:prstGeom prst="line">
            <a:avLst/>
          </a:prstGeom>
          <a:ln w="88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716436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7308720" y="2924280"/>
            <a:ext cx="0" cy="1079280"/>
          </a:xfrm>
          <a:prstGeom prst="line">
            <a:avLst/>
          </a:prstGeom>
          <a:ln w="114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7451640" y="2924280"/>
            <a:ext cx="0" cy="107928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412440" y="30686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微软雅黑"/>
              </a:rPr>
              <a:t>快乐其实很简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9T07:06:57Z</dcterms:modified>
  <cp:revision>1</cp:revision>
  <dc:subject/>
  <dc:title>PowerPoint 演示文稿</dc:title>
</cp:coreProperties>
</file>