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3F560-8DF3-432E-AF3C-C8A9FC01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E19D5-469B-4AEA-8ADF-9349F362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8F151-FC65-455C-9175-7710D96E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6A6E2-93B8-415A-ACC3-5D4B55D4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4375-F723-4E4D-9029-2F972619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988D9-BC2F-40A2-944A-A665B1AC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18057-E4C9-4704-BDE6-810601D2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82C52-B8D9-4E57-9E62-0B9A4DB9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537FF-34E4-4006-B68C-8BC4362B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8EE99-2345-4673-B2B0-D1F3B2E3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A07D3-5FD7-4C13-92F1-DD40A98B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ECA79-D8AD-4078-9E15-EC82530E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1FAE7-3A24-48A4-96F8-5B28CE2E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A348A-82F1-43EF-991A-CE7B1073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5C6DD-D7D9-4E45-9163-2725526D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D5EE7-478F-4BFE-9385-9FE507C7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66E67-F661-4710-95FF-0ED6E5FB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5086E-235E-41A8-947E-B18A3711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86513-9BCF-4BD9-830A-5A91CA85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C2266-66E4-48DB-B002-DC82A0E5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9CB98-A164-48B0-BD5C-4E2AC92F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41A16-1372-4939-88D3-8616FC9C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1DF0E-9B94-46B4-BDAA-95FDF8BE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9878D-3D9D-440F-82C3-FE5275DE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81C88-FE69-4ABF-9045-A5F1DDED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86DF4-D88D-41D8-9EE4-C8C69830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7653D-BC25-4429-AE98-418D01DF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5F876-F6F9-4039-ACA5-2624DAE0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CEB48-2E94-4296-995E-AEF464EA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7048D-D97A-47D5-AD81-005EA092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7B6-A295-46F9-AE28-C581D978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9D94A-6B68-44D4-8A87-B4574A1B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7CF5-776A-4066-A364-CC784A88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28E38-FB2D-4915-B1FF-AAB120B6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712EF-25F7-4752-A38D-8C72819C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8510F-3D02-41C6-AC11-86047BD8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F09A3-0022-43E9-B6A2-8445B364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2B4E3-87FD-4987-9352-F6AE0C0F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F9757-EAEE-43EC-8F0A-6E297A31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9032C-17FD-492A-A301-63B1533D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D18F2-2D24-4DBA-9C91-E4CBD53E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A63-5106-43B9-AB13-D81AF79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5451E-C5BC-4EF5-9871-965F8AF6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6FCA3-42B3-4A65-9C2A-20D0C582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E8788-3069-4F58-B19C-F67394CB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AEB91-9EC7-4BEE-831C-49A321D3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6D7C7-BDC4-45B6-8432-62B554D0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8262F-258C-469F-945D-A7B2BAEF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CE7F7-72E5-4448-A6FB-07884EFA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E2D57-4A91-4C97-AC41-5B99B38A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444AC-DE27-42D4-BD2B-C748CCCB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D34CE-E455-4AFF-B4E3-728CADD6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D9D-7B14-4D3A-BD81-DE4B8902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13C06-EFF7-403A-A018-1E361588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1BD99-C4B9-4FF5-9760-58E2F9C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525EA-F94E-4772-960C-7FE1B0E9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9473F-EFE2-435A-98FD-BD74282C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3EE58-4421-458D-AEB0-43638526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BD7CF-E208-4EBC-AE32-4FFE78C1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E6498-A57C-418C-84BA-DFE2BC78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56B54-D55A-47D2-B9C5-CCBF0238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38590-6DF9-495D-AA24-38976F57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F2AE2-26FA-4E83-8E83-B619F878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F53-1CD1-4B60-B69A-5F9E499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260FE-CCE2-46F8-9F4D-63C2584D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720ED-4DC8-4AC1-A8DB-767D663F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7A7CD-B970-424F-A562-517B0B33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9FD1D-CA98-4C76-8647-AAEE9447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76A85-BA72-435B-861A-7644E4FD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CE94D-AEEC-4330-BE43-9081A035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1B4A1-EE32-48FF-A409-54EA9766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CEF17-18A2-498A-9857-E79CD12A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586DB-CE44-449F-BC8F-622400DF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FB36B-2407-4D8C-8078-50BD4B0B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2F8-3E91-4CBB-B4BD-44FDCF4C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8456B-D3EB-4019-876C-0899CC9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C2FA7-B4CE-4827-8705-139EA049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ACCE5-6179-4E60-8ED7-08ABCA14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0D51E-BB50-4043-B82E-0679AD5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5EA94-3EF6-4AE4-BC0B-0936A5A0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A5C1B-85DF-4AF2-BD0E-2710544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C5C96-E741-4395-9E82-9DCFC52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8292D-E1BA-4F8D-98B6-2415EFA7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3FFF9-1348-4422-A572-0E594EF3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2DE34-0E1E-4484-AE0E-D0FEFB8D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87D-8DBC-47A1-8D87-BE73973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0C2AC-7DC9-47FC-A185-3BB52368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8E1-0737-40EE-8EF2-F4DDCDF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03E-8585-4EAD-A1D0-BD57D155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9A9-0833-4360-9BA0-DAACFBC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F38-27C2-46FB-8050-6BF6CAC5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97C-BD60-44E2-A561-1E64E6B0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736-AC94-4333-91A9-61C80170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3296-E7B8-4D50-92E2-02AEEAF2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85A0-7F3B-42C8-B217-D1EDEB5D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0DF9-023E-4A96-8097-60D11975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8611-8D54-48AF-8CEC-02F05067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5A17-6EAB-4F57-A0EE-13D79E97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938E-415F-465B-A675-C33B015A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EDFE-81AE-4F19-A90F-0F992690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31E9-B4D5-463D-B328-B3D0D5F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A1DF-8714-497B-9ED6-73C97C5C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9C8B-CA1A-4287-AB8E-FF856C6D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3C33-B4D8-47B9-940F-1ECA869E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34AE-12DB-45E8-B7F7-992E8182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0138-94C7-4BE6-AB66-248FD480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8EF0-131D-4CB8-B69D-F616A9AF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18B9-1B5C-457A-A221-5DA2C242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3380-F734-4C67-9922-CC847A3E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87E4C-4DAA-4CE6-97FE-2AC1D4A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FA2D-0D98-46E3-9032-ED3D75B0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E4EBE-086B-4C7A-8BE3-EFF8F797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F43D-4897-4D4D-BEE8-38F91B8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C2B2C-B226-4001-AFCA-8C59EFB7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CD32-F53D-418E-9D87-D68BCB5D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EB358-6C93-4A9C-97E8-76C3B9F4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E0504-2032-43FF-810B-F3363A3E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EEC8-83DF-43DB-A192-5198A761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268C-4504-4997-AF65-59E5207D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A2A72-E67C-4C9B-BB96-A57DC4F7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C1788-46A0-4EE8-B3A7-B4BF4FDF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87A8-B2A1-4F1D-850C-34048FF4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984F-EB5C-4964-ABD2-DBCFF5F1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8574-4F14-4005-B5CB-7101DD3C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86F1-E20A-44C0-A21C-6848A897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88F8-C55C-4B81-BFA3-2291848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00CD-47F9-40C6-AA69-CC618196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6ADA7-9B6E-4243-A773-422281F1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3800-A065-43B7-9AB5-87DC22B5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9D2AD-8EB1-4FAF-BB46-96C51B2C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D921-BFFB-4FFD-89ED-742DCBFA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A19E8-CF05-45E6-B519-D262FD1A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4985-B52A-4E09-B377-261AAB13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12EAA-76C7-43BB-84E7-358785C3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F0B5C-F508-4A98-B26F-4D9B874D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F3AA4-C28D-4F00-AE00-253CC0FD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54C5F-46DA-4613-AF60-F9E3D73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D5E7F-3667-4404-8E09-AE3107E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991ED-64C4-4223-B1E6-69961179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E84DE-6008-4ADA-BC13-1B9B34C7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F27B5-80E6-44E6-9B39-87BFF6D6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BEA01-7FA3-4078-84D5-10271871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6F7E-3D50-4890-8E6A-55ED7212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215C3-829E-4F1E-8930-A3AE8B61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4A4E2-5133-41AF-94F9-EC6A4AF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C544-5B92-4159-BDEC-2673449B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73661-B0A9-4DC5-839E-946AA129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17B8B-8D79-4649-8AC6-C93A4554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DC172-D80F-4B4E-A997-DF5974C4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A48D0-CE51-4F10-8F80-4F04B4CE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82330-6BA3-43B1-B996-225C858E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3514-3624-4424-9928-E6504CCA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BE619-71D6-41E2-B0DA-284FD4CA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9C628-C51A-4E88-AD32-26C294C6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E3065-6B9E-4F6C-A55E-DFAFE17D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5D27D-DC8A-4EA2-94B0-EA1BC494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017-72D0-4D4B-AFA4-F488390F0D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CBA2-9A12-4AE1-93C0-FE4A2E62F6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EE58-892D-4EB8-8420-89ECF2BBD8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539A-FD55-4149-B3D2-6A80B99598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D1F5-E2D7-435A-913C-475D54E472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25E9-F7DF-4873-B8BD-AB854D87B6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907B-A90F-4144-8DFF-E79836343A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5E0-6AAC-4463-A786-26E77019A7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9667-4E7B-4A64-A6CB-B05636A29EA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0650-6D86-4415-A163-3C40D5C922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0859-BBCF-4EEC-BBDE-20E447CCA21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A24B-E4A2-477D-A8C7-63E5D147A8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29FA-94A3-4B8C-B799-4529FEB3E2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5241-9796-4D65-BA93-0C34DA82C7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882-613A-474E-8C50-58ED91AEB1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68360" y="1125360"/>
            <a:ext cx="8207280" cy="532800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6A68-0EC9-4DF5-8A53-077550F1B5F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1FA7-1BA5-4373-839C-DDCB8DF205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D92C-4701-4B59-817F-B33E9A29B3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75A5-F8D8-4DF0-97CC-DB7A100F93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1702-708B-4552-95CF-CE72F66AE7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34AE-560C-4410-B561-D6BC185C96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B25C-E95B-4D2A-BF4C-89811C5306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7851-E09B-449B-A4AD-C20B892DA5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4F01-C05D-463B-AD09-567DB9F18F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FC12-C953-494E-9CA9-864D43D45A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561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2376360"/>
            <a:ext cx="46245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4860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7:54:53Z</dcterms:created>
  <dc:creator/>
  <dc:description/>
  <cp:keywords/>
  <dc:language>en-US</dc:language>
  <cp:lastModifiedBy>a</cp:lastModifiedBy>
  <dcterms:modified xsi:type="dcterms:W3CDTF">2014-08-04T02:38:48Z</dcterms:modified>
  <cp:revision>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