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304B2-975A-489E-AE3E-E4662C9F3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19EAC-B607-46E1-ADD5-F351D66C0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16953-6621-4E9A-B429-3714D0881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D674C-E3B5-4535-ADE5-58F5B07C5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B6F77-17A6-40EE-B84C-1303BE77A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9655A-E148-4C40-A76F-7258BCEB8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DA54C-DD81-4CF9-B27E-D318C7C86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F8811-E25F-46B7-8F02-E5BD77F95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FF73E-AB89-4F37-B640-CD5489D9D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7B53C-0B8B-4B55-A41A-B86949884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C6601-0785-4A2E-93B6-F419933BB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BFDE5-39A9-4A20-A1B4-58AC10865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kuyvbnfkuyar"/>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DEBB8326-30E5-4FA7-8E44-FE1942649927}"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53A5-51AE-467F-8732-410A2464E442}"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50FF2-0B57-4EAA-9A4C-156A1A4C646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fsdgdfbhrtutrazrzefdx"/>
          <p:cNvPicPr/>
          <p:nvPr/>
        </p:nvPicPr>
        <p:blipFill>
          <a:blip r:embed="rId1"/>
          <a:stretch/>
        </p:blipFill>
        <p:spPr>
          <a:xfrm>
            <a:off x="0" y="0"/>
            <a:ext cx="9144000" cy="6858000"/>
          </a:xfrm>
          <a:prstGeom prst="rect">
            <a:avLst/>
          </a:prstGeom>
          <a:ln w="0">
            <a:noFill/>
          </a:ln>
        </p:spPr>
      </p:pic>
      <p:sp>
        <p:nvSpPr>
          <p:cNvPr id="80" name="Text Box 3"/>
          <p:cNvSpPr/>
          <p:nvPr/>
        </p:nvSpPr>
        <p:spPr>
          <a:xfrm>
            <a:off x="2678040" y="260280"/>
            <a:ext cx="57646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fb003"/>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2228040" y="189000"/>
            <a:ext cx="2698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ff"/>
                </a:solidFill>
                <a:uFillTx/>
                <a:latin typeface="Verdana"/>
                <a:ea typeface="宋体"/>
              </a:rPr>
              <a:t>First Page</a:t>
            </a:r>
            <a:endParaRPr b="0" lang="en-US" sz="4000" spc="-1" strike="noStrike">
              <a:solidFill>
                <a:srgbClr val="000000"/>
              </a:solidFill>
              <a:latin typeface="Arial"/>
            </a:endParaRPr>
          </a:p>
        </p:txBody>
      </p:sp>
      <p:sp>
        <p:nvSpPr>
          <p:cNvPr id="82" name="Text Box 3"/>
          <p:cNvSpPr/>
          <p:nvPr/>
        </p:nvSpPr>
        <p:spPr>
          <a:xfrm>
            <a:off x="2627280" y="1628640"/>
            <a:ext cx="6265800" cy="3600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280240" y="189000"/>
            <a:ext cx="3368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ff"/>
                </a:solidFill>
                <a:uFillTx/>
                <a:latin typeface="Verdana"/>
                <a:ea typeface="宋体"/>
              </a:rPr>
              <a:t>Second Page</a:t>
            </a:r>
            <a:endParaRPr b="0" lang="en-US" sz="4000" spc="-1" strike="noStrike">
              <a:solidFill>
                <a:srgbClr val="000000"/>
              </a:solidFill>
              <a:latin typeface="Arial"/>
            </a:endParaRPr>
          </a:p>
        </p:txBody>
      </p:sp>
      <p:sp>
        <p:nvSpPr>
          <p:cNvPr id="84" name="Text Box 3"/>
          <p:cNvSpPr/>
          <p:nvPr/>
        </p:nvSpPr>
        <p:spPr>
          <a:xfrm>
            <a:off x="2627280" y="1628640"/>
            <a:ext cx="6265800" cy="3600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09T07:07:08Z</dcterms:modified>
  <cp:revision>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