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C625-EA7D-439F-A4F5-B28FECFBE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A2F-6BBB-466C-9168-7259C2E39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6EA2-F208-415A-A9E9-44DA0EA22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473E-9B1E-41B1-94DE-311CC10951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7068-4E76-4418-8B65-79363EC63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41A-77BE-41E9-B878-4021943CF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15FF6-2DCE-41C8-B49D-B1019107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DC53D4-5AEB-4EA3-8C93-7CD6140CD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F37BA-D163-43CF-845E-7F3D7EEC2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A4CD8-3047-402D-9F49-BB4079CF6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E0B79-240D-4BAD-9932-D542FA148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DB27-B632-4BC3-BA3A-565A35823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A9EB8-EC78-499D-AB0F-322A36D3F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9F63A-5B09-4E87-9C5D-399E4CA11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DCB9B-7944-452A-B189-E72C09177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039AB-47E5-4867-88EF-96ABD2B78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372B7-853F-483B-BCC6-EEC807AF2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28F71B-8214-40A4-8B5C-9EE847EFA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603285-3EA5-43D6-96BD-DB5F82F8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D8265-940E-41B6-B10D-26FB4768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20B7A1-AD9F-46D5-94EA-82731F2EC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2010-D30C-4F6F-ADCC-FD62C74EB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1881F-E005-472D-8099-0A75B3B5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0C3CEF-4C9D-4D98-9744-F6F500CDA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D1738-5D97-43EE-B2D2-1ED0C4DCC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9C2C3F-3955-4DED-A33A-C80022CD3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44C782-B512-4BD9-84F9-6021B18E0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120F3-D8D7-42E5-A2B1-2B353549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D8E9C4-2C9D-409B-8E4A-24F309205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505A48-317C-4050-9A3D-7836FE566E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D152-CCE4-45D6-9370-00FF9E8E7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DE33-F68F-4FEE-9F7C-A90CF770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6560-C074-4C66-BB10-CCBE9FECC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35CB-A57B-4E21-8530-C31B12979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CE50-1D24-430D-9E8B-C2AAFF235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CDC4-C95B-43CF-A3B0-C33260347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B14AA-6F32-43A9-96C7-A6F34D29BED2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66833-FEEE-4919-B543-67237FF87BAC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ABCB9-3ECC-46B2-96A9-F28344FB3F0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D8F84B-66A7-4088-AC9D-4FF36E56A69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2" descr="1"/>
          <p:cNvPicPr/>
          <p:nvPr/>
        </p:nvPicPr>
        <p:blipFill>
          <a:blip r:embed="rId1"/>
          <a:stretch/>
        </p:blipFill>
        <p:spPr>
          <a:xfrm>
            <a:off x="1440" y="0"/>
            <a:ext cx="9180720" cy="68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2"/>
          <p:cNvPicPr/>
          <p:nvPr/>
        </p:nvPicPr>
        <p:blipFill>
          <a:blip r:embed="rId1"/>
          <a:stretch/>
        </p:blipFill>
        <p:spPr>
          <a:xfrm>
            <a:off x="1440" y="-19080"/>
            <a:ext cx="918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3"/>
          <p:cNvPicPr/>
          <p:nvPr/>
        </p:nvPicPr>
        <p:blipFill>
          <a:blip r:embed="rId1"/>
          <a:stretch/>
        </p:blipFill>
        <p:spPr>
          <a:xfrm>
            <a:off x="-27000" y="-19080"/>
            <a:ext cx="935208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4"/>
          <p:cNvPicPr/>
          <p:nvPr/>
        </p:nvPicPr>
        <p:blipFill>
          <a:blip r:embed="rId1"/>
          <a:stretch/>
        </p:blipFill>
        <p:spPr>
          <a:xfrm>
            <a:off x="-28440" y="-19080"/>
            <a:ext cx="9208800" cy="69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5"/>
          <p:cNvPicPr/>
          <p:nvPr/>
        </p:nvPicPr>
        <p:blipFill>
          <a:blip r:embed="rId1"/>
          <a:stretch/>
        </p:blipFill>
        <p:spPr>
          <a:xfrm>
            <a:off x="1440" y="-19080"/>
            <a:ext cx="918072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29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0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8T10:31:01Z</dcterms:modified>
  <cp:revision>1</cp:revision>
  <dc:subject/>
  <dc:title>PowerPoint 演示文稿</dc:title>
</cp:coreProperties>
</file>