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001617-AE2B-4C09-8EED-502AFDB5CC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41EC1F-3EEF-4FA2-80B3-99865421F0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3285FB-98CC-4F1D-A338-5E9C0E3136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6B92E4-65F9-400F-82B0-27AE143797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AF9E08-FC6B-487B-87FC-BE63155050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46C11E-43B7-4703-A190-DAF9F239CC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FAC953-1D62-4012-84BE-A3A0AB9230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3D6F00A-256E-413E-976D-A347D02E96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96982B-0521-4C62-81C5-3119ED1BB8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C950AD-F30C-4833-8933-2A2D027E31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77080B-1216-44DD-94B7-D3D7CD9D7E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D4A374-9A8F-4F1C-96A2-D9A8667705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51843D-01E4-4EE4-9DDD-773A5AE1A0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0C4436-15AF-4E93-87EF-A866B0AB42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68DD4E-7A6D-4C14-999E-4B0A93057B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67D607-C479-482F-B1CF-F3211948E9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E6B596-0F6C-4CA8-82D0-1C1606EB61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3DC7F6-239A-4240-9731-84565A26D2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3BE94E-A65F-4300-862C-A9B6A26CB7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765897-80C6-4DF8-BB72-F98EBF7E2C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BF9C361-2743-423B-B184-B156DB1E6E1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1B1D51E-1BBA-44B8-BAE1-FEFB9055235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D1553E-0FE9-4966-97CD-7FAC6498E3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D25697-6228-423A-9DEC-172AFE50C6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A2D280-5FF3-40CE-93C2-C9C49E69CC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B63969-1558-4D5B-A890-A418ABB888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923320-A78A-4CEA-848F-7A8D5A7706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45B519-04E4-4AFF-91FD-8CDE46446B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8E62CF-822A-4732-A998-2AC1E7FDF2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3AE940-5FE0-41B8-82C1-DB5E61FD46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2A022-4E9F-4431-9614-F3A4D2F20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9B14FF-5A74-411F-841D-C77CBD99AA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AAB68DE-959A-4D80-8043-EAB850F40D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A68DC95-2445-47E9-B57A-9308800B518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D2DD2EC-1C9E-41FA-8E5C-FBC7AF7A45F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66E343B-3966-40D1-B6B2-8C7B8355D2A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F8DCE88-8B77-4A21-8C03-1D2C9473140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7A4F468-7BE6-4425-8241-549105DE6E1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F3200F9-90EB-46E7-8904-E807E730AEB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A345955-FD7C-4C1C-994C-1FD21093EB9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3F7000-F435-430B-BAA2-013B80EB9A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1D067-FE47-4028-B208-AD2CAF282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C0A0EA-D1A7-4DB4-9CEE-801AB75852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15B999-3237-4669-ABF7-3F40F1B7EF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C3CE126-C202-4D94-A7D4-2A4D2990868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0296110-A1BE-470E-8CD5-0F9EE3DB334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C0218F4-8CEF-429C-8019-800304AF3C6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13FFFFE-5909-4939-AD41-32CC45CF90B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2E9F99F-6122-48DD-9757-952D15EA971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0BD23EC-AC6F-4049-BCDA-D3BD6117988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B2E000B-E9CF-4BBB-8AA9-A844B08DFCD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BBC0B3E-8018-42BB-84A1-92F22792CEA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F9FC5-D8E2-416B-B761-6A7BBD43E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F25EB68-E9B1-4427-B9E0-A1C5E5A86C9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615133-5104-4B61-9874-D692949EDBD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1E6B99-A282-4107-A961-7B01F314D5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3EF6BE4-69F4-4F18-89F9-590BAA08FC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F04F99A-EC86-48A3-8DEA-325278D2ADA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EB1C791-2F6D-4035-8543-B49D5B6F854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8E5F3C2-D300-4B5B-A89D-B425294E0AE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4CFBD01-703B-45DC-B172-FF9EBF52A91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123EB9D-4742-4BF4-A5FF-2EBFD58EA20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69884BF-23E0-48C1-BEEA-62F0068BF87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CA565-D5A1-4605-AD55-A01CE9605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4939B76-D17C-422B-880D-458138AC8F2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A17830A-02AF-4AD3-99F3-24293CF9D65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CEF18B0-B48D-4AE2-AB3F-C92C337F971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1F7C6F-6BCF-433C-BFE2-E0234A5BEA9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1DB841B-23B9-4617-BB53-06D49CFCAF5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BA5D697-8634-4571-B320-ED79BE31894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35B3973-F72A-4243-98EF-382764B7369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74B92D1-1C75-4354-AEA6-835EB90178A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D5F3CD9-A9FD-40B7-AAD3-6516C557235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90D72-4635-4F5C-BDCC-9F9549B7A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A5949-ECBE-4341-87B2-E5957F492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9A4D4-7AF2-401F-BA62-38816628C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D1817-6EAA-486C-9FCE-74A407350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DC566-597D-4D8E-8590-802CEA7E3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FD77B-563B-4C1D-B41C-660686C10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1634A-ED39-4B8D-85E1-3DE86258EC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9E329-5433-4B36-B903-06BF22BA01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D19D47-9E4B-4125-AEC2-999EB98E9B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6902AF-D414-4342-B09C-189B3397D7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07B5DC-76F7-4F7C-B8DE-1ABA66D60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DABF7B-3372-439C-A2F3-6AA8616BFA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026E79-B9B9-4702-A586-23B8C90108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01DFB-298C-4041-AD88-0CDA6DAC1E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68DF2-1341-4568-A8EA-FCBADFAA5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2D9A0-7B57-4E28-9DCC-0CAAB7CB0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53A8C-B3BD-4311-A292-A47DB1D3D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21E37D-38F2-490E-A775-28781C8EF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988B57-BD8B-4FFD-BCD4-D87E7D824F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6B9864-F616-4277-8412-DFFD0DA0D2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F4120D-D554-4483-8709-B9F7DACC62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A8BD47-26DB-4E7F-A1DB-4D24A01665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37F5CC-CC72-41A7-96BE-2A38E67CD2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B3E12A-FAEF-4DEE-B93B-689ADB0D8B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BFBD5B-97B7-468D-9185-E84B3A131C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4B05B5-FFEC-4495-8B54-131ABEAB18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0C393F-8F35-4594-BD99-3BCF4BE7E9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D70C8D-3207-45F0-9FCF-6D8D849075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C65F35-484E-4392-A66F-E6F4F7A943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754335-F27C-4C73-B8FB-598686255B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95838E-3195-4AC7-B363-45A4B9BF05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2101D8-25F3-4E6C-AB97-C64FCD5FD3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85D9A0-61E9-4BE5-B21B-B281520F86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247063-129A-448F-9132-61FF8096BE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164E08-FD1B-4881-B00B-042F5E61C3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1BD5AB-7EF5-4C23-84A7-4ED71FEF82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6A6A75-8F81-49F6-BD01-4A2B1327CA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60C9C1-546B-4009-A942-6FED0C6860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3B0A93-A54C-4E58-9DAA-C8F3C89C4F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500C61-3871-4211-83C5-0B44DC3D6E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974D6D-1AF7-4E5E-9A49-D36AD63D2F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654FA1-4C96-4638-8CD6-5E4ED3A93C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DD68FC-78A8-4253-B251-C6616B9773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4E73D6-B737-41A7-AC83-2A21EA0471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B7044C-1AE8-417C-9016-1A8C54568E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3E5F47-43C2-4BFB-B17F-AE3797F04A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3EDCF0-1A68-4526-8F0E-9CDFB41714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C9D261-A8B4-4F74-9998-27E8938223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19A0D5-97C2-4ACF-AA65-EAA51F10B7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20CE15-E3E6-4F5A-857E-CE81D88C75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514C46-398C-4400-9B0F-5534A6FA7B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30B372-7306-45C2-B5B4-BFC46C43FF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5F82B2-9762-4AA6-BEB3-A869D10A6B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24F3B5-E35E-4C47-914E-F86CB8F1F4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FE97A1-4EB9-483B-A6EC-7902674390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C25DDF-2CCA-4FAC-B20E-F1B85CE367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062B1CC-4CC7-4312-99D2-1EFFDB60B9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3CFE3C-2E1A-4CC5-BAD0-0ECA97AAED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A6DC76-7FB4-4363-96AD-43496CDE85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806920-01D9-447D-B5C7-7B1D9786ED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832939-B1EA-4529-AD0F-5229F6B94B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3D8B67-DF40-4DA8-B89C-4406E0AC5A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365F3A-FE05-4DF8-AEFB-3A923E0355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3626E1-B660-4D93-A9B3-DC96382728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55BE6A-F007-4932-A947-DF72225B90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FB0C70-7B9A-499F-BBDB-AE3B2B4F6D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38B9A0-404C-4402-9A41-1C4154856C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03FA2E-119F-46F3-B808-10D2552D76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5AF191-7644-4ED4-B42D-DC3F6F22CB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43FFFB-F1BE-4DE5-B51E-F0A97BD8D4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804A77-3AD5-455F-9EFB-72EDC09CA355}"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51000"/>
            <a:ext cx="8458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1" name="PlaceHolder 2"/>
          <p:cNvSpPr>
            <a:spLocks noGrp="1"/>
          </p:cNvSpPr>
          <p:nvPr>
            <p:ph type="body"/>
          </p:nvPr>
        </p:nvSpPr>
        <p:spPr>
          <a:xfrm>
            <a:off x="914400" y="1600200"/>
            <a:ext cx="7315200" cy="4191120"/>
          </a:xfrm>
          <a:prstGeom prst="rect">
            <a:avLst/>
          </a:prstGeom>
          <a:noFill/>
          <a:ln w="0">
            <a:noFill/>
          </a:ln>
        </p:spPr>
        <p:txBody>
          <a:bodyPr lIns="90000" rIns="90000" tIns="46800" bIns="46800" anchor="t">
            <a:normAutofit/>
          </a:bodyPr>
          <a:p>
            <a:pPr marL="343080" indent="-34308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Click to edit the outline text format</a:t>
            </a:r>
            <a:endParaRPr b="0" lang="en-US" sz="3200" spc="-1" strike="noStrike">
              <a:solidFill>
                <a:srgbClr val="ffffff"/>
              </a:solidFill>
              <a:latin typeface="Microsoft Sans Serif"/>
            </a:endParaRPr>
          </a:p>
          <a:p>
            <a:pPr lvl="1" marL="743040" indent="-28584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cond Outline Level</a:t>
            </a:r>
            <a:endParaRPr b="0" lang="en-US" sz="3200" spc="-1" strike="noStrike">
              <a:solidFill>
                <a:srgbClr val="ffffff"/>
              </a:solidFill>
              <a:latin typeface="Microsoft Sans Serif"/>
            </a:endParaRPr>
          </a:p>
          <a:p>
            <a:pPr lvl="2" marL="11430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Third Outline Level</a:t>
            </a:r>
            <a:endParaRPr b="0" lang="en-US" sz="3200" spc="-1" strike="noStrike">
              <a:solidFill>
                <a:srgbClr val="ffffff"/>
              </a:solidFill>
              <a:latin typeface="Microsoft Sans Serif"/>
            </a:endParaRPr>
          </a:p>
          <a:p>
            <a:pPr lvl="3" marL="16002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ourth Outline Level</a:t>
            </a:r>
            <a:endParaRPr b="0" lang="en-US" sz="3200" spc="-1" strike="noStrike">
              <a:solidFill>
                <a:srgbClr val="ffffff"/>
              </a:solidFill>
              <a:latin typeface="Microsoft Sans Serif"/>
            </a:endParaRPr>
          </a:p>
          <a:p>
            <a:pPr lvl="4" marL="20574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ifth Outline Level</a:t>
            </a:r>
            <a:endParaRPr b="0" lang="en-US" sz="3200" spc="-1" strike="noStrike">
              <a:solidFill>
                <a:srgbClr val="ffffff"/>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ixth Outline Level</a:t>
            </a:r>
            <a:endParaRPr b="0" lang="en-US" sz="3200" spc="-1" strike="noStrike">
              <a:solidFill>
                <a:srgbClr val="ffffff"/>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venth Outline Level</a:t>
            </a:r>
            <a:endParaRPr b="0" lang="en-US" sz="32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FCC42-BAD4-4B98-9313-140226E4CA2A}"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36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67"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AD9D9-0136-492B-9B1C-E1172BA62C5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96DC1-11A2-4900-82F2-DB9CC3EA48A7}"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40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0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074AD-2FFC-41AD-A0F3-C92D80EED52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7"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70021-7302-4E81-B4E7-1C0EAC2F9249}"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448"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49"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9B949-5148-48A6-B955-26085142A86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2892E-BE8D-472E-BD07-1E83C440B142}"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48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90"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665A3-7A30-49C6-AE77-DD0ABE9BE86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ED355-8A27-4D4D-AB7F-0FFA76F87CC7}"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53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53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78E01-C977-4D2B-BB16-6EA6253B901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E01A3-F3A1-4624-93C4-669224B3F6B8}"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53AC8-11F7-4B39-AC34-195BED1F4AB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351000"/>
            <a:ext cx="8458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80" name="PlaceHolder 2"/>
          <p:cNvSpPr>
            <a:spLocks noGrp="1"/>
          </p:cNvSpPr>
          <p:nvPr>
            <p:ph type="body"/>
          </p:nvPr>
        </p:nvSpPr>
        <p:spPr>
          <a:xfrm>
            <a:off x="914400" y="1600200"/>
            <a:ext cx="7315200" cy="4191120"/>
          </a:xfrm>
          <a:prstGeom prst="rect">
            <a:avLst/>
          </a:prstGeom>
          <a:noFill/>
          <a:ln w="0">
            <a:noFill/>
          </a:ln>
        </p:spPr>
        <p:txBody>
          <a:bodyPr lIns="90000" rIns="90000" tIns="46800" bIns="46800" anchor="t">
            <a:normAutofit/>
          </a:bodyPr>
          <a:p>
            <a:pPr marL="343080" indent="-34308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Click to edit the outline text format</a:t>
            </a:r>
            <a:endParaRPr b="0" lang="en-US" sz="3200" spc="-1" strike="noStrike">
              <a:solidFill>
                <a:srgbClr val="ffffff"/>
              </a:solidFill>
              <a:latin typeface="Microsoft Sans Serif"/>
            </a:endParaRPr>
          </a:p>
          <a:p>
            <a:pPr lvl="1" marL="743040" indent="-28584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cond Outline Level</a:t>
            </a:r>
            <a:endParaRPr b="0" lang="en-US" sz="3200" spc="-1" strike="noStrike">
              <a:solidFill>
                <a:srgbClr val="ffffff"/>
              </a:solidFill>
              <a:latin typeface="Microsoft Sans Serif"/>
            </a:endParaRPr>
          </a:p>
          <a:p>
            <a:pPr lvl="2" marL="11430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Third Outline Level</a:t>
            </a:r>
            <a:endParaRPr b="0" lang="en-US" sz="3200" spc="-1" strike="noStrike">
              <a:solidFill>
                <a:srgbClr val="ffffff"/>
              </a:solidFill>
              <a:latin typeface="Microsoft Sans Serif"/>
            </a:endParaRPr>
          </a:p>
          <a:p>
            <a:pPr lvl="3" marL="16002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ourth Outline Level</a:t>
            </a:r>
            <a:endParaRPr b="0" lang="en-US" sz="3200" spc="-1" strike="noStrike">
              <a:solidFill>
                <a:srgbClr val="ffffff"/>
              </a:solidFill>
              <a:latin typeface="Microsoft Sans Serif"/>
            </a:endParaRPr>
          </a:p>
          <a:p>
            <a:pPr lvl="4" marL="20574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ifth Outline Level</a:t>
            </a:r>
            <a:endParaRPr b="0" lang="en-US" sz="3200" spc="-1" strike="noStrike">
              <a:solidFill>
                <a:srgbClr val="ffffff"/>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ixth Outline Level</a:t>
            </a:r>
            <a:endParaRPr b="0" lang="en-US" sz="3200" spc="-1" strike="noStrike">
              <a:solidFill>
                <a:srgbClr val="ffffff"/>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venth Outline Level</a:t>
            </a:r>
            <a:endParaRPr b="0" lang="en-US" sz="32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1A0FF-F086-44D3-B120-DE57B7BA79E9}"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12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2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FA6BF-DC5F-4F11-87A0-5224DDD98A1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BE542-1FA9-4BEB-AAB7-628FD7BC7E82}"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16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6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BD299-B4A2-4BCC-B4D9-458D1ABF1A6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42990-98AB-4612-9912-1EA7506F5A98}"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20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0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EC09C-D618-4B21-9A48-FE4839A9FAA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0B47D-4297-416F-B4A4-CB425F231B7B}"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24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4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E3B00-9B0F-4968-9262-7ECAC420CFC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22073-47A1-4606-892D-F433AA30D6C3}"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28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8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557CF-985F-4840-8BA4-CDD8CFA6B97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ED6E9-E2E8-4EDC-B002-ADCE68C76EDF}"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32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26"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C4619-A179-4670-A91E-D2CCA7E51C2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4.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2285640" y="2438280"/>
            <a:ext cx="426708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Microsoft Sans Serif"/>
              <a:ea typeface="宋体"/>
            </a:endParaRPr>
          </a:p>
        </p:txBody>
      </p:sp>
      <p:sp>
        <p:nvSpPr>
          <p:cNvPr id="569" name="PlaceHolder 2"/>
          <p:cNvSpPr>
            <a:spLocks noGrp="1"/>
          </p:cNvSpPr>
          <p:nvPr>
            <p:ph type="subTitle"/>
          </p:nvPr>
        </p:nvSpPr>
        <p:spPr>
          <a:xfrm>
            <a:off x="2285640" y="3504960"/>
            <a:ext cx="4267080" cy="6858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Microsoft Sans Serif"/>
                <a:ea typeface="宋体"/>
              </a:rPr>
              <a:t>Company name</a:t>
            </a:r>
            <a:endParaRPr b="0" lang="en-US" sz="2400" spc="-1" strike="noStrike">
              <a:solidFill>
                <a:srgbClr val="ffffff"/>
              </a:solidFill>
              <a:latin typeface="Microsoft Sans Serif"/>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icrosoft Sans Serif"/>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304560" y="351000"/>
            <a:ext cx="8458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Microsoft Sans Serif"/>
                <a:ea typeface="宋体"/>
              </a:rPr>
              <a:t>Slide master</a:t>
            </a:r>
            <a:endParaRPr b="0" lang="en-US" sz="4000" spc="-1" strike="noStrike">
              <a:solidFill>
                <a:srgbClr val="ffffff"/>
              </a:solidFill>
              <a:latin typeface="Microsoft Sans Serif"/>
            </a:endParaRPr>
          </a:p>
        </p:txBody>
      </p:sp>
      <p:sp>
        <p:nvSpPr>
          <p:cNvPr id="571" name="PlaceHolder 2"/>
          <p:cNvSpPr>
            <a:spLocks noGrp="1"/>
          </p:cNvSpPr>
          <p:nvPr>
            <p:ph/>
          </p:nvPr>
        </p:nvSpPr>
        <p:spPr>
          <a:xfrm>
            <a:off x="914400" y="1600200"/>
            <a:ext cx="7315200" cy="41911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Gulim"/>
              </a:rPr>
              <a:t>Your Text here</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981080" y="762120"/>
            <a:ext cx="693432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Print master</a:t>
            </a:r>
            <a:endParaRPr b="0" lang="en-US" sz="4000" spc="-1" strike="noStrike">
              <a:solidFill>
                <a:srgbClr val="ffffff"/>
              </a:solidFill>
              <a:latin typeface="Microsoft Sans Serif"/>
            </a:endParaRPr>
          </a:p>
        </p:txBody>
      </p:sp>
      <p:sp>
        <p:nvSpPr>
          <p:cNvPr id="573" name="PlaceHolder 2"/>
          <p:cNvSpPr>
            <a:spLocks noGrp="1"/>
          </p:cNvSpPr>
          <p:nvPr>
            <p:ph/>
          </p:nvPr>
        </p:nvSpPr>
        <p:spPr>
          <a:xfrm>
            <a:off x="1981080" y="1981080"/>
            <a:ext cx="6934320" cy="4267440"/>
          </a:xfrm>
          <a:prstGeom prst="rect">
            <a:avLst/>
          </a:prstGeom>
          <a:noFill/>
          <a:ln w="0">
            <a:noFill/>
          </a:ln>
        </p:spPr>
        <p:txBody>
          <a:bodyPr lIns="90000" rIns="90000" tIns="46800" bIns="46800"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Your Text here</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p:txBody>
      </p:sp>
      <p:sp>
        <p:nvSpPr>
          <p:cNvPr id="574" name=""/>
          <p:cNvSpPr/>
          <p:nvPr/>
        </p:nvSpPr>
        <p:spPr>
          <a:xfrm>
            <a:off x="6661080" y="6237360"/>
            <a:ext cx="2374920" cy="550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ea typeface="黑体"/>
              </a:rPr>
              <a:t> </a:t>
            </a:r>
            <a:r>
              <a:rPr b="1" lang="en-US" sz="1300" spc="-1" strike="noStrike">
                <a:solidFill>
                  <a:srgbClr val="1c1c1c"/>
                </a:solidFill>
                <a:latin typeface="Arial"/>
                <a:ea typeface="黑体"/>
              </a:rPr>
              <a:t>免费</a:t>
            </a:r>
            <a:r>
              <a:rPr b="1" lang="en-US" sz="1300" spc="-1" strike="noStrike">
                <a:solidFill>
                  <a:srgbClr val="1c1c1c"/>
                </a:solidFill>
                <a:latin typeface="Arial"/>
                <a:ea typeface="黑体"/>
              </a:rPr>
              <a:t>PPT</a:t>
            </a:r>
            <a:r>
              <a:rPr b="1" lang="en-US" sz="1300" spc="-1" strike="noStrike">
                <a:solidFill>
                  <a:srgbClr val="1c1c1c"/>
                </a:solidFill>
                <a:latin typeface="Arial"/>
                <a:ea typeface="黑体"/>
              </a:rPr>
              <a:t>模板下载</a:t>
            </a:r>
            <a:endParaRPr b="0" lang="en-US" sz="1300" spc="-1" strike="noStrike">
              <a:solidFill>
                <a:srgbClr val="4d4d4d"/>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1c1c1c"/>
                </a:solidFill>
                <a:latin typeface="Arial"/>
              </a:rPr>
              <a:t>   </a:t>
            </a:r>
            <a:r>
              <a:rPr b="1" i="1" lang="en-US" sz="1400" spc="-1" strike="noStrike">
                <a:solidFill>
                  <a:srgbClr val="1c1c1c"/>
                </a:solidFill>
                <a:latin typeface="Arial"/>
              </a:rPr>
              <a:t> </a:t>
            </a:r>
            <a:r>
              <a:rPr b="1" i="1" lang="zh-CN" sz="1400" spc="-1" strike="noStrike">
                <a:solidFill>
                  <a:srgbClr val="1c1c1c"/>
                </a:solidFill>
                <a:latin typeface="Arial"/>
              </a:rPr>
              <a:t>http://</a:t>
            </a:r>
            <a:r>
              <a:rPr b="1" lang="zh-CN" sz="1400" spc="-1" strike="noStrike">
                <a:solidFill>
                  <a:srgbClr val="1c1c1c"/>
                </a:solidFill>
                <a:latin typeface="华文中宋"/>
                <a:ea typeface="华文中宋"/>
              </a:rPr>
              <a:t>www.eeppt.com</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75" name="Group 2"/>
          <p:cNvGrpSpPr/>
          <p:nvPr/>
        </p:nvGrpSpPr>
        <p:grpSpPr>
          <a:xfrm>
            <a:off x="0" y="0"/>
            <a:ext cx="8466120" cy="6858000"/>
            <a:chOff x="0" y="0"/>
            <a:chExt cx="8466120" cy="6858000"/>
          </a:xfrm>
        </p:grpSpPr>
        <p:sp>
          <p:nvSpPr>
            <p:cNvPr id="576"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欢迎访问</a:t>
              </a:r>
              <a:r>
                <a:rPr b="1" lang="en-US" sz="4000" spc="-1" strike="noStrike">
                  <a:solidFill>
                    <a:srgbClr val="000000"/>
                  </a:solidFill>
                  <a:latin typeface="微软雅黑"/>
                  <a:ea typeface="微软雅黑"/>
                </a:rPr>
                <a:t>PPT</a:t>
              </a:r>
              <a:r>
                <a:rPr b="1" lang="en-US" sz="4000" spc="-1" strike="noStrike">
                  <a:solidFill>
                    <a:srgbClr val="000000"/>
                  </a:solidFill>
                  <a:latin typeface="微软雅黑"/>
                  <a:ea typeface="微软雅黑"/>
                </a:rPr>
                <a:t>之家</a:t>
              </a:r>
              <a:r>
                <a:rPr b="1" lang="en-US" sz="4000" spc="-1" strike="noStrike">
                  <a:solidFill>
                    <a:srgbClr val="000000"/>
                  </a:solidFill>
                  <a:latin typeface="微软雅黑"/>
                  <a:ea typeface="微软雅黑"/>
                </a:rPr>
                <a:t>--- eeppt.com </a:t>
              </a:r>
              <a:endParaRPr b="0" lang="en-US" sz="4000" spc="-1" strike="noStrike">
                <a:solidFill>
                  <a:srgbClr val="4d4d4d"/>
                </a:solidFill>
                <a:latin typeface="Arial"/>
              </a:endParaRPr>
            </a:p>
          </p:txBody>
        </p:sp>
        <p:pic>
          <p:nvPicPr>
            <p:cNvPr id="577"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578"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免费</a:t>
              </a:r>
              <a:r>
                <a:rPr b="1" lang="en-US" sz="3200" spc="-1" strike="noStrike">
                  <a:solidFill>
                    <a:srgbClr val="0070c0"/>
                  </a:solidFill>
                  <a:latin typeface="微软雅黑"/>
                  <a:ea typeface="微软雅黑"/>
                </a:rPr>
                <a:t>ppt</a:t>
              </a:r>
              <a:r>
                <a:rPr b="1" lang="en-US"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en-US"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4d4d4d"/>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8T20:13:27Z</dcterms:created>
  <dc:creator/>
  <dc:description/>
  <dc:language>en-US</dc:language>
  <cp:lastModifiedBy>a</cp:lastModifiedBy>
  <dcterms:modified xsi:type="dcterms:W3CDTF">2015-01-14T08:34:00Z</dcterms:modified>
  <cp:revision>46</cp:revision>
  <dc:subject/>
  <dc:title>ppt.glzy8.com提供海量PPT模板免费下载！</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