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0F89-C878-4B89-BAC2-67BCDC8C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EB83-EB48-40FA-9F56-5DBC1918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800F8-0264-4159-8DBD-B866E7B9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ABA29-4D14-4578-AD3A-D6C0934B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02E62-EB42-4DC5-AF6A-E3BFD739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CA3F6-1A06-4694-ABA8-A1BED66F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5D34A-D32F-49F9-ABBA-2AAF6FD8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0C7A2-C95C-41F9-BBAB-123DFD0F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75AD3-B562-438D-8333-AC31E3D9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8B01F-B8C9-430E-9CEB-5C64AF37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C9FD8-6CA4-4EBE-9894-1E8C3822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72912-D33B-4F99-95AF-D4E81D5D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6DFF-94F2-4A5E-A214-5711DE58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7371B-C3C0-44BE-A390-0CA9AD82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AE2A0-F5CE-4872-BEE3-B5995C23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05A12-EF73-4596-A558-C7EEDE31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8C71E-F64E-4929-83F4-061E6A7D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FB422-9F79-49F5-A489-9BFCC690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3641D-461F-4308-BE90-C5763760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DB005-118D-46F9-8C90-4A946F5F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1C787-859A-4D1E-AA0F-836C7764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1BC65-A631-4BA1-A22B-90564F16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F31B0-A65F-47C5-93C7-F7D1D4B6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5264-909A-44C8-88FF-B0213FA9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C3E28-DCFD-4286-933B-8724B8BE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65A72-40E1-4D5B-9484-B23D05D8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14E5F-96BD-4C3D-8F73-27A447EA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E7FFF-A8D1-49FA-B13B-08440F41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499B2-0061-4D26-B5B3-C4321DFC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567B2-7841-4580-845E-E9BB6D75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5387F-3EF5-4D26-916F-C4974A5D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9F1E3-2CD9-4DF7-947E-92B4183F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1337F-0117-4F7E-B88E-33D78CC5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5C601-2CB9-468C-BB52-5152C2D2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C598-9AF0-41C0-BBF9-F68F4A65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F80EB-9A4D-4B23-9BBF-30CD57EC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88F37-729F-434A-95AD-35B86A2E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BAB0A-A3D6-41BD-8FF0-AA3C4527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EE25E-53F7-42C5-B596-66E8436B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A27A3-84EF-4463-A87D-1EA05CD1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F333D-B633-4D78-8D1F-31CFEFE2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9CBA5-3FBB-48B3-8089-F5949E7C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E56DA-FA94-4EE4-8616-1528BD82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AE913-D8A4-4DB8-8FA2-18AE31A1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38D77-27BB-46D2-9E62-808DB59E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EA33-A6C6-453B-8602-B8749A44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4AC5E-1F80-42B5-AFFE-E371D07B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68F4E-24D0-408D-B004-CD747A17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C754F-4C43-4C36-8683-5541EBDE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D1838-65AE-4CAF-828B-EE1AF742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FB619-8A32-4EA1-AB0E-BD4234F8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982513-7703-4331-9CAB-35139171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F7677-8B4E-431A-9218-1EC16F84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BFB05C-3E57-466D-9AB1-DD0BA4C1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76C410-694C-4F6C-8F3B-D5698BA9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34539C-F074-40E6-BD8F-1167BED6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3D61-B790-41B1-B139-FDEBA5E5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CDF4D3-5040-4D35-A380-7601507A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6436D6-4EE6-4317-91B1-921D2980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FC46BF-EE85-4964-A16A-DF366288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C1F13C-C209-43A4-B396-8D6983D7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A45087-C721-4137-A699-971FFC99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042A99-C9B8-4E5C-BC1B-BD9DE389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A11FA3-DD27-484E-BF08-048DBAB7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4C68C9-802E-46D7-9C14-838458B5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D64533-1354-4EC7-983C-1896FBE9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EE9EA7-9A18-4B8F-A2B3-62BF953E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C617-C15F-4A69-B492-A1552503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F60F12-D158-41DC-8229-2BC08E15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5EA254-5847-40F3-9F7F-C7452020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5326CA-185E-468E-B473-9FC01BE8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CDB034-8E57-463E-AB19-AB71FF15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6D289A-3A27-439A-8F3A-300A076E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24B44A-0B1E-42B5-9A29-A1C5DC48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B6FEC8-8FD6-410D-B6B6-F8F34138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F5C94D-D805-4DB2-BE78-3FF0A11B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E4CD31-B1C9-45FA-8433-00C1AAA7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6336-C08F-4E68-91FE-C5648CCC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A058-E750-49F8-B688-C80935AE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7CFE-E4CC-456C-B097-2697F940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9078-76CF-4BF7-8072-E5961615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1AF8-6EED-4159-9CAE-5598BD3B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3114-BF21-4D4A-BD06-AE28428A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2211-7957-427C-A218-FECA25F0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C94B-8643-4ECA-9126-59F40642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DBDE-1D48-4D84-901A-0EBB4DE0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DE279-F34F-4748-AFBF-EBF1B9FF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C1C79-53DB-4691-8E31-E1C8DCF4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2E816-F248-4856-B37E-9BBB4C7D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4AB32-F209-4AD4-870C-B329B773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FDCDD-8715-4109-8BDF-7AE7367C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4DA0-904A-44BC-8E27-0F51DAEB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150D1-8EC5-48F5-8FC9-2EC84FC1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61FAF-D95B-464B-BAFF-A7E69F78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867C6-4D8B-4A37-9D57-20677FE0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A43DF-9823-4B2C-ABA5-CAE66096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37F1C-BCB0-4997-848F-AD1FBE3E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FE1AF-C6F7-4918-8ACE-AE632B5F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43D8B-CD62-42DA-AD2D-1EAE5484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19625-EE2B-43DF-9885-9BABD0A2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BFA1B-8133-4F7F-BF24-8973AD7A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64AEF-8E95-4064-8678-A001793E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43C8-3DC7-418C-AA66-05BB972F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12289-3CF0-4085-B172-3F0540AE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1953B-B557-4440-8FFE-B8E3561C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6E0C9-A046-4003-9463-353D8778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14C3A-B938-4893-B506-6D3C2771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AF235-6766-4C85-BCF1-E155ED99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B41DE-1B62-4D1E-95C2-174CDFE6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83B54-0D32-4FD7-9295-0EE38FAC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8B2D2-84C1-48A7-8E2A-B29F7D1A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F09F3-8BE9-4FCA-98CD-3BF400A8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0D3F9-85B8-48AC-B55B-1D1A7AFF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7DF-E1FE-46EB-88A3-F7C47F29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BBC89-643A-49A7-A4F5-0AA8B415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3B9E1-E1AE-45F0-AA97-6A12787E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9F17F-292C-478C-A93A-775A615F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0BC6D-1D86-44A5-9D3D-33CFBF86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C8881-38AD-4D81-827B-C4C57FAC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608CE-D0F5-44C6-ABD9-491B31C8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029A6-6FCE-4568-916C-8B76EB8B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C8B4E-A472-4E91-9BD1-42692581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AE411-96C4-4422-AD85-55485565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74138-ABF7-438C-B832-C3BD770F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6190-5321-4A76-91A8-130A82C4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5FA21-0206-4D1B-9BAF-4F6B4154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E4B44-8C59-4D60-872F-BC55097F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2E5D7-79B7-40AD-825E-CCDBF027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63C77-26D1-46D8-A26D-AF49E686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DA20E-2940-4896-90F5-EACD0DB0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51D4E-0CC9-4E57-9C11-394F43E6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350EA-A3D8-4689-86D8-128AC599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9AF31-9CA6-44DF-BD42-E6584BED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31B00-53C5-4DBA-A8BB-5F3D27C5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440CC-0BA0-4BA7-9F8B-92E149D2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5B05-A296-4829-9E53-D410ABCB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B0A06-1EDC-4C77-AE54-431D32F3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968AD-B6D7-4C53-A46D-73FF7B2B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89528-0BEF-44E6-86D2-58EA4778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A2F0C-68F1-48D2-A851-617F2E14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A980E-04BE-4120-9A38-C87E4005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578C6-D289-4EE7-A8E0-A9DFE622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1890F-9B31-4F05-B75A-9DD05A16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9542D-CD44-460F-A4C9-BCA958AA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057A9-73CD-418C-A2D6-11312808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0317D-0848-4B65-8BBF-69884DD4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4AA-3127-4102-9221-BAACAC14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85B08-D2CA-4C6E-9A87-100BCE55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93FA6-9278-4113-A936-59B4877A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091BF-AB36-4814-BBE5-EA61146F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0FEA8-1F5A-4C52-A591-1B5E4FC8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EBCF1-AB4E-456D-A184-E52250F4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87B0A-4A26-4536-8CCF-CBF71C9B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2FA8C-35CF-43E0-911E-535DAC04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A6FE6-E569-4A58-AA65-6AF6ADAA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A1785-06C5-4652-8112-62DC1219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F1F09-5B92-43B0-8FE5-DECA7CDE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5AC0-8433-44CC-A00F-F9373746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A4027-5823-46B5-BB5A-B481759B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7C09A-45FF-4093-A923-6E7EC5CA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E057E-D574-4D01-8FC5-DBEFB165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15B69-E550-4494-A278-9FFB3269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8E1B8-63B8-4461-85D3-6A7E1161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D94CA-D726-4C3B-BC69-8C8865F3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4FA75-3EF0-4A32-82B8-7A2001B8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37993-0051-4F5F-999D-B30C07DA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47DB7-6505-4955-BE59-5E560C38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D385D-FACC-4CE0-B11C-94336C88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6180-34B3-4AB1-BF6C-08FD94C642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0DAA-3857-4626-A3D3-54A3282A3E9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78A0-9123-4007-BF1F-D0CE47A904F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8CE4-32AC-4AD8-97C7-488A597CAA8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104D-BE1D-4A9F-A6C8-AB49BD6EEBF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2DEE-D5D8-46A3-8AEA-148C1125ADB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C07D-0A16-4413-B3D6-DBF6DB814FE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11CD-DDC9-4024-BF41-F015955BE37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8A68-16A9-44A4-83A3-AF3C1D85A73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7832-7A8C-46BF-A843-733D8D5DCDA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B799-898B-4A49-8A3A-7CB834A1804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9E7A-0E00-4DC7-B99E-8FFD341C3B6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C2D0-3752-40FA-88D3-F92D5EFBA33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2E4E-5C2C-402B-9D81-5A5F10CBFC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2FF5-B9DF-4080-B5B2-635995FA84A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295C-2664-4DCE-A0E3-800342F59DC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D3B0-C350-4C5F-817E-C0FF6989876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EA3C-D3F5-411E-8173-C0A4E0CBA23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62F2-193C-451D-9408-0C67E99AB2B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1A19-1E76-4307-8368-F25ED221893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1FF4-DB94-43C8-95AC-270C8C4E35B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CF9C-FFD2-4E50-AA0E-5BFB835CD43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F10C-1BFC-4BD5-9A98-2FF0B3D23A2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FFB1-4530-4E02-910D-4E617F04AE9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F244-186D-4ED1-8441-69C1BD43124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6397-674A-4625-9AC6-CE565DAF8AB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1"/>
          <p:cNvPicPr/>
          <p:nvPr/>
        </p:nvPicPr>
        <p:blipFill>
          <a:blip r:embed="rId1"/>
          <a:stretch/>
        </p:blipFill>
        <p:spPr>
          <a:xfrm>
            <a:off x="7920" y="0"/>
            <a:ext cx="1219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2"/>
          <p:cNvPicPr/>
          <p:nvPr/>
        </p:nvPicPr>
        <p:blipFill>
          <a:blip r:embed="rId1"/>
          <a:stretch/>
        </p:blipFill>
        <p:spPr>
          <a:xfrm>
            <a:off x="7920" y="0"/>
            <a:ext cx="1219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1832040" y="2030400"/>
            <a:ext cx="936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Picture 3" descr="7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82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2T02:16:37Z</dcterms:modified>
  <cp:revision>1</cp:revision>
  <dc:subject/>
  <dc:title>PowerPoint 演示文稿</dc:title>
</cp:coreProperties>
</file>