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CCF8F-4ADA-4A8B-A43D-1BBA50216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58794-DB70-477B-B6B4-C7F0C2B25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0FD00-E99A-4DBE-AA57-B54379171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03828-3130-4E1E-8580-E6981EFD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080CF-C0CC-4F6E-A915-A7BC39E04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220E6-6247-4FDC-B937-D5BB835B7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33F4-22EE-49D1-8063-225791D73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C136F-5444-4B97-BD52-A5F407F2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5296E-5FF3-4250-911F-FF4A37252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B1B29-65D0-4FC9-9F33-2A4C73A9F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55BC5-BBB8-42BA-84A7-8647929F2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95CE4-7ABE-4A4B-8EC5-1D3FD3FA7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g fdgf g ertyr ty"/>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0B0BCB7B-B396-463D-92E5-720CB02C3E82}"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96B7-EB9C-48BD-A880-C9773711FFA0}"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F25C-F162-48A7-8D01-40921EBE1D1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gf dgy utyze r"/>
          <p:cNvPicPr/>
          <p:nvPr/>
        </p:nvPicPr>
        <p:blipFill>
          <a:blip r:embed="rId1"/>
          <a:stretch/>
        </p:blipFill>
        <p:spPr>
          <a:xfrm>
            <a:off x="0" y="0"/>
            <a:ext cx="9144000" cy="6858000"/>
          </a:xfrm>
          <a:prstGeom prst="rect">
            <a:avLst/>
          </a:prstGeom>
          <a:ln w="0">
            <a:noFill/>
          </a:ln>
        </p:spPr>
      </p:pic>
      <p:sp>
        <p:nvSpPr>
          <p:cNvPr id="80" name="Text Box 3"/>
          <p:cNvSpPr/>
          <p:nvPr/>
        </p:nvSpPr>
        <p:spPr>
          <a:xfrm>
            <a:off x="1015560" y="404640"/>
            <a:ext cx="63255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ea typeface="宋体"/>
              </a:rPr>
              <a:t>Name of presentati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52632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971640" y="1197000"/>
            <a:ext cx="756108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240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971640" y="1197000"/>
            <a:ext cx="756108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02T02:33:05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