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6E36-6095-4332-951A-F10221A88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D384-6C94-46DC-8B26-C9F178D7E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E82E-5C78-4120-9B0B-5A627B00E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E60F-0258-417B-869C-3D59D9F85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1C32C-C18D-465F-8B3F-BFF248F43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17CEA-6EC6-4C53-A36B-BF828B0B5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A9101-7EC6-4E3C-BA50-58B470AED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0C146-7C51-4138-9D9D-916885B66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B73F3-63E8-4409-A64B-5DF39B739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774D1-39EE-46D5-AE61-D6ABD749D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BD3C7-EC9F-4FD4-9942-1DC3D0DA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99E4-8607-4ABC-AD90-BF2219F27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56452-E2F3-4A09-BC21-68B65A69D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EF711-4760-46E2-8123-C2A556423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B5763-31EF-4B84-8923-58BAB076D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515C8-C73E-4E2F-B283-3C1E621A6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E68D9-2A65-4EB1-A842-0D9B5E77C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BBEAA-9632-4E04-9203-5671EBE51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CF306-9149-4DBC-82CE-0D48E1A9C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06182-8057-4E64-B5A1-BA829E99D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5AA7D-1CD2-4819-A956-3AB723BB4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7038E-6ADC-4939-8CF9-0B58DD99C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1A3C-A369-44B6-8437-706451BDF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1FE6E-A426-442C-967D-0D44AE6FE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5F657-3E0B-4969-9DBF-48F43D89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930E6-7989-44DB-9BC6-67C04F7E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A99DF-C1AF-41C8-8375-BD7EE9957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87ADE-3987-42B5-A5FF-D2B3DC7DE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31E7C-D1F5-4187-9B03-D118CDD93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22F20-C99B-4224-9BBF-6DB46BEF2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74B17-1FA2-4010-9FAF-91813CA47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D4DAB-FC8E-403C-BF25-72261130D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90F69-2114-47AB-87AB-FAB16FDA7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CA77-C60B-416B-95B9-ACECF143E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B2DD9-857A-42AA-97B3-01A4FD27F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CEA68-8D56-4444-BBD7-CB6D9FF99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CEB02-5D6F-4D9D-8368-7F4677A0C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4608D-ED0E-4A39-AEAC-047D9ED8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3CE4A-6C7F-4BD2-9DD8-D4FDD91A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AF2E2-710E-4D39-B39B-10F13591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5171A-7958-42F5-89A6-DB7CC05AF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D2801-8AE5-4FC3-87BC-B54E41B26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A8B3A-71A8-4163-86CD-14832805A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E5C2-2FDA-4566-9F30-E740C3621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A6A8-2FD6-4B88-9213-896BE931E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A75F-8D22-4422-8E81-8DC4B4B7B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177B-410B-4505-84EB-F6B50158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D05A-AFB1-4304-8B9E-15FBE30E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solidFill>
            <a:srgbClr val="99cc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0983A-5F44-4B1C-A851-C83D0352156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6550200"/>
            <a:ext cx="9144000" cy="342720"/>
          </a:xfrm>
          <a:prstGeom prst="rect">
            <a:avLst/>
          </a:prstGeom>
          <a:solidFill>
            <a:srgbClr val="99cc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73393-4FC6-4C61-9845-7A1D01106E4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BF944-8475-4529-AD10-B112337E91D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93535-F14B-4BA9-A728-4FD84101ED0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44C4B-50D1-450A-9DA8-545C31BF8E1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AutoShape 2"/>
          <p:cNvSpPr/>
          <p:nvPr/>
        </p:nvSpPr>
        <p:spPr>
          <a:xfrm flipV="1">
            <a:off x="0" y="-26280"/>
            <a:ext cx="9180360" cy="6883560"/>
          </a:xfrm>
          <a:prstGeom prst="flowChartPunchedCar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3"/>
          <p:cNvSpPr/>
          <p:nvPr/>
        </p:nvSpPr>
        <p:spPr>
          <a:xfrm>
            <a:off x="0" y="2709720"/>
            <a:ext cx="7236000" cy="4148280"/>
          </a:xfrm>
          <a:prstGeom prst="rtTriangle">
            <a:avLst/>
          </a:prstGeom>
          <a:solidFill>
            <a:srgbClr val="e3f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4"/>
          <p:cNvSpPr/>
          <p:nvPr/>
        </p:nvSpPr>
        <p:spPr>
          <a:xfrm>
            <a:off x="0" y="3086280"/>
            <a:ext cx="6750000" cy="37717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 rot="1740000">
            <a:off x="2758680" y="3638160"/>
            <a:ext cx="347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Arial"/>
                <a:ea typeface="微软雅黑"/>
              </a:rPr>
              <a:t>绿色斜边设计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2"/>
          <p:cNvGrpSpPr/>
          <p:nvPr/>
        </p:nvGrpSpPr>
        <p:grpSpPr>
          <a:xfrm>
            <a:off x="1187280" y="2205000"/>
            <a:ext cx="6635520" cy="2190600"/>
            <a:chOff x="1187280" y="2205000"/>
            <a:chExt cx="6635520" cy="2190600"/>
          </a:xfrm>
        </p:grpSpPr>
        <p:sp>
          <p:nvSpPr>
            <p:cNvPr id="171" name="AutoShape 85"/>
            <p:cNvSpPr/>
            <p:nvPr/>
          </p:nvSpPr>
          <p:spPr>
            <a:xfrm>
              <a:off x="3991680" y="3453840"/>
              <a:ext cx="1095120" cy="941760"/>
            </a:xfrm>
            <a:prstGeom prst="roundRect">
              <a:avLst>
                <a:gd name="adj" fmla="val 8579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utoShape 86"/>
            <p:cNvSpPr/>
            <p:nvPr/>
          </p:nvSpPr>
          <p:spPr>
            <a:xfrm>
              <a:off x="3926160" y="3483360"/>
              <a:ext cx="1248480" cy="364680"/>
            </a:xfrm>
            <a:prstGeom prst="roundRect">
              <a:avLst>
                <a:gd name="adj" fmla="val 20954"/>
              </a:avLst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85"/>
            <p:cNvSpPr/>
            <p:nvPr/>
          </p:nvSpPr>
          <p:spPr>
            <a:xfrm>
              <a:off x="2621160" y="3453840"/>
              <a:ext cx="1110960" cy="941760"/>
            </a:xfrm>
            <a:prstGeom prst="roundRect">
              <a:avLst>
                <a:gd name="adj" fmla="val 8579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86"/>
            <p:cNvSpPr/>
            <p:nvPr/>
          </p:nvSpPr>
          <p:spPr>
            <a:xfrm>
              <a:off x="2586600" y="3485160"/>
              <a:ext cx="1217520" cy="364680"/>
            </a:xfrm>
            <a:prstGeom prst="roundRect">
              <a:avLst>
                <a:gd name="adj" fmla="val 20954"/>
              </a:avLst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AutoShape 85"/>
            <p:cNvSpPr/>
            <p:nvPr/>
          </p:nvSpPr>
          <p:spPr>
            <a:xfrm>
              <a:off x="1277640" y="3453840"/>
              <a:ext cx="1096200" cy="941760"/>
            </a:xfrm>
            <a:prstGeom prst="roundRect">
              <a:avLst>
                <a:gd name="adj" fmla="val 8579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86"/>
            <p:cNvSpPr/>
            <p:nvPr/>
          </p:nvSpPr>
          <p:spPr>
            <a:xfrm>
              <a:off x="1187280" y="3485160"/>
              <a:ext cx="1217880" cy="364680"/>
            </a:xfrm>
            <a:prstGeom prst="roundRect">
              <a:avLst>
                <a:gd name="adj" fmla="val 20954"/>
              </a:avLst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85"/>
            <p:cNvSpPr/>
            <p:nvPr/>
          </p:nvSpPr>
          <p:spPr>
            <a:xfrm>
              <a:off x="6712560" y="3453840"/>
              <a:ext cx="1080360" cy="941760"/>
            </a:xfrm>
            <a:prstGeom prst="roundRect">
              <a:avLst>
                <a:gd name="adj" fmla="val 8579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utoShape 86"/>
            <p:cNvSpPr/>
            <p:nvPr/>
          </p:nvSpPr>
          <p:spPr>
            <a:xfrm>
              <a:off x="6666120" y="3485160"/>
              <a:ext cx="1156680" cy="364680"/>
            </a:xfrm>
            <a:prstGeom prst="roundRect">
              <a:avLst>
                <a:gd name="adj" fmla="val 20954"/>
              </a:avLst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85"/>
            <p:cNvSpPr/>
            <p:nvPr/>
          </p:nvSpPr>
          <p:spPr>
            <a:xfrm>
              <a:off x="5338080" y="3453840"/>
              <a:ext cx="1096560" cy="941760"/>
            </a:xfrm>
            <a:prstGeom prst="roundRect">
              <a:avLst>
                <a:gd name="adj" fmla="val 8579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AutoShape 86"/>
            <p:cNvSpPr/>
            <p:nvPr/>
          </p:nvSpPr>
          <p:spPr>
            <a:xfrm>
              <a:off x="5266080" y="3485160"/>
              <a:ext cx="1278000" cy="364680"/>
            </a:xfrm>
            <a:prstGeom prst="roundRect">
              <a:avLst>
                <a:gd name="adj" fmla="val 20954"/>
              </a:avLst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1" name="직선 화살표 연결선 380"/>
            <p:cNvCxnSpPr>
              <a:stCxn id="171" idx="0"/>
            </p:cNvCxnSpPr>
            <p:nvPr/>
          </p:nvCxnSpPr>
          <p:spPr>
            <a:xfrm flipV="1">
              <a:off x="4536000" y="3072240"/>
              <a:ext cx="3240" cy="37980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</p:cxnSp>
        <p:cxnSp>
          <p:nvCxnSpPr>
            <p:cNvPr id="182" name="직선 화살표 연결선 382"/>
            <p:cNvCxnSpPr/>
            <p:nvPr/>
          </p:nvCxnSpPr>
          <p:spPr>
            <a:xfrm flipV="1">
              <a:off x="3204720" y="2761920"/>
              <a:ext cx="3240" cy="68976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83" name="직선 화살표 연결선 383"/>
            <p:cNvCxnSpPr/>
            <p:nvPr/>
          </p:nvCxnSpPr>
          <p:spPr>
            <a:xfrm flipV="1">
              <a:off x="1846440" y="2761920"/>
              <a:ext cx="3240" cy="68976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84" name="직선 화살표 연결선 384"/>
            <p:cNvCxnSpPr/>
            <p:nvPr/>
          </p:nvCxnSpPr>
          <p:spPr>
            <a:xfrm flipV="1">
              <a:off x="7248240" y="2761920"/>
              <a:ext cx="3240" cy="68976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85" name="직선 화살표 연결선 385"/>
            <p:cNvCxnSpPr/>
            <p:nvPr/>
          </p:nvCxnSpPr>
          <p:spPr>
            <a:xfrm flipV="1">
              <a:off x="5889960" y="2761920"/>
              <a:ext cx="3240" cy="68976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86" name="AutoShape 18"/>
            <p:cNvCxnSpPr/>
            <p:nvPr/>
          </p:nvCxnSpPr>
          <p:spPr>
            <a:xfrm flipV="1">
              <a:off x="1849680" y="2752920"/>
              <a:ext cx="1772640" cy="1872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</p:cxnSp>
        <p:sp>
          <p:nvSpPr>
            <p:cNvPr id="187" name="AutoShape 85"/>
            <p:cNvSpPr/>
            <p:nvPr/>
          </p:nvSpPr>
          <p:spPr>
            <a:xfrm>
              <a:off x="3743640" y="2205000"/>
              <a:ext cx="1643760" cy="852480"/>
            </a:xfrm>
            <a:prstGeom prst="roundRect">
              <a:avLst>
                <a:gd name="adj" fmla="val 8579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86"/>
            <p:cNvSpPr/>
            <p:nvPr/>
          </p:nvSpPr>
          <p:spPr>
            <a:xfrm>
              <a:off x="3682800" y="2205000"/>
              <a:ext cx="1826280" cy="364680"/>
            </a:xfrm>
            <a:prstGeom prst="roundRect">
              <a:avLst>
                <a:gd name="adj" fmla="val 20954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9" name="AutoShape 21"/>
            <p:cNvCxnSpPr/>
            <p:nvPr/>
          </p:nvCxnSpPr>
          <p:spPr>
            <a:xfrm>
              <a:off x="5447880" y="2753280"/>
              <a:ext cx="1803960" cy="104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  <a:headEnd len="med" type="triangle" w="med"/>
            </a:ln>
          </p:spPr>
        </p:cxnSp>
        <p:sp>
          <p:nvSpPr>
            <p:cNvPr id="190" name="Text Box 22"/>
            <p:cNvSpPr/>
            <p:nvPr/>
          </p:nvSpPr>
          <p:spPr>
            <a:xfrm>
              <a:off x="4250880" y="2348640"/>
              <a:ext cx="637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23"/>
            <p:cNvSpPr/>
            <p:nvPr/>
          </p:nvSpPr>
          <p:spPr>
            <a:xfrm>
              <a:off x="6928920" y="3665880"/>
              <a:ext cx="637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24"/>
            <p:cNvSpPr/>
            <p:nvPr/>
          </p:nvSpPr>
          <p:spPr>
            <a:xfrm>
              <a:off x="4215240" y="3665880"/>
              <a:ext cx="637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25"/>
            <p:cNvSpPr/>
            <p:nvPr/>
          </p:nvSpPr>
          <p:spPr>
            <a:xfrm>
              <a:off x="5562720" y="3665880"/>
              <a:ext cx="637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26"/>
            <p:cNvSpPr/>
            <p:nvPr/>
          </p:nvSpPr>
          <p:spPr>
            <a:xfrm>
              <a:off x="2852640" y="3665880"/>
              <a:ext cx="637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27"/>
            <p:cNvSpPr/>
            <p:nvPr/>
          </p:nvSpPr>
          <p:spPr>
            <a:xfrm>
              <a:off x="1501560" y="3665880"/>
              <a:ext cx="637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Group 2"/>
          <p:cNvGrpSpPr/>
          <p:nvPr/>
        </p:nvGrpSpPr>
        <p:grpSpPr>
          <a:xfrm>
            <a:off x="2278080" y="1727280"/>
            <a:ext cx="4935240" cy="4269960"/>
            <a:chOff x="2278080" y="1727280"/>
            <a:chExt cx="4935240" cy="4269960"/>
          </a:xfrm>
        </p:grpSpPr>
        <p:sp>
          <p:nvSpPr>
            <p:cNvPr id="197" name="AutoShape 3"/>
            <p:cNvSpPr/>
            <p:nvPr/>
          </p:nvSpPr>
          <p:spPr>
            <a:xfrm>
              <a:off x="4208760" y="4121640"/>
              <a:ext cx="1503000" cy="1501560"/>
            </a:xfrm>
            <a:prstGeom prst="cube">
              <a:avLst>
                <a:gd name="adj" fmla="val 25000"/>
              </a:avLst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AutoShape 4"/>
            <p:cNvSpPr/>
            <p:nvPr/>
          </p:nvSpPr>
          <p:spPr>
            <a:xfrm>
              <a:off x="3797640" y="4495320"/>
              <a:ext cx="1501560" cy="15019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19444a"/>
                </a:gs>
                <a:gs pos="100000">
                  <a:srgbClr val="3693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INFRA M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sales 1 t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Sales 2 t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Automation t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Network  t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AutoShape 5"/>
            <p:cNvSpPr/>
            <p:nvPr/>
          </p:nvSpPr>
          <p:spPr>
            <a:xfrm>
              <a:off x="2278080" y="3419640"/>
              <a:ext cx="1501560" cy="1501920"/>
            </a:xfrm>
            <a:prstGeom prst="cube">
              <a:avLst>
                <a:gd name="adj" fmla="val 25000"/>
              </a:avLst>
            </a:prstGeom>
            <a:solidFill>
              <a:srgbClr val="cccc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utoShape 6"/>
            <p:cNvSpPr/>
            <p:nvPr/>
          </p:nvSpPr>
          <p:spPr>
            <a:xfrm>
              <a:off x="4208760" y="2993040"/>
              <a:ext cx="1503000" cy="1501920"/>
            </a:xfrm>
            <a:prstGeom prst="cube">
              <a:avLst>
                <a:gd name="adj" fmla="val 25000"/>
              </a:avLst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AutoShape 7"/>
            <p:cNvSpPr/>
            <p:nvPr/>
          </p:nvSpPr>
          <p:spPr>
            <a:xfrm>
              <a:off x="2609280" y="3419640"/>
              <a:ext cx="1503000" cy="15019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3b3b00"/>
                </a:gs>
                <a:gs pos="100000">
                  <a:srgbClr val="808000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Consulting MU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Consulting 1 t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Consulting 2 t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Consulting 3 t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AutoShape 8"/>
            <p:cNvSpPr/>
            <p:nvPr/>
          </p:nvSpPr>
          <p:spPr>
            <a:xfrm>
              <a:off x="3797640" y="3419640"/>
              <a:ext cx="1501560" cy="15019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762f00"/>
                </a:gs>
                <a:gs pos="100000">
                  <a:srgbClr val="ff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R&amp;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eBiz t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Mbiz t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AutoShape 9"/>
            <p:cNvSpPr/>
            <p:nvPr/>
          </p:nvSpPr>
          <p:spPr>
            <a:xfrm>
              <a:off x="5119200" y="3229200"/>
              <a:ext cx="1501560" cy="15019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00475e"/>
                </a:gs>
                <a:gs pos="100000">
                  <a:srgbClr val="0099cc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SI M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Sales 1 t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Sales 2 t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SI System t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SI Develop t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10"/>
            <p:cNvSpPr/>
            <p:nvPr/>
          </p:nvSpPr>
          <p:spPr>
            <a:xfrm>
              <a:off x="5711760" y="3229200"/>
              <a:ext cx="1501560" cy="1501920"/>
            </a:xfrm>
            <a:prstGeom prst="cube">
              <a:avLst>
                <a:gd name="adj" fmla="val 25000"/>
              </a:avLst>
            </a:prstGeom>
            <a:solidFill>
              <a:srgbClr val="99cc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11"/>
            <p:cNvSpPr/>
            <p:nvPr/>
          </p:nvSpPr>
          <p:spPr>
            <a:xfrm>
              <a:off x="3913920" y="2192760"/>
              <a:ext cx="1501560" cy="15019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475e00"/>
                </a:gs>
                <a:gs pos="100000">
                  <a:srgbClr val="99cc00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BSP M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CS t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Biz 1 t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Biz 2 t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Biz 3 t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12"/>
            <p:cNvSpPr/>
            <p:nvPr/>
          </p:nvSpPr>
          <p:spPr>
            <a:xfrm>
              <a:off x="3913920" y="1727280"/>
              <a:ext cx="1501560" cy="1501920"/>
            </a:xfrm>
            <a:prstGeom prst="cube">
              <a:avLst>
                <a:gd name="adj" fmla="val 25000"/>
              </a:avLst>
            </a:prstGeom>
            <a:solidFill>
              <a:srgbClr val="ccff3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0" y="2060640"/>
            <a:ext cx="9144000" cy="2205000"/>
          </a:xfrm>
          <a:prstGeom prst="rect">
            <a:avLst/>
          </a:prstGeom>
          <a:solidFill>
            <a:srgbClr val="99cc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Arial"/>
                <a:ea typeface="微软雅黑"/>
              </a:rPr>
              <a:t>谢谢观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21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3T07:35:17Z</dcterms:created>
  <dc:creator>yellownancy</dc:creator>
  <dc:description/>
  <cp:keywords/>
  <dc:language>en-US</dc:language>
  <cp:lastModifiedBy>a</cp:lastModifiedBy>
  <dcterms:modified xsi:type="dcterms:W3CDTF">2014-08-13T04:22:07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