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2AE-2381-4A05-9658-564F6C6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E07-19A3-48BB-BAF4-EA32C61C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AB3C6-E2F7-4E7E-BA91-44A34DBD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6F884-BA02-4A02-9532-8F8B8C2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B489-9705-4254-A3BA-2FB4BC4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A2BAC-DA22-422C-BF63-4ED5064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E7777-6EC3-4EC5-8A31-BFDFE2D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E4B1C-00F1-44DC-A0C9-EA113EF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EAB26-1769-4E32-8B58-3677332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B6B0D-071B-45E4-8C73-334D780B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3452B-03B8-4B8B-B14D-41678A11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400A1-6AC0-461F-8E18-6D8CB40A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5E1-5FDA-44E2-A97D-0F368211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23D56-8A64-4FFD-9536-3602B42D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B2B9B-44C9-491C-ABAD-2F5BDC9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9DFC9-877C-4F5E-BADE-2A78A10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B3847-58E2-491D-9A8B-D3CE3382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545EB-6FEC-48F5-BD32-9F859AB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1A48B-7CDF-45E9-9469-D461621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14434-8A02-4124-95B9-36C29F3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F6768-C168-40E0-869E-1F5A272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6954E-C9EC-4E56-AE75-D98753F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FA69-7870-4FCD-AE0E-C2B5E145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D6D-59E2-4A26-8E67-17DD9E7B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4451-0729-4D42-A3AE-0115F691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7B8A6-211C-4E1C-900B-ABDBE95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BA5BE-ACDF-421B-BC75-48D4EC0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EAB54-AAB2-4976-BDCE-C6022433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72AA-566E-45D3-B468-36026D4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9F92D-ED50-4EAE-BB1F-633F8C9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8B1E0-7117-4734-AA68-B1E659D3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8CADB-4574-4557-8899-D293260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9BA0F-060D-4BAB-8713-8594C10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99AE5-DD87-44D6-BC9D-119DABB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0DDE-0CCE-430F-B9E8-E579751A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8798-2987-4C8A-A95F-4D1EF088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AB403-CE22-42BB-81CC-EA0E8A43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7E98-3D72-4CAC-969B-249860DA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6EFBA-2838-49EE-B2CB-D20F442E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8D37-6371-4DE6-BCF1-265D695B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4B2B4-0264-4EAE-9E3C-8F76F8D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3FF3A-36DA-426E-A23F-871092C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4A2AA-DE64-486A-B903-3D952569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108F3-627D-4D8B-8D41-9CCDD19A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FA718-2AD1-4E0F-B098-E4D65F1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E99-ACAD-4D96-A703-FAAC2DB2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CE92F-3633-4484-8D51-E67E77D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48D2C-15D2-48C8-8EE9-A7BDACB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87A39-F6CE-4B75-9095-7D168540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BB373-E57A-43F4-BA02-120493A4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EDCE2-F8C5-4A60-8E2E-1ACCE3D3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44E8D-D9F6-42C6-B616-9F84149B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F93D3-9F21-41B1-AFC2-AB7FC31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082BE-6C07-4F02-B168-71A6B5E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CF7F3-35C4-4F9E-985E-6E3A788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30D6F-5330-4170-A497-BD10DE2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2E3-5B55-44A9-8CAC-BEE1433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9F744-FD9C-4C28-BE24-76B6C96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401F1-2FAC-4593-ADD7-336972A5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62E4B-E914-42E9-AA8E-2CBE310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8C1AB-B8F7-40E8-87BC-7FF1418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D6070-0907-4F7D-AEF4-50E5AC1A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E7EE2-D2C2-43EC-8478-3ADC8F28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C759C-74BF-4608-9FFC-1ECBB4C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2CF8-5682-40BB-8D5F-C674EF9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0084-7F2C-4B80-B511-BCC6B5F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4B9A-6055-4149-A6E0-3DA8A3B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17DA-7B32-4954-9876-23DDA9A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129-B9AB-4460-8C89-C49067AA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D83-1E9F-4146-99AF-91046B3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44D-E1F9-45C5-9D32-89E08E1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AAF3-1611-4C0B-9DC5-F4CE549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C75D-4F1E-421C-A534-CC7E637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2B8-FF98-44E9-8260-73DF8C5F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D90B-5EFD-499C-8A8D-490E03DD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33EB-5003-46AF-827D-6BA0796B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5F9F-275C-48BC-8F1F-5A3C196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A5D5-B6BF-4960-B584-E408BECB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7CF6-031E-4045-AC36-1B0C1580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177-8454-4A46-BC40-015587D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8309-66BB-45A0-B36A-29898715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0853-17F0-46C3-A4A5-C18B181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F859-ABDB-47DE-838C-D3AA774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A034-089A-48C1-BF68-898884E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40A6-9176-48DC-9498-C15DE6A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9A5F-EE4E-40CF-88B8-54AA0C2F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8744-1329-4F33-8AC4-178977B9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07B8-376E-439D-88D6-CCF14A00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6FAB-C145-4923-B507-3DD6A10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1984-99E6-4C30-A284-6917E97F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590-3C11-4480-9F6F-F999B0A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7DD8-11A7-4E09-BE72-5F28F76B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7779-DFC2-4E4E-9DE8-92BBA5BE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FEAB-4BA5-459C-82BF-1746E34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EAC4-1A4A-45C1-964D-89FA18C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F38C-4749-421E-A0DC-CE59F665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844A-5461-41CA-AC3A-F22D78B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8762-870F-49E5-B1BE-34E92D27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34F2-79A8-4614-B313-D22DB946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4497-27A7-4491-A4E3-E236A12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56B3-637F-44B8-BA16-8549819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E0B-E48D-4C4A-8EA7-E1260AD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041B-7BEF-489E-812C-F2F0085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439C-417A-44B8-BA03-1F17060F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E9CE-5097-4C2D-9176-533A8C57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B5C8-54AA-4D89-8A90-7BF4E34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0BF7-ECED-4F9E-B477-AFECB18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53AF-EF54-44A1-AD14-EF6778C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D28A-3BE9-463F-84A1-20B1405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FFDE-24EA-43AB-8A8D-D46D867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8D28-2CA1-443E-BCDB-C3DE7624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DF48-B8FA-4557-B31D-6DFE2E58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D73-2953-4D05-B017-00C41BB5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69FE-937C-4D99-80E2-9BF19B0D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C9A9-CEEC-4562-994C-D8440B40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C437-799C-4B5D-8416-A0765B6B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43C0-DD10-4A4C-B8BA-667B91B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123D-26DE-4EC7-9541-A8A66AF5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E154-AA09-43D9-9BB7-34D50D6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7CFCA-7A2F-4EE2-8D38-FE1FFEFC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2A00-674D-4C20-AA55-AD34FBA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C4DDB-809B-45FD-AB6A-B5D09A3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FA74C-06FC-4593-84FF-8670B78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112-91CE-4475-B693-3BD76D9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97DDA-3921-4CF7-8289-3C03AB4A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AB90-6F68-45CF-A957-29AF31C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901B-B095-49AA-8C1A-78197E39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5DD86-8C03-419A-8CD1-629EAC9B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91703-B55C-46D9-96A1-2B45393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A01D-50E4-4ECA-BF3F-B08256C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92CF-9E72-4594-A168-BF4A28C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881A-BF62-4B88-B911-8FC2D90D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2BE3-52B1-4942-B550-B6D1881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BD5B-72F8-419C-8736-0EA88BC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D82-2481-47D0-B7A8-CAB02DC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DD6B-C083-4932-9C9D-826A2D06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4923-9ADE-46EA-B568-FBAA4D5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86F11-E32C-4FE2-BE3D-AF8915B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4DA2-D79B-4E72-B449-E30D84B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1BEB-AEB5-4CC8-BB01-97FC00F4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7377-9A97-46C1-B45F-84C766B6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6975-C0C6-4A7F-9DCF-B4FF5121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07F8-CE09-4F6E-8009-F1DF0031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36EC-4383-452B-B0C8-EBE3A0DA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4AF7-84CA-40CA-8305-B9CFFAAE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53C-4EE6-45EB-BC8B-326DE19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BAB12-E978-4762-9311-7D9B196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99A6-5E46-4D2A-8640-3E98554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0D7F2-EA3E-4BA1-B49B-DCD6D22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D69EC-B9FC-47A8-A948-B1632F4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986F-C82E-4EDA-BE01-C4AC4C0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95919-A30C-48E8-9BFF-D5CB4C3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385F-346E-45D5-A67E-52CEC64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5791F-403D-4C0F-B4C6-ABD021A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280AC-DAE5-47F2-B27D-F99844FD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B128-0332-4C29-BE77-6CF7940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6F8-56EF-4743-98EE-7D1F52007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A31-212F-4666-B37B-8A91C2F7619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8CD-6D18-4D2F-AE05-2F047185C37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8FB-81E0-40E9-9CB1-8A61941F86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1B80-48B1-4C20-B197-558DF3FAA45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5B8-56D2-413F-86F7-BF249D77189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242-EF1C-4155-8B45-547190475A4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5C6-0B9A-41F5-BCF7-328FFA64778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DD9-CD5E-46D6-AAE6-5A146FAD3F4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28E-AF9F-4A4D-A9C7-D970624D0D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46F-319C-444A-98E7-6B61CFDF20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8CC-E070-495C-9CC8-9DF92C2613A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39FF-8F0C-423D-BF95-A8D3E511DA6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0283-24A4-4327-A54C-B2471310F4B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2E6-9C02-4519-B39E-40AC22E3BC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289-BD06-42A2-A671-6BDB35250CF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5DF-4281-401E-9BA8-2DFD739F6E8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E19-EA2C-4A7B-975E-5CF7AAB0354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E85-78ED-4946-A1F6-C444BADF042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67D-EF72-4EE4-83D9-5F2B7948CB5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493-B785-4B91-AA5C-D293E9C247E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D57F-9F6E-47F6-A4F2-9486BC940CB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80D-4A41-422F-9D3D-A67D3C9FB06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DDE-6174-40A4-8560-CF56495DE8F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341-B03E-4840-818B-7C95072BDD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封面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目录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3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3T01:34:31Z</dcterms:modified>
  <cp:revision>1</cp:revision>
  <dc:subject/>
  <dc:title>PowerPoint 演示文稿</dc:title>
</cp:coreProperties>
</file>