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751-D83C-4416-BC67-24464F94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CE3-8E94-4B62-B490-ED69BE7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B9B-9747-4FF2-8F66-C652EA4B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288-F9B6-41C2-A803-2271DC1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AE6-0762-4C27-93AB-A3740D92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C9A6-0C3E-4C33-9579-F9EC974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BE3-30DF-4B89-B038-39CC23C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1F75-AF44-4534-8D08-CADFF2F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2707-7F81-4ECD-A3C7-38F2ADB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13A-CFF0-49F4-863E-FABAD6EB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81B6-8A57-4274-8AC0-196D9C1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51C-0A85-4DBE-AE19-BE7BCA3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BB81-CD86-4C97-A008-85D1A0C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A6E-D7E1-493E-AC18-83958A2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AFCF-4359-4F31-9F56-D516B07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B8A6-3172-4A33-B60B-E126F800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9993-EE8D-419B-A803-C8134F76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4A3-DB21-4A45-9A52-79635D4F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B6F-F981-43F1-99E4-C51EDA57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5E7-0E60-40D7-86CF-4254D6F1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372-13E1-4ED7-83EE-78C2814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FC2-F397-4B26-BC2A-EFCC725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00-F717-4162-A519-4E536004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61E-DC59-46BE-9F78-DB315BA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113-F6F6-4314-BDA7-B4BDC87AB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F19-CAF2-4147-9826-4BE7134F16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5FBF-B513-49FF-9275-9B1F1AE87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allpa2per-594772"/>
          <p:cNvPicPr/>
          <p:nvPr/>
        </p:nvPicPr>
        <p:blipFill>
          <a:blip r:embed="rId1"/>
          <a:stretch/>
        </p:blipFill>
        <p:spPr>
          <a:xfrm>
            <a:off x="0" y="1870200"/>
            <a:ext cx="9145440" cy="377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240" y="2424240"/>
            <a:ext cx="611280" cy="3585960"/>
          </a:xfrm>
          <a:prstGeom prst="rect">
            <a:avLst/>
          </a:prstGeom>
          <a:solidFill>
            <a:srgbClr val="e9c475">
              <a:alpha val="5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22440" y="4827600"/>
            <a:ext cx="8523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25520" y="2424240"/>
            <a:ext cx="8750160" cy="3228840"/>
          </a:xfrm>
          <a:prstGeom prst="rect">
            <a:avLst/>
          </a:prstGeom>
          <a:solidFill>
            <a:srgbClr val="e9c475">
              <a:alpha val="5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54120" y="4829040"/>
            <a:ext cx="85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秋日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5743440"/>
            <a:ext cx="396720" cy="26676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2541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403280" y="1673280"/>
            <a:ext cx="504720" cy="3585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403280" y="285264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403280" y="404172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403280" y="530064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1673280"/>
            <a:ext cx="583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08000" y="285264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08000" y="404172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08000" y="530064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03280" y="285264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436760" y="1636560"/>
            <a:ext cx="4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420920" y="403704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420920" y="529740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32120" y="167940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932120" y="288288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932120" y="406728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908000" y="5295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55640" y="260280"/>
            <a:ext cx="83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此处添加标题—图标示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222720" y="1339920"/>
            <a:ext cx="431640" cy="2089080"/>
          </a:xfrm>
          <a:prstGeom prst="rect">
            <a:avLst/>
          </a:prstGeom>
          <a:gradFill rotWithShape="0">
            <a:gsLst>
              <a:gs pos="0">
                <a:srgbClr val="e8d569"/>
              </a:gs>
              <a:gs pos="100000">
                <a:srgbClr val="6a623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317680" y="3044880"/>
            <a:ext cx="432000" cy="1585800"/>
          </a:xfrm>
          <a:prstGeom prst="rect">
            <a:avLst/>
          </a:prstGeom>
          <a:gradFill rotWithShape="0">
            <a:gsLst>
              <a:gs pos="0">
                <a:srgbClr val="e87d31"/>
              </a:gs>
              <a:gs pos="100000">
                <a:srgbClr val="6a39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54040" y="4438800"/>
            <a:ext cx="432000" cy="1293840"/>
          </a:xfrm>
          <a:prstGeom prst="rect">
            <a:avLst/>
          </a:prstGeom>
          <a:gradFill rotWithShape="0">
            <a:gsLst>
              <a:gs pos="0">
                <a:srgbClr val="b56d3a"/>
              </a:gs>
              <a:gs pos="100000">
                <a:srgbClr val="53321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433520" y="52754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349360" y="417348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22720" y="29718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箭头 182"/>
          <p:cNvSpPr/>
          <p:nvPr/>
        </p:nvSpPr>
        <p:spPr>
          <a:xfrm>
            <a:off x="3654360" y="3427560"/>
            <a:ext cx="3240000" cy="1440"/>
          </a:xfrm>
          <a:prstGeom prst="line">
            <a:avLst/>
          </a:prstGeom>
          <a:ln w="165240">
            <a:solidFill>
              <a:srgbClr val="e8d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箭头 187"/>
          <p:cNvSpPr/>
          <p:nvPr/>
        </p:nvSpPr>
        <p:spPr>
          <a:xfrm>
            <a:off x="2749680" y="4630680"/>
            <a:ext cx="2469960" cy="0"/>
          </a:xfrm>
          <a:prstGeom prst="line">
            <a:avLst/>
          </a:prstGeom>
          <a:ln w="165240">
            <a:solidFill>
              <a:srgbClr val="e87d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箭头 189"/>
          <p:cNvSpPr/>
          <p:nvPr/>
        </p:nvSpPr>
        <p:spPr>
          <a:xfrm>
            <a:off x="1887480" y="5732640"/>
            <a:ext cx="1766880" cy="1440"/>
          </a:xfrm>
          <a:prstGeom prst="line">
            <a:avLst/>
          </a:prstGeom>
          <a:ln w="165240">
            <a:solidFill>
              <a:srgbClr val="b56d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808440" y="55818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6d3a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b56d3a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5383080" y="4425840"/>
            <a:ext cx="9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7d31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e87d31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093080" y="320040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d569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e8d569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23960" y="468360"/>
            <a:ext cx="842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41400" y="285840"/>
            <a:ext cx="82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此处添加标题—文本示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25400" y="1409760"/>
            <a:ext cx="773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36680" y="1409760"/>
            <a:ext cx="78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065240" y="1482840"/>
            <a:ext cx="244440" cy="352440"/>
          </a:xfrm>
          <a:prstGeom prst="rect">
            <a:avLst/>
          </a:prstGeom>
          <a:solidFill>
            <a:srgbClr val="e9c475"/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wallpa2per-594772"/>
          <p:cNvPicPr/>
          <p:nvPr/>
        </p:nvPicPr>
        <p:blipFill>
          <a:blip r:embed="rId1"/>
          <a:stretch/>
        </p:blipFill>
        <p:spPr>
          <a:xfrm>
            <a:off x="3240" y="1917720"/>
            <a:ext cx="9178920" cy="3794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539640" y="2278080"/>
            <a:ext cx="8642520" cy="344016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 flipV="1">
            <a:off x="3240" y="2274480"/>
            <a:ext cx="8744040" cy="343224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816440" y="4221000"/>
            <a:ext cx="3930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7:19:56Z</dcterms:created>
  <dc:creator>Administrator</dc:creator>
  <dc:description/>
  <dc:language>en-US</dc:language>
  <cp:lastModifiedBy>a</cp:lastModifiedBy>
  <dcterms:modified xsi:type="dcterms:W3CDTF">2015-01-14T09:02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