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B2D-F724-4D61-8019-FB6FB3C5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28F-8C8B-4DEE-AC32-2036E12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381-EAD0-44B9-B5A8-43B45ABB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959-F236-4DA9-AF74-F390DD44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747F-83EB-4FB5-9606-6C816A67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4137-A848-49D9-9C7E-FA622B1E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5C53-4082-41F5-8A18-6BF0B47A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12E9-4B3A-45AF-A29E-01829F18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F051-F69C-40C8-8CAE-B166F12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9801-123E-4A1A-BEB2-E3D48684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0950-08E1-4B7F-9960-8BB40FC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228-B8FF-4470-8584-036891F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FFEB-6397-4117-BE3E-C57D4A9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B0E6-8E25-4DAA-B091-6E88A867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FD26-4175-4D48-97BD-8ECA39A1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76B4-B1B6-44D7-AD2F-59B81EB8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ADBA-6390-4AB1-AF7A-5B686D84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A84-0E65-46D7-BF8B-2AC02F11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066-17B1-4CF6-B2B6-A96266A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849-9AC0-422D-84E9-959D399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FA1-3608-4B66-BE09-C18FE2B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310-7BE5-424A-9216-26391410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1B8-715A-4B28-BC73-2AE3AEE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4CE-7097-4D92-9E29-645F4A0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00F-E50C-4FD5-8A6C-527169B82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2CF0-F275-4138-9CCB-788A70A374B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1EC2-953C-487A-A97F-4B6D07774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轻松办公"/>
          <p:cNvPicPr/>
          <p:nvPr/>
        </p:nvPicPr>
        <p:blipFill>
          <a:blip r:embed="rId1"/>
          <a:stretch/>
        </p:blipFill>
        <p:spPr>
          <a:xfrm>
            <a:off x="-30240" y="-19080"/>
            <a:ext cx="91742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内容页"/>
          <p:cNvPicPr/>
          <p:nvPr/>
        </p:nvPicPr>
        <p:blipFill>
          <a:blip r:embed="rId1"/>
          <a:stretch/>
        </p:blipFill>
        <p:spPr>
          <a:xfrm>
            <a:off x="-222120" y="-163440"/>
            <a:ext cx="9366120" cy="7020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285840" y="1557360"/>
            <a:ext cx="414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轻松工作      会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轻松工作      会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轻松工作      会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内容页"/>
          <p:cNvPicPr/>
          <p:nvPr/>
        </p:nvPicPr>
        <p:blipFill>
          <a:blip r:embed="rId1"/>
          <a:stretch/>
        </p:blipFill>
        <p:spPr>
          <a:xfrm>
            <a:off x="-220680" y="-162000"/>
            <a:ext cx="9364680" cy="702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50920" y="2349360"/>
            <a:ext cx="470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One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娱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文字"/>
          <p:cNvPicPr/>
          <p:nvPr/>
        </p:nvPicPr>
        <p:blipFill>
          <a:blip r:embed="rId1"/>
          <a:stretch/>
        </p:blipFill>
        <p:spPr>
          <a:xfrm>
            <a:off x="-220680" y="-162000"/>
            <a:ext cx="9364680" cy="7020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98680" y="1413000"/>
            <a:ext cx="544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文字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------- ------- ------- ------- ------- 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最后页"/>
          <p:cNvPicPr/>
          <p:nvPr/>
        </p:nvPicPr>
        <p:blipFill>
          <a:blip r:embed="rId1"/>
          <a:stretch/>
        </p:blipFill>
        <p:spPr>
          <a:xfrm>
            <a:off x="-220680" y="-162000"/>
            <a:ext cx="9364680" cy="7020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724360" y="3753000"/>
            <a:ext cx="22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汉仪菱心体简"/>
              </a:rPr>
              <a:t>感谢关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6T07:26:50Z</dcterms:modified>
  <cp:revision>1</cp:revision>
  <dc:subject/>
  <dc:title>PowerPoint 演示文稿</dc:title>
</cp:coreProperties>
</file>