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ACB-3484-4CCA-816E-B2B6F402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9C6-B682-4E2B-AD0B-50DEE944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7D5-C2E6-42EF-9578-8A686EF8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1CC-B97C-4C32-9A6A-9C4DA0DA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DCA-722F-4A26-B3C4-683C5EFF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2A44-C529-4DDF-904E-D1AA2CE0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8E7D-15A4-4E53-B3EF-7DAA931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1F28-DE91-4C8D-A677-004CA45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C626-3136-42AB-982D-8595C54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808-F100-4D8C-BA7A-59972F5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D3E9-864E-425B-8F81-0D058DD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063-247F-4B26-BA41-6E1F0E8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99B-93D0-4504-B0D4-2723004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452-1ECD-47A0-AF51-9BBFEC7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0846-B13D-4EC8-8058-FE9BF99D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068F-1204-4B01-84BF-57124ADC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B3F6-203A-435F-8757-47FD33E1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836C-EA88-4165-86CC-83704319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3274-2B42-498D-8939-91DF22B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1048-2250-4115-81C3-2A826FD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4734-71F4-469C-81C3-C00D6119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E4A4-0A9D-4A7C-9ACA-135F39FA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1CA-C148-4F4D-8028-8C66A9DF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B04B-980C-49F7-AB0C-BCEC091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B461-EE47-4354-9D58-7805FEE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BC27-1651-44FC-A4D5-659E688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7500-3041-4706-AECF-63F542D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161F-A6AA-4BBB-B7B1-D02D391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CFF8-A2B6-41E1-9DFF-7161C51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3EAC-5743-4F6D-96EB-09F8D712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8CA-4F83-4CCB-8A0A-412C697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267-B7DD-451F-9D87-6C9AD4D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E5F-6246-416D-84C9-534090E0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991-C41E-4377-B7EA-059DA95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22D-6380-4524-A581-D93D10E7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97F-E162-4A31-8244-69AD188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97BA-019C-49B2-9742-1765C77DBDC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532-E583-4238-A7E6-7A16DC9B99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E2F-ADD0-49B3-80BA-A6D7B22AF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EC5-BF59-4D33-9296-A9E5C1B63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未标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未标题c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未标题的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未标s-1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未标d 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标题-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未标题-1的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在标题-1副本"/>
          <p:cNvPicPr/>
          <p:nvPr/>
        </p:nvPicPr>
        <p:blipFill>
          <a:blip r:embed="rId1"/>
          <a:stretch/>
        </p:blipFill>
        <p:spPr>
          <a:xfrm>
            <a:off x="216000" y="495360"/>
            <a:ext cx="874872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3T04:24:08Z</dcterms:modified>
  <cp:revision>1</cp:revision>
  <dc:subject/>
  <dc:title>PowerPoint 演示文稿</dc:title>
</cp:coreProperties>
</file>