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E47F-609F-4217-B29E-AED55DB6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2116-1EB1-469A-8258-D7869B3F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A770-4D18-4E67-BBC7-CE05A9A14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CD2C-1F4B-46AE-9A17-3B1C0BF51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7AAD-9922-4AC6-83FF-31C2C78F2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846E-C1FD-4C9E-A06A-E63C68E6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2FBF-8459-4ED0-97E9-C27E7EAA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D81A9-5A80-427F-9C6D-3EF6BD2B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BDC9-3DAB-4511-A19A-D122357E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858A-EEA1-41B9-8B77-7FFF71458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99F9-CF39-4053-B337-483742E2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45D2-3E0C-4C8B-B268-0F1A21534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BE3D1-D02E-4F9D-B144-4420CD22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D5A5-59A4-4535-BA78-DEDFE7AB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4937-6482-455A-83FB-260B18DB5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11776-5BAA-488D-AF0E-AFD0E18B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2A6B-1D7E-449F-9E29-09554A74E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BBBCF-CB26-4326-8946-BE325C872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372B-366F-42FE-9588-1DDAD4CE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1CF05-FC84-4389-A135-65982397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54313-05B3-424E-9D06-9701350A8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6758E-18B5-4A25-89DE-0734B367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67BC-8D6C-474F-99A5-7CDA25083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86A32-95B9-4618-AEF3-1F3616C7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C5AA7-FB56-4926-8743-B455524F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02297-B926-460C-818D-296E27A65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A4C34-95A0-4CA5-992B-E5F9DA438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5A769-0893-4FB7-8B37-97AD7FF4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AF19A-020E-4722-8110-C4C19C59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4B3A6-395B-40DD-B1A9-9E48D7CB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4F76-E061-4DD5-8B90-334BD64C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D237-EAF5-4DEC-AB28-C898823D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3898-EEF5-4F2B-A006-8A19B699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018A-9ECA-405B-B7C1-E8157549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2F8D-CA9C-46E4-9698-555317AF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4318-E307-4068-B26B-191214B1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F2FD-BFEA-4357-9E83-01F5811241F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8673-2D20-438D-8938-F4F37EC4CDB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A626-0D57-4CB1-8274-91CDCEDAB81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3071-997C-4324-9CCC-87A4A7A1EB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2"/>
          <p:cNvSpPr/>
          <p:nvPr/>
        </p:nvSpPr>
        <p:spPr>
          <a:xfrm>
            <a:off x="15840" y="-15840"/>
            <a:ext cx="9128160" cy="68752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5641560" y="5079960"/>
            <a:ext cx="3377160" cy="17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《礼记》 云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“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礼者所以定亲疏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决嫌疑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别同异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明是非也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又云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“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亲亲之杀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尊贤之等</a:t>
            </a: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简魏碑"/>
              </a:rPr>
              <a:t>礼所生也。”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20520" y="-15840"/>
            <a:ext cx="9128160" cy="488628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5"/>
          <p:cNvSpPr/>
          <p:nvPr/>
        </p:nvSpPr>
        <p:spPr>
          <a:xfrm>
            <a:off x="20520" y="-15840"/>
            <a:ext cx="9128160" cy="4730760"/>
          </a:xfrm>
          <a:prstGeom prst="flowChartProcess">
            <a:avLst/>
          </a:prstGeom>
          <a:solidFill>
            <a:srgbClr val="ff9b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160640" y="2363760"/>
            <a:ext cx="6840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礼仪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是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道德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的规范，完备了礼仪，就纯粹了道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2817720" y="1541520"/>
            <a:ext cx="3527640" cy="82512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企业文化礼仪培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"/>
          <p:cNvSpPr/>
          <p:nvPr/>
        </p:nvSpPr>
        <p:spPr>
          <a:xfrm>
            <a:off x="15840" y="-15840"/>
            <a:ext cx="9128160" cy="6875280"/>
          </a:xfrm>
          <a:prstGeom prst="flowChartProcess">
            <a:avLst/>
          </a:prstGeom>
          <a:solidFill>
            <a:srgbClr val="eaeae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4140360" y="836640"/>
            <a:ext cx="165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目     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/>
          <p:cNvSpPr/>
          <p:nvPr/>
        </p:nvSpPr>
        <p:spPr>
          <a:xfrm>
            <a:off x="3924360" y="2055960"/>
            <a:ext cx="4898880" cy="32688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5"/>
          <p:cNvSpPr/>
          <p:nvPr/>
        </p:nvSpPr>
        <p:spPr>
          <a:xfrm>
            <a:off x="3924360" y="2490840"/>
            <a:ext cx="4898880" cy="3254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3924360" y="3605040"/>
            <a:ext cx="4898880" cy="3272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7"/>
          <p:cNvSpPr/>
          <p:nvPr/>
        </p:nvSpPr>
        <p:spPr>
          <a:xfrm>
            <a:off x="3922560" y="4032360"/>
            <a:ext cx="4899240" cy="3254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8"/>
          <p:cNvSpPr/>
          <p:nvPr/>
        </p:nvSpPr>
        <p:spPr>
          <a:xfrm>
            <a:off x="3924360" y="4460760"/>
            <a:ext cx="4898880" cy="327240"/>
          </a:xfrm>
          <a:prstGeom prst="flowChartProcess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4140360" y="198900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意义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4140360" y="351648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功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140360" y="240048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类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4140360" y="439092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工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4140360" y="3927600"/>
            <a:ext cx="28080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礼仪的养成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4140360" y="2844720"/>
            <a:ext cx="2808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交际礼仪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礼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活礼仪    节庆礼仪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5"/>
          <p:cNvSpPr/>
          <p:nvPr/>
        </p:nvSpPr>
        <p:spPr>
          <a:xfrm>
            <a:off x="3638520" y="1773360"/>
            <a:ext cx="5523120" cy="0"/>
          </a:xfrm>
          <a:prstGeom prst="line">
            <a:avLst/>
          </a:prstGeom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16"/>
          <p:cNvSpPr/>
          <p:nvPr/>
        </p:nvSpPr>
        <p:spPr>
          <a:xfrm>
            <a:off x="15840" y="-15840"/>
            <a:ext cx="3622680" cy="6875280"/>
          </a:xfrm>
          <a:prstGeom prst="flowChartProcess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7"/>
          <p:cNvSpPr/>
          <p:nvPr/>
        </p:nvSpPr>
        <p:spPr>
          <a:xfrm>
            <a:off x="324000" y="1989000"/>
            <a:ext cx="28080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企业礼仪是指企业员工关于企业礼仪的观念及其行为方式的总和，也是日常例行事物的一种固定模式，如处理公共关系的方式、信息沟通关系、仪式和典礼等就是企业礼仪的具体表现。它表征着企业的价值观和道德要求，塑造着企业形象，使员工在礼仪文化的氛围中受到熏陶，自觉的调整个人行为，增强为企业目标献身的群体意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8" descr="63fa6322_16c0_4026_b6a1_06cd7c323ddd"/>
          <p:cNvPicPr/>
          <p:nvPr/>
        </p:nvPicPr>
        <p:blipFill>
          <a:blip r:embed="rId1"/>
          <a:stretch/>
        </p:blipFill>
        <p:spPr>
          <a:xfrm>
            <a:off x="411120" y="206064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1111"/>
          <p:cNvPicPr/>
          <p:nvPr/>
        </p:nvPicPr>
        <p:blipFill>
          <a:blip r:embed="rId1"/>
          <a:stretch/>
        </p:blipFill>
        <p:spPr>
          <a:xfrm>
            <a:off x="15840" y="-1764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3203640" y="2492280"/>
            <a:ext cx="3095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企业礼仪的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222"/>
          <p:cNvPicPr/>
          <p:nvPr/>
        </p:nvPicPr>
        <p:blipFill>
          <a:blip r:embed="rId1"/>
          <a:stretch/>
        </p:blipFill>
        <p:spPr>
          <a:xfrm>
            <a:off x="15840" y="-1764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739800" y="577800"/>
            <a:ext cx="3146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企业礼仪的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69800" y="1557360"/>
            <a:ext cx="8064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企业礼仪是企业的精神风貌。它包括企业的待客礼仪、经营作风、员工风度、环境布置风格以及内部的信息沟通方式等内容。企业礼仪往往形成传统与习俗，体现企业的经营理念。它赋予企业浓厚的人情味，对培育企业精神和塑造企业形象起着潜移默化的作用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当通过养成而成为一种约定俗成时，企业礼仪就成为了企业习俗。企业习俗是指企业员工在长期的共同劳动中形成的习惯做法。这种做法沿袭日久，是全体员工默认的、心里的、自觉遵守的规范，而不是强迫的、书面制度式的规定；是一种“软约束”。摩托罗拉公司有着非常好的员工交流沟通习俗，如总经理座谈会、恳谈会、对话会和业绩报告会，员工可以和公司决策层、经理层等进行直接沟通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111"/>
          <p:cNvPicPr/>
          <p:nvPr/>
        </p:nvPicPr>
        <p:blipFill>
          <a:blip r:embed="rId1"/>
          <a:stretch/>
        </p:blipFill>
        <p:spPr>
          <a:xfrm>
            <a:off x="15840" y="-1764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3203640" y="2492280"/>
            <a:ext cx="309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企业礼仪的类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222"/>
          <p:cNvPicPr/>
          <p:nvPr/>
        </p:nvPicPr>
        <p:blipFill>
          <a:blip r:embed="rId1"/>
          <a:stretch/>
        </p:blipFill>
        <p:spPr>
          <a:xfrm>
            <a:off x="15840" y="-1764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741240" y="692280"/>
            <a:ext cx="779328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交际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企业是一个从事经济活动的主体，作为社会组织，其内部人员之间和与外部群体或个体之间都有着大量的人际交往。因此，交际礼仪就成为传播企业文化、体现企业素质的重要形式。人际交往的礼仪很多，也很繁琐，主要包括介绍和被介绍，称呼与被称呼、交谈用语、座位安排、说话时的姿态、肢体语言、禁忌用语、服饰、互换名片、站姿坐姿、握手与挥手、节日问候等等。就会面来说，就有微笑礼、握手礼、拱手礼、鞠躬礼、颌首礼、招手礼、合掌礼、拥抱礼、注目礼等等的分别。大凡优异的企业在这些基本交际礼仪上都表现得非常出色，体现了公司的文明程度和文化素养，也体现了企业文化的基本型态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5"/>
          <p:cNvSpPr/>
          <p:nvPr/>
        </p:nvSpPr>
        <p:spPr>
          <a:xfrm>
            <a:off x="741240" y="2852640"/>
            <a:ext cx="7793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工作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发生在企业日常经营管理活动，以及商务活动中的常规性的仪式是工作礼仪，如展会、岗前小会、店会、表彰会、职代会、培训会、新闻发布会以及技术、生产、销售合作签约仪式，合资项目签字仪式等。松下幸之助就在日本松下电器株式会社，建立了一种朝会和夕会的企业仪式，即利用每天上下班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分钟的时间，各部门、各单位的员工聚在一起进行宣誓、总结。朝会时，要唱社歌：“为建设新日本同心协力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不断地努力生产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我们为世人提供的商品，犹如涌泉一般。振兴产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振兴产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还要全体朗诵公司精神：“产业报国、光明正大、亲爱精诚、奋斗向上、遵守礼节、顺应同化、感恩图报。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6" descr="63fa6322_16c0_4026_b6a1_06cd7c323ddd"/>
          <p:cNvPicPr/>
          <p:nvPr/>
        </p:nvPicPr>
        <p:blipFill>
          <a:blip r:embed="rId3"/>
          <a:stretch/>
        </p:blipFill>
        <p:spPr>
          <a:xfrm>
            <a:off x="485640" y="2924280"/>
            <a:ext cx="27144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222"/>
          <p:cNvPicPr/>
          <p:nvPr/>
        </p:nvPicPr>
        <p:blipFill>
          <a:blip r:embed="rId1"/>
          <a:stretch/>
        </p:blipFill>
        <p:spPr>
          <a:xfrm>
            <a:off x="15840" y="-1764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757080" y="692280"/>
            <a:ext cx="8062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生活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在工作之余，企业开展的与员工生活直接相关的各种活动就是生活礼仪。包括企业的文体活动、联欢会、讲演会、茶话会等，通过这些活动可以密切员工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可的关系，有利于共同价值观的形成和传播。如在美国玛丽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凯化妆品公司，每逢圣诞节、公司纪念日，总经理都给全体员工寄发贺卡；员工过生日时，总经理寄去贺信，并亲笔写下贺词，然后郑重签名。员工进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、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时，总经理奉送比较贵重的首饰，当员工工作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周年时，将得到一件镶有钻石的昂贵首饰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63fa6322_16c0_4026_b6a1_06cd7c323ddd"/>
          <p:cNvPicPr/>
          <p:nvPr/>
        </p:nvPicPr>
        <p:blipFill>
          <a:blip r:embed="rId2"/>
          <a:stretch/>
        </p:blipFill>
        <p:spPr>
          <a:xfrm>
            <a:off x="469800" y="765000"/>
            <a:ext cx="270000" cy="270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5"/>
          <p:cNvSpPr/>
          <p:nvPr/>
        </p:nvSpPr>
        <p:spPr>
          <a:xfrm>
            <a:off x="757080" y="2852640"/>
            <a:ext cx="80629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节庆礼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　节庆礼仪指那些对企业具有重要意义的纪念活动仪式，主要包括公司的节日庆典和公共节日庆典。比如：公司成立的周年庆典，公司成功开发出重要技术或产品的庆典，公司分公司或子公司成立的庆典，公司重要活动目标达成庆典，新车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司、新生产线投产成功庆典，等等就属于前者。后者主要包括三八妇女节、五一劳动节，国庆节庆典，行业性的节日庆典等等。这些庆典活动，是连接企业与员工，集团与分属企业，企业与社会的重要纽带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63fa6322_16c0_4026_b6a1_06cd7c323ddd"/>
          <p:cNvPicPr/>
          <p:nvPr/>
        </p:nvPicPr>
        <p:blipFill>
          <a:blip r:embed="rId3"/>
          <a:stretch/>
        </p:blipFill>
        <p:spPr>
          <a:xfrm>
            <a:off x="485640" y="2924280"/>
            <a:ext cx="271440" cy="271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661080" y="6237360"/>
            <a:ext cx="23749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黑体"/>
              </a:rPr>
              <a:t> 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zh-CN" sz="13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1c1c1c"/>
                </a:solidFill>
                <a:latin typeface="Arial"/>
              </a:rPr>
              <a:t>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AutoShape 2"/>
          <p:cNvSpPr/>
          <p:nvPr/>
        </p:nvSpPr>
        <p:spPr>
          <a:xfrm>
            <a:off x="15840" y="-15840"/>
            <a:ext cx="9128160" cy="6875280"/>
          </a:xfrm>
          <a:prstGeom prst="flowChartProcess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/>
          <p:cNvSpPr/>
          <p:nvPr/>
        </p:nvSpPr>
        <p:spPr>
          <a:xfrm>
            <a:off x="20520" y="-15840"/>
            <a:ext cx="9128160" cy="4886280"/>
          </a:xfrm>
          <a:prstGeom prst="flowChartProcess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/>
          <p:cNvSpPr/>
          <p:nvPr/>
        </p:nvSpPr>
        <p:spPr>
          <a:xfrm>
            <a:off x="20520" y="-15840"/>
            <a:ext cx="9128160" cy="4730760"/>
          </a:xfrm>
          <a:prstGeom prst="flowChartProcess">
            <a:avLst/>
          </a:prstGeom>
          <a:solidFill>
            <a:srgbClr val="ff9b0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917800" y="1758960"/>
            <a:ext cx="3525840" cy="825120"/>
          </a:xfrm>
          <a:prstGeom prst="rect">
            <a:avLst/>
          </a:prstGeom>
          <a:solidFill>
            <a:srgbClr val="ff9b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7746120" y="5014800"/>
            <a:ext cx="100116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子曰：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"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不知命，无以为君子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不知礼，无以立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不知言，无以知人也。</a:t>
            </a:r>
            <a:r>
              <a:rPr b="0" lang="zh-CN" sz="1200" spc="-1" strike="noStrike">
                <a:solidFill>
                  <a:srgbClr val="000000"/>
                </a:solidFill>
                <a:latin typeface="微软简魏碑"/>
              </a:rPr>
              <a:t>"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7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4T08:34:36Z</dcterms:created>
  <dc:creator>sg</dc:creator>
  <dc:description/>
  <dc:language>en-US</dc:language>
  <cp:lastModifiedBy>a</cp:lastModifiedBy>
  <dcterms:modified xsi:type="dcterms:W3CDTF">2015-01-14T08:34:4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