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45E73-2304-4955-8E39-39110D7F2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8CDF5-1BCB-4AD2-A650-79385764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F0485-5C5F-4E4B-B85E-C96B7289E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F33A-E763-40AC-A74C-CD1717046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399C2-4D99-4C0A-8FD9-897D200CB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426BE-D925-4FE1-B6D5-1C89E0311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8B24-C059-43EF-B4D3-A8F07AD3C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D4C41-E9ED-4F27-90EA-54F833285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CEFDC-774B-4D31-8A7A-5F6A157AA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41A7-11BF-4A0F-AF5C-E242B2D59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510D0-B497-4CA3-9F2F-173FC7994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E4204-C6A8-4193-89C1-E0832D323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FDSF SGFA A"/>
          <p:cNvPicPr/>
          <p:nvPr/>
        </p:nvPicPr>
        <p:blipFill>
          <a:blip r:embed="rId3"/>
          <a:stretch/>
        </p:blipFill>
        <p:spPr>
          <a:xfrm>
            <a:off x="0" y="0"/>
            <a:ext cx="9144000" cy="6858000"/>
          </a:xfrm>
          <a:prstGeom prst="rect">
            <a:avLst/>
          </a:prstGeom>
          <a:ln w="0">
            <a:noFill/>
          </a:ln>
        </p:spPr>
      </p:pic>
      <p:sp>
        <p:nvSpPr>
          <p:cNvPr id="2" name="Text Box 4"/>
          <p:cNvSpPr/>
          <p:nvPr/>
        </p:nvSpPr>
        <p:spPr>
          <a:xfrm>
            <a:off x="761652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327A084E-9809-4770-B534-6D1238617232}"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42F1-CF68-4B6F-B92D-C2356384F73D}"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E1FB-630F-42A1-97CD-0CFA59CAEBD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G DFGFD GZAR"/>
          <p:cNvPicPr/>
          <p:nvPr/>
        </p:nvPicPr>
        <p:blipFill>
          <a:blip r:embed="rId2"/>
          <a:stretch/>
        </p:blipFill>
        <p:spPr>
          <a:xfrm>
            <a:off x="0" y="0"/>
            <a:ext cx="9144000" cy="6858000"/>
          </a:xfrm>
          <a:prstGeom prst="rect">
            <a:avLst/>
          </a:prstGeom>
          <a:ln w="0">
            <a:noFill/>
          </a:ln>
        </p:spPr>
      </p:pic>
      <p:sp>
        <p:nvSpPr>
          <p:cNvPr id="82" name="Text Box 4"/>
          <p:cNvSpPr/>
          <p:nvPr/>
        </p:nvSpPr>
        <p:spPr>
          <a:xfrm>
            <a:off x="3672000" y="2349360"/>
            <a:ext cx="5472000" cy="13352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Name Of Present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9T06:57:04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