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EDCDC-11D0-46DA-90A5-20A671B14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3A943-7606-418E-A0B4-BF65E31A7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5B1A8-BB8D-411A-90F3-048F18B5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FF52C-98D2-4D40-86D9-F77BE41F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C420-695C-4514-820C-F74FB499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05FA0-474F-4E7F-AF5F-DA7372D0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5D6E-9CF5-4B9D-81B1-CBEB3D67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FBEE-5644-4367-9AF7-3D992E8C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6211-33AE-4A5D-A030-CE3770C7C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ACC43-648B-4EAC-80F8-7E729216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AA2B6-F4F4-4A20-BEAA-5ABCC75CB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359A6-C889-42B0-A9F0-2A603E82F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jhg jgh jrt r"/>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A97DD76C-F5F5-4724-941E-CFA97783C3E6}"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139A-737E-4F24-92A1-B423B059B99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A104-FB35-42DC-AD7A-DA5DA1B76EC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sdg dfgdyt"/>
          <p:cNvPicPr/>
          <p:nvPr/>
        </p:nvPicPr>
        <p:blipFill>
          <a:blip r:embed="rId1"/>
          <a:stretch/>
        </p:blipFill>
        <p:spPr>
          <a:xfrm>
            <a:off x="0" y="0"/>
            <a:ext cx="9144000" cy="6858000"/>
          </a:xfrm>
          <a:prstGeom prst="rect">
            <a:avLst/>
          </a:prstGeom>
          <a:ln w="0">
            <a:noFill/>
          </a:ln>
        </p:spPr>
      </p:pic>
      <p:sp>
        <p:nvSpPr>
          <p:cNvPr id="80" name="Text Box 3"/>
          <p:cNvSpPr/>
          <p:nvPr/>
        </p:nvSpPr>
        <p:spPr>
          <a:xfrm>
            <a:off x="5188320" y="2022480"/>
            <a:ext cx="34678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O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50688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1333440" y="1197000"/>
            <a:ext cx="6551640" cy="403236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4684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1333440" y="1197000"/>
            <a:ext cx="6551640" cy="403236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7T02:40:15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