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D0F49A-82E1-4A52-93DF-449DFEB0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E5A0BB-45B4-4878-A7AB-F7F9A931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B1053E-E16D-4FDF-BAA1-BD46EBA1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CE2479-4993-4F3D-8EEB-2B3F1E6C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D0F768-759D-43AD-9D06-8D80CE24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F481B0-8563-44E8-A8AE-B4F981DD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F4A399-E7C9-4BEA-A697-B2435E9B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B8A97A-FE0C-4E1E-BBB4-DC4EC7BA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7F79B5-D4B3-4B89-B705-3FB984B5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ACE607-2FAF-4F45-9BA0-94EF7957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875F18-20A1-43CB-8557-00E0119B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6DDAFE-4260-4D98-9287-39A20850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0E8DA3-2D33-48EF-9EA5-B99A6180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B13AC7-2FD9-4C40-B84D-4D84B28D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772EF2-3C45-477E-9451-21559C72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7338E7-7BB4-468C-B99D-5DD6CE52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2D8AE1-B8BD-4E14-8F33-837FA724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052841-9B27-4BB7-A45C-385888CC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A2F7CF-D761-49B8-84B4-558B02B3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F47127-B0F5-4BC0-9D9F-D5B8E76B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09DE25-AFE6-4F59-8E1A-F11FA2D1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64EBC5-444E-44E4-8C46-EEA9B783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D19737-EB8C-4C6D-B657-77B3F52B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2F1134-ECF7-497D-AA2A-0CADAF01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041971-CDBA-4464-8DA5-2A1F645B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638FA0-5194-4A9D-BE5D-6E1A985D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AB8A1D-5E89-491F-B56B-4D34FD10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981594-E281-4DE7-98B5-B63DE2B9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6B66B3-D701-4874-8B0C-0F689698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7DEC9B-BB42-4B1A-B2B8-5E3B2618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90292-000C-4B94-B150-0E4A3583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66479E-7B91-4692-A676-BACE78B1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022E63-B5F1-43BA-B545-314747CAE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BB738E-4E60-45AD-A5C6-36BBC387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C10688-FA52-4DD8-A892-EE1A75A0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595C50-1E6F-414A-AE3B-7E1D3857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DFDC73-9210-4CAE-AE38-E0A3D421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A5F50E-EE2A-4A5B-86B5-88BE96A9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158BE4-8D9E-414C-839C-30C6242E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D86B24-CC94-4A35-B332-37E18FA3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5955B4-8786-493A-915D-CF7E60F6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12F04-2EC7-417A-B259-5DBD43A7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F1B6FE-78A8-4D12-9751-552B8007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32BB57F-894F-4BE9-9481-8BCD7F4B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07A8C4-DC01-4E65-A7D4-B43F7EBC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AE08C5-55E9-4544-8316-028EAB8B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A7F79B0-93A2-4CA6-B291-6A4D9ECA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96495C-6FD0-4B2C-88D0-1EC601E3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1C2FDE-E279-451C-90AE-25239582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EB40ED-11D5-45E8-AD1B-62F8B08F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B45E67-657C-42A1-ACFF-137CEAC7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80A80B-974C-4012-A811-9F7DD902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F9434-C223-4F87-B71E-22BC01FC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9885F8-11E7-495A-8E91-41610DD9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5FDDE9-691C-46AB-A6E2-A8EB373D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337F6C-AD7A-4381-B7CF-462D03B3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350B47-C120-490E-87AB-F214EE94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9DF4D1-92FE-4D60-BDE2-3C2C5ADA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27903B-AA02-4CDB-A142-E16C5A06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2D520F-0BB5-4D0C-8F82-BC5FF3E0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3BE80E-BE55-4319-9CD1-9A339194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2BBC99-0345-4D36-A675-FC3C7396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1EE45D-2DB5-4922-BA57-1251C70D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0588D-95E4-4972-9B46-D10E3E5C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87E7FD-1810-4A9C-B188-7CB3D61D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58C462-45F6-49F2-A3D3-D83D0989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5F858B-F874-4927-A0D2-7A03D8FB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312A36-7471-491C-85D0-607A4A5F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ECB213-99D9-4615-9122-121C876C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56FF73-99BA-4A45-BCE2-654C6275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B6CF9E-A3A1-460F-AECD-BB7F8937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2E9AEF-0CCC-4FE3-81E4-890A2070D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3301E3-F1BE-486E-B907-B3BDB7BD5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C94F6-28BC-43A5-902F-EEC295BF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3F8E6-44BE-4D84-9D86-4A993E3C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23959-56C7-43D6-A3C2-AD122D93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B0B715-FD25-4F8A-8B73-AF70F210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C307C-E7DB-4925-88A5-22D709CD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3E2FE-F47B-4247-AD5B-C288EC9F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36142-5CE2-4200-A476-2A6B4F0E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34162-15C0-42C7-9144-2777ECCA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7F270-652A-4DB5-BF39-F28DE9C4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7B800-41E1-43AC-A007-0B663AC6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C3C56-73C6-49C9-ADC6-A092045B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1C3F03-F36D-4BD2-A498-6D89BDE3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65018-BF6F-4D7B-813A-BA5E61E3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E19F85-113A-4853-AC9D-313D2609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A7DB5-62C5-48E7-B6FD-69B0A333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30FB8-34C9-4609-9647-1EC19B0E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E3371-A7EF-40E5-A9B0-27157A69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53ACC-0EC2-499A-9C68-E806FD03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9C543E-6424-4658-8A19-E0D7822D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01C37-8C5E-451D-A42C-D49266AD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9D377-C98F-433D-900F-3DD5D998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9DF3F-6397-400E-9E5E-20A2963C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E985C-BCBC-4108-AA21-824ACFFD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DD0FC8-E9B9-404E-80E5-2F7FF661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68EC37-7626-466E-ACDD-83173F0C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E5B0B7-63D0-4B6F-8143-368AE40E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636EFF-9E56-4A62-ACA2-28EA0CC5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509B5A-86AD-49FE-ABCF-2E891A4D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2CF7F2-7E3F-43BB-AA5E-B79B86FF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9D0600-D977-4BD3-A1F3-E0E3177B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5C5D0-8B4A-4584-A4E6-119B6A75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2B27DD-4590-48BB-A69C-B6AFF0824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31C1C-EA2D-4ABD-9EAE-37F56B38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C2BF64-ED76-4253-9A34-BFDEBCF0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4CB70A-1492-4DEC-B2EB-067D30EC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8F468-D0FF-419C-B1BC-8B271B98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83E3C-F681-4EC6-A4B0-0BCEAEF9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7E4E2-C7AF-4683-87A7-31D1B2C7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986217-06FE-4615-A42A-13F212F5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74668-5701-4671-A6C6-18FAE949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0AA86-0FFF-4513-8975-76C3182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200403-EC3D-4739-9630-5BECE62B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0436C3-466C-4256-B41C-92120E9A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0FDE7D-90D0-4004-B62C-7E819C44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072B6-D4B8-4916-9309-C268DCA2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37016F-2592-4254-AC75-D773EB2F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EB84A-20E4-4B20-B1E5-B31B4D8E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D6B04-87CE-4CDE-9C41-4B5B1C8A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5B29D-1711-42C9-A98D-2A2FB529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6DF22F-09D8-4653-86D1-9699C6F8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189DA-42F6-4F13-BD83-19C39C9C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4366A3-D95D-4250-A934-A93DDAFB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C5D306-4A73-4451-9A14-A3C5CF40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581CE2-17A2-494F-8CD5-0DDEF67E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A9013-B8A4-419B-9F49-79CCC522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BC04D7-E212-4949-B382-40E02DE1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F276F8-67CE-4951-9132-8B735F46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7F2220-3B46-493A-9490-72EBCB0D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53CC7D-F25E-4A3C-BA3C-8F3EEAC0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CF9DD8-EFEF-4E04-B4C0-3732240E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C73B70-4E50-4E7A-A1DD-C1D13DFE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174BA-0036-4F30-A8A1-59E4814A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7E064F-C5F5-4530-8A9D-126CB5A5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AFAB31-5959-42F1-82B8-3A833B2D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99C112-0DDD-4317-9349-2F12A4BB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DF09B4-41B2-48B1-9067-1DEA9244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66361-FE9A-4A57-8571-D0806D47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2314D6-FD23-477D-8994-7F863999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E24583-3208-4710-A5AA-658A63E7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943991-EE54-483D-B647-9A32EAF7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D4CD21-E51A-4F4D-83F7-F3CE4ED7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0" y="0"/>
            <a:ext cx="6804000" cy="6858000"/>
          </a:xfrm>
          <a:prstGeom prst="ellipse">
            <a:avLst/>
          </a:prstGeom>
          <a:gradFill rotWithShape="0">
            <a:gsLst>
              <a:gs pos="0">
                <a:srgbClr val="c0c0c0">
                  <a:alpha val="44313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49360"/>
            <a:ext cx="9144000" cy="647640"/>
          </a:xfrm>
          <a:prstGeom prst="rect">
            <a:avLst/>
          </a:prstGeom>
          <a:solidFill>
            <a:srgbClr val="c60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Oval 4"/>
          <p:cNvSpPr/>
          <p:nvPr/>
        </p:nvSpPr>
        <p:spPr>
          <a:xfrm>
            <a:off x="1116000" y="58680"/>
            <a:ext cx="865080" cy="89208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Oval 5"/>
          <p:cNvSpPr/>
          <p:nvPr/>
        </p:nvSpPr>
        <p:spPr>
          <a:xfrm>
            <a:off x="8101080" y="106200"/>
            <a:ext cx="790560" cy="830520"/>
          </a:xfrm>
          <a:prstGeom prst="ellipse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80880" y="653400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1133640" y="79200"/>
            <a:ext cx="828360" cy="854280"/>
            <a:chOff x="1133640" y="79200"/>
            <a:chExt cx="828360" cy="854280"/>
          </a:xfrm>
        </p:grpSpPr>
        <p:pic>
          <p:nvPicPr>
            <p:cNvPr id="8" name="Oval 9" descr="XMAS_1024_2_006"/>
            <p:cNvPicPr/>
            <p:nvPr/>
          </p:nvPicPr>
          <p:blipFill>
            <a:blip r:embed="rId2"/>
            <a:stretch/>
          </p:blipFill>
          <p:spPr>
            <a:xfrm>
              <a:off x="1133640" y="79200"/>
              <a:ext cx="82836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254240" y="201600"/>
              <a:ext cx="5871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Oval 10"/>
          <p:cNvSpPr/>
          <p:nvPr/>
        </p:nvSpPr>
        <p:spPr>
          <a:xfrm>
            <a:off x="179280" y="333360"/>
            <a:ext cx="1152720" cy="122400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Oval 11"/>
          <p:cNvGrpSpPr/>
          <p:nvPr/>
        </p:nvGrpSpPr>
        <p:grpSpPr>
          <a:xfrm>
            <a:off x="189000" y="353880"/>
            <a:ext cx="1127160" cy="1182960"/>
            <a:chOff x="189000" y="353880"/>
            <a:chExt cx="1127160" cy="1182960"/>
          </a:xfrm>
        </p:grpSpPr>
        <p:pic>
          <p:nvPicPr>
            <p:cNvPr id="12" name="Oval 11" descr=""/>
            <p:cNvPicPr/>
            <p:nvPr/>
          </p:nvPicPr>
          <p:blipFill>
            <a:blip r:embed="rId3"/>
            <a:stretch/>
          </p:blipFill>
          <p:spPr>
            <a:xfrm>
              <a:off x="189000" y="353880"/>
              <a:ext cx="112716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355680" y="525600"/>
              <a:ext cx="79848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Oval 12"/>
          <p:cNvGrpSpPr/>
          <p:nvPr/>
        </p:nvGrpSpPr>
        <p:grpSpPr>
          <a:xfrm>
            <a:off x="8120160" y="122400"/>
            <a:ext cx="755640" cy="798480"/>
            <a:chOff x="8120160" y="122400"/>
            <a:chExt cx="755640" cy="798480"/>
          </a:xfrm>
        </p:grpSpPr>
        <p:pic>
          <p:nvPicPr>
            <p:cNvPr id="15" name="Oval 12" descr=""/>
            <p:cNvPicPr/>
            <p:nvPr/>
          </p:nvPicPr>
          <p:blipFill>
            <a:blip r:embed="rId4"/>
            <a:stretch/>
          </p:blipFill>
          <p:spPr>
            <a:xfrm>
              <a:off x="8120160" y="122400"/>
              <a:ext cx="755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" name=""/>
            <p:cNvSpPr/>
            <p:nvPr/>
          </p:nvSpPr>
          <p:spPr>
            <a:xfrm>
              <a:off x="8231040" y="239760"/>
              <a:ext cx="5349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F8BC-5F62-4EE8-AF8B-4E49832F720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C31D-44E2-4B08-B9EF-AD85DC4A80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7659-DDC9-457A-8BED-BAD267E229F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1BFF-314C-4131-BF99-7758AE4347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996E-D46A-49A4-8785-B29355B5CD0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DE98-A918-49E8-B2F5-FBA7071EC29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E755-14E5-44DF-8085-CB87A793FE8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D8A1-4700-4DFD-AE2A-E17BA696E43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95D3-5610-43D2-B8F1-EB2E914F4C8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C562-831A-4909-83E1-626A12E743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2DA4-163A-4A76-BDC7-B5477DBE51B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FA87-2ABB-4B9D-9357-517B7B5E6F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684360" y="1096920"/>
            <a:ext cx="5905440" cy="5761080"/>
          </a:xfrm>
          <a:prstGeom prst="ellipse">
            <a:avLst/>
          </a:prstGeom>
          <a:gradFill rotWithShape="0">
            <a:gsLst>
              <a:gs pos="0">
                <a:srgbClr val="c0c0c0">
                  <a:alpha val="48235"/>
                </a:srgbClr>
              </a:gs>
              <a:gs pos="100000">
                <a:srgbClr val="ffffff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4437000"/>
            <a:ext cx="9144000" cy="1728720"/>
          </a:xfrm>
          <a:prstGeom prst="rect">
            <a:avLst/>
          </a:prstGeom>
          <a:solidFill>
            <a:srgbClr val="c60a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971640" y="1628640"/>
            <a:ext cx="3529080" cy="3672000"/>
          </a:xfrm>
          <a:prstGeom prst="ellipse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>
            <a:off x="1258920" y="260280"/>
            <a:ext cx="934920" cy="936720"/>
          </a:xfrm>
          <a:prstGeom prst="ellipse">
            <a:avLst/>
          </a:prstGeom>
          <a:solidFill>
            <a:srgbClr val="003399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4211640" y="2637000"/>
            <a:ext cx="1224000" cy="1223640"/>
          </a:xfrm>
          <a:prstGeom prst="ellipse">
            <a:avLst/>
          </a:prstGeom>
          <a:solidFill>
            <a:srgbClr val="c60a0a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Oval 10"/>
          <p:cNvGrpSpPr/>
          <p:nvPr/>
        </p:nvGrpSpPr>
        <p:grpSpPr>
          <a:xfrm>
            <a:off x="969840" y="1627200"/>
            <a:ext cx="3492720" cy="3633840"/>
            <a:chOff x="969840" y="1627200"/>
            <a:chExt cx="3492720" cy="3633840"/>
          </a:xfrm>
        </p:grpSpPr>
        <p:pic>
          <p:nvPicPr>
            <p:cNvPr id="100" name="Oval 10" descr=""/>
            <p:cNvPicPr/>
            <p:nvPr/>
          </p:nvPicPr>
          <p:blipFill>
            <a:blip r:embed="rId2"/>
            <a:stretch/>
          </p:blipFill>
          <p:spPr>
            <a:xfrm>
              <a:off x="969840" y="1627200"/>
              <a:ext cx="349272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482840" y="2160720"/>
              <a:ext cx="2468520" cy="25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Oval 11"/>
          <p:cNvGrpSpPr/>
          <p:nvPr/>
        </p:nvGrpSpPr>
        <p:grpSpPr>
          <a:xfrm>
            <a:off x="1274760" y="281160"/>
            <a:ext cx="901800" cy="895320"/>
            <a:chOff x="1274760" y="281160"/>
            <a:chExt cx="901800" cy="895320"/>
          </a:xfrm>
        </p:grpSpPr>
        <p:pic>
          <p:nvPicPr>
            <p:cNvPr id="103" name="Oval 11" descr=""/>
            <p:cNvPicPr/>
            <p:nvPr/>
          </p:nvPicPr>
          <p:blipFill>
            <a:blip r:embed="rId3"/>
            <a:stretch/>
          </p:blipFill>
          <p:spPr>
            <a:xfrm>
              <a:off x="1274760" y="281160"/>
              <a:ext cx="9018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407960" y="409680"/>
              <a:ext cx="63684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2"/>
          <p:cNvSpPr/>
          <p:nvPr/>
        </p:nvSpPr>
        <p:spPr>
          <a:xfrm>
            <a:off x="3855960" y="3500280"/>
            <a:ext cx="1582920" cy="158292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Oval 13"/>
          <p:cNvGrpSpPr/>
          <p:nvPr/>
        </p:nvGrpSpPr>
        <p:grpSpPr>
          <a:xfrm>
            <a:off x="3882960" y="3524400"/>
            <a:ext cx="1530360" cy="1541160"/>
            <a:chOff x="3882960" y="3524400"/>
            <a:chExt cx="1530360" cy="1541160"/>
          </a:xfrm>
        </p:grpSpPr>
        <p:pic>
          <p:nvPicPr>
            <p:cNvPr id="107" name="Oval 13" descr=""/>
            <p:cNvPicPr/>
            <p:nvPr/>
          </p:nvPicPr>
          <p:blipFill>
            <a:blip r:embed="rId4"/>
            <a:stretch/>
          </p:blipFill>
          <p:spPr>
            <a:xfrm>
              <a:off x="3882960" y="3524400"/>
              <a:ext cx="1530360" cy="15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105440" y="3746520"/>
              <a:ext cx="108576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Oval 14"/>
          <p:cNvSpPr/>
          <p:nvPr/>
        </p:nvSpPr>
        <p:spPr>
          <a:xfrm>
            <a:off x="324000" y="1268280"/>
            <a:ext cx="1438200" cy="1511280"/>
          </a:xfrm>
          <a:prstGeom prst="ellipse">
            <a:avLst/>
          </a:prstGeom>
          <a:solidFill>
            <a:srgbClr val="855ada"/>
          </a:solidFill>
          <a:ln w="38160">
            <a:solidFill>
              <a:srgbClr val="ffffff"/>
            </a:solidFill>
            <a:miter/>
          </a:ln>
          <a:effectLst>
            <a:outerShdw dist="89604" dir="2700000" blurRad="0" rotWithShape="0">
              <a:srgbClr val="000000">
                <a:alpha val="1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Oval 15"/>
          <p:cNvGrpSpPr/>
          <p:nvPr/>
        </p:nvGrpSpPr>
        <p:grpSpPr>
          <a:xfrm>
            <a:off x="328680" y="1285920"/>
            <a:ext cx="1420920" cy="1463760"/>
            <a:chOff x="328680" y="1285920"/>
            <a:chExt cx="1420920" cy="1463760"/>
          </a:xfrm>
        </p:grpSpPr>
        <p:pic>
          <p:nvPicPr>
            <p:cNvPr id="111" name="Oval 15" descr=""/>
            <p:cNvPicPr/>
            <p:nvPr/>
          </p:nvPicPr>
          <p:blipFill>
            <a:blip r:embed="rId5"/>
            <a:stretch/>
          </p:blipFill>
          <p:spPr>
            <a:xfrm>
              <a:off x="328680" y="1285920"/>
              <a:ext cx="142092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38200" y="1501920"/>
              <a:ext cx="100332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3c0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5"/>
          </p:nvPr>
        </p:nvSpPr>
        <p:spPr>
          <a:xfrm>
            <a:off x="250920" y="6381360"/>
            <a:ext cx="2209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1485-9BC4-499B-8B93-09495800600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EC70-88C8-4521-9B96-2A02E0EB2AB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BE08-5BFB-4A6B-8F1F-75838BDE1B9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D66B-E97F-409A-B6E9-940C531D86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902D-3326-49F2-8AEC-01C7FFAA58C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D2A4-3030-4A9E-8743-083EBAF1832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3F65-EC7A-4719-8242-8A2E3DF360A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9F62-4C07-4B1F-97D5-90DA757074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1ED7-5DE3-43C2-8E22-53092E6D3314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64F8-C8FF-4ED3-AE5A-D6270409E41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B3C2-6B89-4358-A1AF-8488945912F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21E1-BBE1-4B72-A79C-8D29CBDC71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48000" y="693720"/>
            <a:ext cx="541512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0a0a"/>
              </a:solidFill>
              <a:latin typeface="Arial"/>
              <a:ea typeface="宋体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3638160" y="1774800"/>
            <a:ext cx="510876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50021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081160" y="620640"/>
            <a:ext cx="6019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标题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0280" y="1814040"/>
            <a:ext cx="785988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60a0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33"/>
                </a:solidFill>
                <a:latin typeface="Arial"/>
                <a:ea typeface="宋体"/>
              </a:rPr>
              <a:t>单击此处添加内容</a:t>
            </a:r>
            <a:br>
              <a:rPr sz="2400"/>
            </a:b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8:14:29Z</dcterms:created>
  <dc:creator>FiSh</dc:creator>
  <dc:description/>
  <cp:keywords/>
  <dc:language>en-US</dc:language>
  <cp:lastModifiedBy>a</cp:lastModifiedBy>
  <dcterms:modified xsi:type="dcterms:W3CDTF">2014-07-16T09:00:58Z</dcterms:modified>
  <cp:revision>2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