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93F-6546-4DA6-9F1D-39F0F1B4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440-3C07-4FA4-A94D-EA2500BF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049EB-39DC-40DB-BA5D-B59A64DD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1E565-F33B-4814-BE95-C9612368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8BF49-0470-4481-9AB4-EC47F49E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746A0-6838-4478-8F63-C9FD1C3A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EC51B-94F1-48FA-9433-45EC7641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7F3B1-5E6F-4DD6-A864-5D67EBE5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95F4C-58D0-4A07-BD21-07E1C283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303FC-5D4D-434F-BE35-3BFFA918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884B5-D8BA-4FE1-9A3B-E180737E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8B43C-DE13-45F7-9FEB-A51D14DD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9EF-0897-42F1-A416-FC448209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32DD2-8FDA-4893-9A89-A18C2E78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8226E-D3E1-4B2F-B8A0-BDE9FA4F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9891B-D4A7-4A59-AD20-B1A5233F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C6730-48DD-4DE6-A830-2511A175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6BB59-821F-4AFC-8946-94AB8423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E808D-F7C0-4FD3-94E3-FC9094B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58669-DC17-45DD-8DA0-A869FFBA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B8A72-9978-4CC9-AC1F-AEE051CE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24B03-835D-48EB-B229-E1A83718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20D0E-C414-4331-ABC2-5B51334A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BDA-09B4-45C3-877E-722681F8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41641-425B-4A60-BF3D-22D8434D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6E3A1-E8F6-4BB8-AC31-892A8224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DB3C2-385D-4CCC-A69A-AF7A8749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A4DAE-C0D9-413A-8CDC-1571C7A5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36F74-7A11-412A-A42C-B3108AE0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469FB-85EF-4404-B15B-71D836FF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D8817-10E9-4907-988D-BB018413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58CFE-08EE-434B-B8F5-6E3C8EFB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75FF5-6D15-4FA2-A149-C6AE70F5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5AC16-C0E5-41E0-8C39-7A688C85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AA49-D113-4EC0-9163-6E8A550B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8BFA8-54FD-4C1F-9EE1-BA394663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57D31-3DC5-4FB8-8C69-7850127E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01FD1-6815-4FB7-A197-8962935B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3701C-63D6-4009-8B9B-35D639B3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83DE6-A189-4630-A101-4472FC90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A8B3E-3757-4560-8658-934E621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C32B1-FF2E-4FFA-AB80-190D303C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61F85-5713-40EA-857D-3D9FAD92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C6209-1D4A-486A-A22C-BFB76CA7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89CAF-31CD-428E-979E-43EBDDAD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C8A3-191F-4883-9F1C-8210CA1E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739C7-3CBB-49F2-BB59-D111ED80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1417A-CF74-42A8-A7AE-0B7C12EE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24C68-6907-437F-8040-06D99025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FD8A9-397D-4BD5-9FB6-FD961D0D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7C5A4-B629-4B61-90AB-93188CA1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9EF43-EEC5-400D-A73F-6A918C64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99D6E-9C26-476F-BE85-FD661254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341F5-5073-47ED-A8E4-465AA96A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314CA-8673-41DC-80D0-03715F52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928C8-41E8-434B-A0E8-9B3CF168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4CCA-849F-4450-8F47-3EC50C8B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1A599-CF96-4328-B4F6-E7E17725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09355-758E-4AA8-B120-D8E30B1B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42E51-FD74-49DF-A2AC-05E6C2AA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620F6-7068-4E29-BA87-CCFE2182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057F6-DF7E-47BA-8F49-A0CA21E9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C5B5F-AF26-42A7-894A-77ADE257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12DED-0A29-4EEA-9B74-352DD4B8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C2B3-BCEE-4159-A446-DAE4192A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0F49-21B5-47D4-B578-B4977CF4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95EA-AA17-407E-9A03-4869611A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BEC6-512F-4812-8CC2-BE97BAEE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769-A0F2-44A6-ABC1-D8BAB2C7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0364-CA76-4ADE-8ED7-E35321BF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C8F9-527A-47DC-A3C8-9C0F7915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0AA5-285D-443F-A25D-A7BDA4C8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63F7-97E4-4C4C-A222-CBBCDABC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63C1-FE98-4700-AAE8-F32E4828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7CCA-A82C-41A1-8C07-091A5D9E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241F2-BF7C-48C2-BF69-3C30D4E5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2E73-FD39-4CCC-B3B9-61E33B1E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890E-7791-462B-9F84-305A0C25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AFEF1-764D-456F-8EDC-D1762291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A79-93BF-48A0-B72C-32340CD5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FD9B-199A-47BD-BAFA-F0EE52FE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F527-C467-489A-B91F-21B5DD0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B9B8-61E2-40D3-998B-221212BC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4282C-93A7-4681-AF67-0D820A00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3A3A-A9D0-4F29-821B-E165A61C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7BDDB-1722-4E93-9146-87F8BD50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BF32-0876-4734-85F3-3468995A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84A8-EC95-4092-B801-B9927D11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1A05-125B-45AB-AE49-BA2493E9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89514-9E3E-4034-AC6F-EED2FC23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A55-5DD7-4796-8D71-07A2A925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0B2F-DE72-4AF7-B720-2D018C38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4CC4-3B07-40D6-BD35-3A5131E1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530F7-6547-42DA-92D5-16252637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414F8-E0EE-413E-97EB-7E4166D1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210F3-726E-4CAF-BFEC-04E7692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70448-2DB8-4CEA-BC35-A36D6413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20ECC-D291-4C7E-A5E7-E3E554E0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23D3B-67F2-49EB-888A-F54CC82C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30EA7-EFFB-4ECD-93E9-D3C7C6A0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722DA-F1C1-4229-8C1C-5A85CBBD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908-9F0A-4CC6-B4C6-25FA0FA0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DFF24-2F6B-4DA6-9473-D7E47683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F0192-B434-426E-9DC1-88A206B4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55DDD-F44A-4701-BD71-C6982A05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CAE2B-0DCD-4B8F-88B0-B79C84A1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52A03-4D3E-484B-9A53-933D90B2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D3F54-3E76-4CCB-A7C9-881889E9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80B4D-FA92-4614-A558-37FD50B2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ECA5A-960B-408F-8AA5-3B2EA860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48317-A965-4D94-ACBF-31096982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524AD-6A11-4299-9751-2C905ADD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558-DD1B-4D5D-94FA-C31DB475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C7566-42F0-4E7F-B06E-E6C018D3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53DE0-E1F4-46CF-95D5-49A2DC48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0A4AE-76A5-4F9E-99BF-E8739E72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F115A-9BF0-4B27-96C7-7DE9AFF8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2D02C-563E-4B0E-8678-CE3AEC82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9EE0A-449E-4693-B342-C9B5F133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C27AA-C7AA-4F45-B9E0-1E3E8848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2C786-237D-4AB1-BD14-55986012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0F723-2522-4A12-A444-7A03837C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5FD9F-19EE-447C-85C1-BE8766D7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106-D69A-4AAC-BF03-F7522C1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07A04-327A-4FA5-A6DA-C7EC78A6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0E796-F2F2-4679-80CC-2277186E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9D835-1DED-47B4-AFA1-413DBA23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281B5-44D5-44FA-8231-BD7C2CBB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DA518-CBDA-43AB-8CA0-730166B2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92CB7-A017-4686-AAD8-2C352A52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D4EA1-957C-409C-B026-1CFA5D36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EC0DE-7DA7-442F-83F7-4E6683B6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05739-7D72-4E2A-B2EF-EB25047C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7BA4-345B-45CD-9FBB-3184F80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1B0-4076-4D07-B165-7B04247A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4E00B-155C-4CEA-8FF6-F465F635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D17C1-3E70-4392-8DBC-0671FAC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DC2C9-A0E8-4ADC-B0A5-6CF55A51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60CF3-6CDA-4A0A-B881-35AADE71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AFCEE-99B3-4B36-AF05-51857A56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C6ACB-778F-4633-8251-DF884679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D124C-DC90-4560-81C2-38C4BADA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139A4-7642-4001-8A93-881FDF49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DF4B5-7680-4DB1-97F9-FB563043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2FE59-DF7E-4E36-B713-C3BFB670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53E-3DAC-4F10-B373-FEDDF3CD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00C0A-6A11-4A2F-8BFE-41363C5A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3D37B-07BD-429F-83AD-5771C1CC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CC04B-711C-4D25-BF6E-47FF1C13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26CCB-D714-412C-AFB4-0EE8C18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F5D07-DDA4-4683-B906-8098959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44F35-20D1-485B-8565-9D4E537C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8D0A4-B81A-4688-A3F9-485351EE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4A4F7-C322-440E-94F9-2D5CF12B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179B6-ABD8-4C0D-B1D8-F6DD1CDA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07567-2C85-44CD-84BF-3EFCFF40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30F4-D601-4FCF-A084-7BB833B8FE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22C0-1C2F-4C66-A6E6-0C8B4BB3405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9849-CE64-49C6-B0BD-FC54E0585D6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BEAD-00CC-401A-84EB-58F22C0AA99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25B0-AEC8-4A6C-9D52-21829141FF2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F749-B000-45AC-9974-23C3D5CF30A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E55D-A83E-4D7B-A6DF-17B8A55391E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02CA-F18F-4DA5-8652-2AA143D6D29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9BF5-7C33-4701-900A-DF6A9FF6667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AC91-A46D-42A3-A9B6-567E1F94DA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DB7-8906-4FC4-AD31-19B0191A11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FB8C-5633-410F-8F19-4930E3AAC9C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A0E8-89AB-4B2D-BE49-10ADFF97A9E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DE1E-022A-4CAA-B545-96443F8C162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A564-4321-40B6-AC7A-56F47C21E82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D9EA-B8BE-4371-BE90-F8728C713E7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9DE6-BB3F-47F0-A907-AEA4E5DF625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E403-0A5B-42EA-AB5A-7ACAA9DB4D6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846F-6A07-4C04-AE05-704D66A53F7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52FC-3536-451E-920A-60FBB3D477C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9EA2-686E-49A2-AC96-914B4EC70C1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2164-B382-4245-81A1-F53F0EE3CBE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D4E5-B0FB-4353-AB1C-C5F7A590366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58D8-3922-4F4A-AAC5-1854883A635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39C5-C014-4143-B770-7AFD37D534D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ppt-封面页"/>
          <p:cNvPicPr/>
          <p:nvPr/>
        </p:nvPicPr>
        <p:blipFill>
          <a:blip r:embed="rId1"/>
          <a:stretch/>
        </p:blipFill>
        <p:spPr>
          <a:xfrm>
            <a:off x="31680" y="0"/>
            <a:ext cx="1212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ppt-目录页"/>
          <p:cNvPicPr/>
          <p:nvPr/>
        </p:nvPicPr>
        <p:blipFill>
          <a:blip r:embed="rId1"/>
          <a:stretch/>
        </p:blipFill>
        <p:spPr>
          <a:xfrm>
            <a:off x="31680" y="0"/>
            <a:ext cx="1212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ppt-过渡页"/>
          <p:cNvPicPr/>
          <p:nvPr/>
        </p:nvPicPr>
        <p:blipFill>
          <a:blip r:embed="rId1"/>
          <a:stretch/>
        </p:blipFill>
        <p:spPr>
          <a:xfrm>
            <a:off x="31680" y="0"/>
            <a:ext cx="1212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ppt-内容页"/>
          <p:cNvPicPr/>
          <p:nvPr/>
        </p:nvPicPr>
        <p:blipFill>
          <a:blip r:embed="rId1"/>
          <a:stretch/>
        </p:blipFill>
        <p:spPr>
          <a:xfrm>
            <a:off x="31680" y="0"/>
            <a:ext cx="1212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ppt-结束页"/>
          <p:cNvPicPr/>
          <p:nvPr/>
        </p:nvPicPr>
        <p:blipFill>
          <a:blip r:embed="rId1"/>
          <a:stretch/>
        </p:blipFill>
        <p:spPr>
          <a:xfrm>
            <a:off x="31680" y="0"/>
            <a:ext cx="1212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39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30T04:53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