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312-58BA-4F35-B84A-4C903BE5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147-9C18-47D6-88D2-5F46FDD0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856CF-BF1A-4531-9E70-886535F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0D680-F57F-4BFB-A9D6-6928850B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27EC6-6BAB-4A6F-84CB-EDF4613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D868E-9F26-4615-ABB0-C87EC40B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E880A-BD23-4B47-AE6A-9592250F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A1A71-402D-407D-879F-4CB98C4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4ADE5-7C4B-4AB4-9325-DAA3E6B4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6352F-46A3-46FA-AD5C-196FEEE5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0D054-CEC5-482D-8393-C9E39020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904FE-A3F0-4F48-BA7D-0D8E8C5B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01F-9754-43CB-B535-000690A4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56105-A41F-42E9-ACE6-0D4C8C49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6D4E2-E131-4557-BB5A-A530026D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295EE-7F51-44B3-81BA-2163E593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B8120-977F-46C5-8711-5CF2B7E5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2E8D8-B55D-43C2-BFDF-D2DB02D5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82842-E343-4A9C-82F6-50F8048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573D7-86F9-4343-B253-8D47885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40CD0-032A-470E-9C81-3F6DBBEC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3B247-88BE-4D36-BF83-64742F5E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D54E-5D1E-4586-9AB7-EC03D3A3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FBC-6725-4315-B742-34EA4F7D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31A2A-C663-44F7-A6CD-151BAE91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512F9-22EA-4439-8F9A-00FEA4D4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8548B-9C86-4D81-B60A-206C42B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53674-0AD3-4FA2-9502-5DC03DD7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897B4-E1E0-41C8-8D6B-642745C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EDFE7-929F-4483-A71F-29697689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22F89-FB12-4EAD-B759-FA67151B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FCBAA-C264-458D-BB25-588CF00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FBC4C-D750-4F2D-A56C-5E4E7C7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01382-0263-4270-9DC6-74BAF73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951-3DE1-4E08-B1E3-71A66B71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0D8B9-30FF-4A98-8546-8434669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80F90-39EB-4020-8476-D7849C2E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26307-5E9D-492F-A028-320EDB0A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871E8-65D2-44F1-A454-A4F97848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F3069-81D8-42C9-BF8A-050A65C2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FD151-5EC6-4123-BB93-4F1414E9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26439-930C-4906-9137-CA53E0C6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4A42F-DDC2-43BF-9778-F1280D8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C80D0-604D-4A68-9868-5F9DBFBE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31918-B140-45DB-B40F-BD59F633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E038-0ED3-4743-ACA8-BE1D1780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DCD66-799B-4720-8AB4-CEC2C26B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1C0A5-BE21-4CB9-BB4F-86B0130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F7F56-E416-4156-AE54-50F34171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AD133-009F-4A43-A695-937DCBAC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56F87-6917-4C5E-92EB-259CBB87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E8CAA-F3AB-4D3C-A645-0FFE1BCE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8110C-ADBD-4B94-9968-12DD9ED6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A8C3B-E2CD-4BD6-8B49-C380A54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EA37C-27AF-4699-ACB5-DD52E143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BE4F0-6886-479F-8A16-F389CFF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25CB-EC14-43F5-A95F-787EB438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50249-9351-40BB-8B2A-1F0ABBC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C58FB-5511-4291-A45D-87F7DE9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9E790-BAB0-4D47-BECC-9EE1516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FDA68-9AC8-4D43-AD57-D146997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493E8-0400-4135-B0A0-610EC7C9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CBCB7-00B1-441A-93A1-16A74CE2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E95FF-437E-4320-B72A-E7D9F0A3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03CF-1A76-4985-9881-6FACD9D7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76E0-68DC-48D2-A9F1-0132F08E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E44-893E-4A8C-B87F-66DAB97E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2BD2-D491-4327-8426-1D21D15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2CF-A8C1-408B-A512-3CB6BD2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5DC-0935-48C2-9418-54203AB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25AD-B472-4760-A249-8BA2E8E6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F736-9488-4AEA-A31F-796C72FF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3E45-B572-4DCB-A221-5C54C454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93BE-7729-47D7-9F13-F0E1F5C1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8031-5FDD-4FA9-97EB-69DCC273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6704-A12D-4A6E-A609-2F44B9F4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06A9-0C31-4DFB-A230-B9CBAA26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E5A2-5014-4FCF-B687-E254751E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4BDC-E2E7-413E-947F-F1578855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BCB-062E-4F54-B1F7-BBAA6263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D9B4-9891-4A23-94AB-AD096D1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D07C-3BC2-4ECD-AB04-C66563D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DC71-27B2-497C-BC2C-BBBEDBAE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A38A-5019-4159-BCDB-952EDD59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F183-4FF6-4A7C-AB72-9BF4B0BB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78DE-260F-4E83-BE1C-1DFD8783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F619-2544-4841-96EB-34E43376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C8AD1-9D67-417C-A322-CA0890DF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AF8F-6ECD-4C8E-BB5F-92EF26F7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3E9B-59F0-450C-89B1-E97AB189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67C-C5FE-4426-A0EA-519429FE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E9D0-5CCE-49D8-AD80-5A32AF57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7BD8-DB4D-41FD-9B88-F399B59A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F274F-E732-4AB1-89B1-B6FC569D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C595-0283-4C44-B433-32862C3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334A-7BF4-458D-8E14-BA77D2A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BEC4-5B98-4892-B39B-171D8D7C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D3E1-F38F-461D-BAB0-E0C0649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4C73-F213-414A-84BF-4254D735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47627-7C44-4775-924B-C0667352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0DD4-AFA2-4E94-8217-6E76B987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948-4738-4D8D-82CA-6F146204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2707-8E05-47B8-A642-B155002F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4FD40-0571-4AF8-BFE5-05C9B0BF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D968-412E-46A8-A9B1-70ED663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6C500-2804-4B2F-A148-526C8E7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BA9B-9920-47C4-82B4-2178216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56EA-A917-456E-ACF1-A74E80A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4BAC-D404-45FC-B5C5-71179309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A2EE-1460-41A5-B83E-D93A757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42A1-800A-45CF-B588-AE4F96B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7CC37-F90A-4FA0-8E6C-E26A6618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837-CA5E-46DB-86DB-36429C6A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56DA-BB0C-4147-927B-436EFF05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566AF-6D55-45DE-9FDB-DAD9AC74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7862-B920-4A49-8000-D8D98F73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87237-FBCC-4A8D-A9F7-62802E78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C9EA-E3E4-481D-B285-7F1379F4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C86D8-639F-46A5-AEDF-A7FFE00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AD9B6-5EA2-4B1B-B094-8F02B0F9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85C1-8835-4FE2-9E31-D5B13F4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C5F4-4FE5-41E2-8FF8-F42FCD3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F718-4139-4D20-95B6-84A3AF9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089-A3D6-4DEB-9D2C-82752462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D2AC-D202-4021-8C40-310CFED2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D45F-7806-40B1-AB93-ED27BA01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AA124-60A1-4D28-ACE6-51C783EF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7C327-D327-4C47-A509-A489B7BF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A482-ABCB-402E-8555-C3CAF4C5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CC820-4A31-4293-99F1-AF1676C1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8E3B7-7DEA-4F87-916F-15DD7CA6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BA61-1E61-432B-B509-9DFBA0E8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4DE5-C3B6-4B20-AFB3-C48AE25F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780C6-B1F2-47EE-A11C-BFB45600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F2E-2F18-444C-A8C9-5C678B4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1B6D-CB0E-426F-9D2F-49F3063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73F9-B47B-4420-B690-72852D73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D9077-4AD9-4AB2-AC31-FA60177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0AE66-17D4-4827-A6B9-51FDF165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5C2B4-A28E-4E2E-B164-4B883505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F1ED8-1EC0-4DAF-9F13-61E364AB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AFB8-CFA7-431D-B9B7-8AE64295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2570-A630-4E3A-AEF3-463F5CA6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095C7-6D3E-4677-9404-E81B55F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F4D2A-8AA2-46D1-AAB9-2C8E5F72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ED8-F2B7-4279-B4AE-117344E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7F29-C2A8-4574-8495-CF0AE71D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A3168-F6C1-40CB-BB40-1EACACD1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9B2BA-0173-438B-B2EC-7178B8E8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73D76-9FEB-401F-9C2C-14AD2C6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5FAF3-4A0F-4C72-A7AC-06576C8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469B9-64FD-42AF-8900-4272A2AD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F8B3F-F26E-4E85-A087-DBC84D35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661EA-5404-4202-8BB1-48112F41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9D4FA-175A-4F25-8F2C-BB16E8C7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845EF-FCEC-4AF4-95CE-D93AB87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737B-711C-4BA6-9363-99D07398C1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7D48-AF65-4DF4-ABD9-7A4FF404824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638-A942-4A5E-94E2-6F141A3206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94D7-68A9-4FA1-A8F6-9BA8B83C516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80E4-5CC5-45A9-9566-9AC503FD1E4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24BE-3E29-48E7-9445-053AC65071F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9110-E226-4184-B3B3-BAC2AF57BB9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C4EB-10C3-4FF7-9E79-4AEA4D71ED6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0F1E-2665-4DDD-AE12-F161CE2EABB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39C-070F-406C-B2F8-D00DB86328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4A57-6FDD-4DB8-86AA-09C1FC06F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45AE-77B7-46FC-BB00-FC88C558BA8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89F-2628-4762-941B-375E373FE04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5B2-3D57-4B60-9C59-DD55CAE733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CA13-45DF-4460-B900-72DC983A71B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4F6-4E85-481D-A2BC-BAEE275F83F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B48F-5662-40DE-ABB7-70D870C30EB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66B1-615C-49BA-B4DF-8FA028F82A6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2F7E-54DE-412F-92AF-32B7D4B1C98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2731-2DFA-4176-8686-9D61A1CE482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DA28-4C3B-49B1-A844-924C8BC45D6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401C-721F-48EC-9EC7-EDB415A7781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21B8-854C-4EC6-8361-AE957C314CE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6084-5C5E-4694-99AA-432F5D9CA9F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2DD0-87B5-45BB-9F9D-D7309447CA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C:\Documents and Settings\Tiger\桌面\mb\封面.jpg"/>
          <p:cNvPicPr/>
          <p:nvPr/>
        </p:nvPicPr>
        <p:blipFill>
          <a:blip r:embed="rId1"/>
          <a:stretch/>
        </p:blipFill>
        <p:spPr>
          <a:xfrm>
            <a:off x="-39600" y="0"/>
            <a:ext cx="122346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3" descr="C:\Documents and Settings\Tiger\桌面\mb\2.jpg"/>
          <p:cNvPicPr/>
          <p:nvPr/>
        </p:nvPicPr>
        <p:blipFill>
          <a:blip r:embed="rId1"/>
          <a:stretch/>
        </p:blipFill>
        <p:spPr>
          <a:xfrm>
            <a:off x="-25560" y="0"/>
            <a:ext cx="122367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C:\Documents and Settings\Tiger\桌面\mb\3.jpg"/>
          <p:cNvPicPr/>
          <p:nvPr/>
        </p:nvPicPr>
        <p:blipFill>
          <a:blip r:embed="rId1"/>
          <a:stretch/>
        </p:blipFill>
        <p:spPr>
          <a:xfrm>
            <a:off x="-25560" y="0"/>
            <a:ext cx="122367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3" descr="C:\Documents and Settings\Tiger\桌面\mb\4.jpg"/>
          <p:cNvPicPr/>
          <p:nvPr/>
        </p:nvPicPr>
        <p:blipFill>
          <a:blip r:embed="rId1"/>
          <a:stretch/>
        </p:blipFill>
        <p:spPr>
          <a:xfrm>
            <a:off x="-25560" y="0"/>
            <a:ext cx="122367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3" descr="C:\Documents and Settings\Tiger\桌面\mb\5.jpg"/>
          <p:cNvPicPr/>
          <p:nvPr/>
        </p:nvPicPr>
        <p:blipFill>
          <a:blip r:embed="rId1"/>
          <a:stretch/>
        </p:blipFill>
        <p:spPr>
          <a:xfrm>
            <a:off x="-25560" y="0"/>
            <a:ext cx="122367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39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5T06:09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