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D13-7ADA-42D7-8FD8-71F5BFCE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11C-4EC2-427C-9D38-59532D3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7DA76-C918-453D-90D2-C04E5A2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02F5B-2120-4472-A007-6B31F66D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2007A-F857-4E3B-A0B1-81187BB8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E1E15-5D0E-4CCF-B295-145BBBC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A0D2F-0C85-40F7-BC10-973AB2B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04325-C13F-46A7-AD47-8B23CB9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A8294-5F12-482A-B966-106379E8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4A988-9268-419D-A929-18DB558C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7C72-85B6-46A9-A769-BAD98BD0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3DB38-31FB-40BB-B0D4-11E9BEAF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487-8496-46AC-8ED7-312940BA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6715-9EDA-491D-82A6-2FE82F9D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4B81-E9C8-43AD-A4A0-FE44805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797C6-0B78-42F1-8374-8C9CCFF1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A4793-B163-49CD-91DD-912D41EE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460B1-087F-48F1-9460-9D2FAA3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476DB-5399-48D7-88EC-5AC2757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53605-9495-458B-8390-3C8D0E97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04130-2C8F-47C3-9DE1-2878055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9D8B8-EC51-4112-A87E-FF457DCD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DFC45-FE6D-49F9-9F1A-9168714B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6B0-292C-4DCE-B57B-53A522DA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1F2FF-8088-48D0-AC22-AA4AEA90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303C5-B9D7-4A84-9F4A-C9EADB08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1057-A777-47E2-9144-3817B2AA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A3BAC-57AD-4DFB-8084-77B7756F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F2126-D2C6-41DE-BB2C-B738A5C9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8D25-579B-423C-85EC-E4B064E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364EC-C053-425C-B561-0FCD218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861DF-0CC9-4CA9-9F1E-694864B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0DDE7-A18F-4042-BD32-2639F6C3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315C1-A3F9-493A-96C8-B4A7AC1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F313-8E80-4E9B-A678-CA53EA62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BE765-E160-4453-B03F-FB2FE84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D4EC1-7D38-4627-A593-42CA328E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40189-6EB3-4E29-BF19-CCB09A9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DA6D7-2F8B-45A9-8966-68E5DACE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D0A5F-EFED-41FA-8ABD-5C255CC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395C3-BD01-4348-93CD-639EA60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6FA10-2463-4DED-AE67-6378214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FA260-E783-4D28-96F8-78CA53E8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B30D2-023B-4851-9873-0FD94441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0A523-CC34-4B1C-BED7-1BDA5EB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2E85-74E0-430B-8011-F888B74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288A-CB87-467D-9551-3463963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DA720-C061-4FD9-98D8-D197CC2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403A7-991A-4E85-8E28-A0D072FB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BBDBD-4C2D-4B2A-8137-96F5548A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04B0-50C7-43C2-B252-9198CCDD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97A96-9846-4AF6-A62E-A86003F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B6D42-4E45-49B0-9C8A-CB34D662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33DEA-3F92-4EFC-AC58-7D65DCBB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7AD48-26E2-4738-920E-20444E3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1C439-DC80-43AA-A866-32EFAE0B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2F2-B90A-4809-BB9F-FEAD98F0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04E18-15B8-4ED8-A5C4-3539F86C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008CE-973D-4FE3-B314-9871CEDD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6DF22-6325-4B1A-93C3-56B288A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4077B-AF6A-45A3-BA07-43A801D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CED0F-DF70-4737-933E-4ED5C4F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36E57-1493-4449-AC09-A07D627A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73CFB-849E-479B-BE4E-1413B3BF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C56B3-C2AA-45EC-8F74-FA7B5BC9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CD2FB-F501-41C5-9019-8A657CC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BF9B9-9A89-44C4-9E05-A873978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61D-0CBE-48D7-AF96-0021AF7E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2EF62-DA84-40C8-94C6-3265F895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A6DC0-B724-4F8A-A1F8-AB0AF79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CDA4D-4826-4C91-A932-3CDFA29B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584E7-BC7B-440F-8C78-7F1401E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C5036-DC13-4D27-A1F8-E820392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7BA3B-BC53-4109-AD8A-67B3C9AC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B4DD6-959B-48EF-9B93-F52E7D5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7EAA5-39C8-44B5-B7F8-EC2B9D17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7AE0C-DE82-44AF-9654-6B972AE6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1AF3-5FE9-49EA-83CA-1DE24CA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1AFB-AF9C-4C3F-9FED-3AE0BDAA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5551-1450-4864-BF17-8487F7D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678-CDAF-4D70-81E8-D71227A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26EA-0610-4FF8-B011-52225CB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5B1-A2C0-45B0-8E32-4B9F174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4458-A274-4BF1-8D1B-0A1F3D5A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D0E5-31E5-4F55-A56D-E1DDAFEC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1C3-2AE4-4112-A0F4-896AF38A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B995-033D-4B95-A4DA-7A5054A0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86B1-DEC9-424A-919F-4D496DD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29CF-29DE-4C43-95C1-2E76AA0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D928-57B5-4066-A36F-7093B1E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8FB7-9EE0-4A23-BB48-A9FF6B04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0E3-43F4-4208-BAF8-541B976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9257-32D8-4247-80C0-C364898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0712-6E65-49B7-BDB2-7730A3F5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9243-BDF5-43CE-BC82-CFD27D39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F48E-A685-4639-A8C9-016BCF4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643F-8CDB-4D5A-AFF1-3D13EC9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9FB4-D083-4713-9C26-7F712D68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7F6D-0185-4ACB-A8F9-B1537327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F91D-4294-48E6-AD77-B2FA3CD8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26D4-E187-4082-BDD9-1E123287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0747-A2DE-414D-8EC2-8392BF42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959-3AA3-410B-97CE-13A5478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6791-06B6-4596-9DA6-C5751CC1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0CC5-6386-442A-BC2B-629C7BC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1467-828F-47AB-B646-F02241BB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FB18-D951-4F68-88C5-1ACCE24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FC1B-9B81-4761-88A7-D3CCBC1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5BB5-82A6-4C86-A948-E1A1626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5DDD-DFCA-443B-B91E-66783CE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5AA4-4E0D-4BE9-8725-D2AB0510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B983-9F35-48DC-8F58-486A289D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2B5C-07C1-4ABD-A44F-02BC89DA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B2F-83EF-47A4-9282-D8AC013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45508-5FE3-46D8-AEBF-27E6E01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B2CD-D197-46D7-8037-B9D3D9A7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773E-98AA-4868-B530-5B93D247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346CF-F528-4432-9AF5-AD42359B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0451-92A0-4908-B511-9CAE6664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88037-AF52-44B4-A60B-4500D15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AD6C-BCD0-4C78-B109-E150792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5217-5B40-4746-A190-C994A824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82A1D-D173-437C-B705-BCBD99D7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580F-E235-441F-98CF-176E0AB2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2F8-E6D3-4E8E-863C-FE1CE7A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5AD7-B438-4662-820C-5E4195A9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412E-30F1-44DD-B516-CB1C8FD8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7842F-91F9-4125-BF5E-1E921A3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5D310-391E-4858-8F5F-0BBEB15A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03E9-99F2-473C-B829-DF777E8A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BE71-4626-40E0-BBA1-819F9B1D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313C-B688-471C-9783-EC72B98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476E-0745-408B-9C43-8C12CD19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A801-3A0A-4150-8DF5-69E2728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87E5-8281-4B30-ADE1-A60C561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D80-0822-4216-9E6A-CA7AF9C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9C39-2241-427A-A86D-CCF14BD0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A4824-67F6-43A3-90DB-9D184B3F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98A65-F2E3-45D3-AE56-F576AB0A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83334-A92B-4307-9A87-B29DACD7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90366-2FDA-454D-A20C-A7FC35C8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05FD7-31CA-4C52-8BF8-05B1A2B4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2D96-8A1E-4E2C-B78A-D5510DF7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F0245-7F18-4C40-B56A-1520471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68E78-F576-42D2-A93F-9BB9F1BE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457A3-87C9-4AD2-B10D-FDD98DD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BC5-9A4D-4FB0-8289-5DF47BD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E9208-6AAB-4617-9874-208B875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7ED2D-DF02-4FE9-9A90-A8A97E0C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86D64-5E1A-46C3-BBEA-0116DB6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D350-7A0E-4F0D-8709-68EF3237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3E216-4DDD-486A-97FB-2E47D324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7FA5-16A6-4AE2-BB29-57906CD4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E9A50-F50A-40CE-8EC1-0325B480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15BBE-AFF2-47F4-873D-4FCBA2AC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26FC-A0A7-40CD-90F4-4BB2E82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5B75C-9C6B-4E37-9175-04A043A7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117-88FE-4045-9C1A-153C7BB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2C3F-C2F0-41E2-BA46-1DC3029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58649-19FF-456C-BE33-499E55F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C4C3F-5BDC-4496-B204-77A3225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D9EC8-F51D-493E-97FB-E13563F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3E924-19B2-45EB-A911-351F009E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D1A7B-0504-4C74-B81D-5A90BFED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E84D3-1908-44DA-A263-2DD24886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294C-5D48-46BA-B50E-EB1DC7F9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A7D06-E637-4F64-97E8-D45671C3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46EF8-2F10-4077-AB8E-547AFC46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BF93-2C9A-4305-906B-89D16F7E3B6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D97D-0E9F-4278-B1E8-D24DB3334B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ABBE-5CA4-44DC-822F-A1580D0BE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7B4B-C6EC-4F6A-BD72-D4A7809D8D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E5E-C6D4-43F4-BC23-0BF4127636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296-782C-4DF1-8CCB-A7179A86EA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D06-B8BE-4D78-9D81-ED1758D313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3FC-D8A9-447D-9733-5A034EA885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7AD6-69B2-4EBF-B3E9-B5322B15A8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4E1-122E-4B05-AFA3-D1B7213F35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507-FD7A-4FCA-8D65-9E24C2B44D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1EDA-6B71-4479-85D5-A4D8DD2EDE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8B34-A373-4312-B808-BF8361DD5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52B-2211-4A1E-8B26-7FE081BFC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353-EED1-4981-AB74-B9777B5EAB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777E-3117-40D1-ADA3-A486EF0BEB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D2E-BF3C-4129-858B-32A4451E58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028-0C87-4473-BF71-C33C76BC09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B27-7411-456D-ADCB-2DCE5F397F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CB3-2A0E-4F39-9FAC-4D49C0C15D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F05-1F4A-4BAA-884F-ABE473E48E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507-9435-403A-87FC-74DEAD528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CE98-C0A9-4DCD-BE64-943FA7B489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C57D-12C4-4896-94BD-3F4EEE5707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D7C-2203-4DC5-BC33-97A8B36C63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79F7-AFC4-4F46-BD40-125627FC96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1189080"/>
            <a:ext cx="9144000" cy="387648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2334960" y="261000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Simple, Powerful and fre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自由曲线 73"/>
          <p:cNvSpPr/>
          <p:nvPr/>
        </p:nvSpPr>
        <p:spPr>
          <a:xfrm>
            <a:off x="84240" y="1508040"/>
            <a:ext cx="9137520" cy="305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" y="0"/>
                </a:moveTo>
                <a:cubicBezTo>
                  <a:pt x="78" y="125"/>
                  <a:pt x="115" y="529"/>
                  <a:pt x="171" y="749"/>
                </a:cubicBezTo>
                <a:cubicBezTo>
                  <a:pt x="226" y="969"/>
                  <a:pt x="315" y="1108"/>
                  <a:pt x="393" y="1328"/>
                </a:cubicBezTo>
                <a:cubicBezTo>
                  <a:pt x="471" y="1548"/>
                  <a:pt x="574" y="1885"/>
                  <a:pt x="643" y="2078"/>
                </a:cubicBezTo>
                <a:cubicBezTo>
                  <a:pt x="712" y="2271"/>
                  <a:pt x="754" y="2352"/>
                  <a:pt x="810" y="2491"/>
                </a:cubicBezTo>
                <a:cubicBezTo>
                  <a:pt x="866" y="2630"/>
                  <a:pt x="888" y="2729"/>
                  <a:pt x="975" y="2908"/>
                </a:cubicBezTo>
                <a:cubicBezTo>
                  <a:pt x="1062" y="3088"/>
                  <a:pt x="1226" y="3326"/>
                  <a:pt x="1337" y="3573"/>
                </a:cubicBezTo>
                <a:cubicBezTo>
                  <a:pt x="1448" y="3819"/>
                  <a:pt x="1548" y="4156"/>
                  <a:pt x="1642" y="4403"/>
                </a:cubicBezTo>
                <a:cubicBezTo>
                  <a:pt x="1735" y="4650"/>
                  <a:pt x="1819" y="4883"/>
                  <a:pt x="1892" y="5063"/>
                </a:cubicBezTo>
                <a:cubicBezTo>
                  <a:pt x="1966" y="5242"/>
                  <a:pt x="2017" y="5328"/>
                  <a:pt x="2086" y="5480"/>
                </a:cubicBezTo>
                <a:cubicBezTo>
                  <a:pt x="2155" y="5633"/>
                  <a:pt x="2239" y="5826"/>
                  <a:pt x="2308" y="5979"/>
                </a:cubicBezTo>
                <a:cubicBezTo>
                  <a:pt x="2377" y="6131"/>
                  <a:pt x="2439" y="6297"/>
                  <a:pt x="2503" y="6392"/>
                </a:cubicBezTo>
                <a:cubicBezTo>
                  <a:pt x="2568" y="6486"/>
                  <a:pt x="2632" y="6490"/>
                  <a:pt x="2697" y="6558"/>
                </a:cubicBezTo>
                <a:cubicBezTo>
                  <a:pt x="2761" y="6625"/>
                  <a:pt x="2905" y="6670"/>
                  <a:pt x="2892" y="6809"/>
                </a:cubicBezTo>
                <a:cubicBezTo>
                  <a:pt x="2878" y="6948"/>
                  <a:pt x="2688" y="7262"/>
                  <a:pt x="2614" y="7388"/>
                </a:cubicBezTo>
                <a:cubicBezTo>
                  <a:pt x="2541" y="7514"/>
                  <a:pt x="2508" y="7487"/>
                  <a:pt x="2448" y="7554"/>
                </a:cubicBezTo>
                <a:cubicBezTo>
                  <a:pt x="2387" y="7621"/>
                  <a:pt x="2321" y="7738"/>
                  <a:pt x="2252" y="7805"/>
                </a:cubicBezTo>
                <a:cubicBezTo>
                  <a:pt x="2183" y="7873"/>
                  <a:pt x="2099" y="7891"/>
                  <a:pt x="2030" y="7972"/>
                </a:cubicBezTo>
                <a:cubicBezTo>
                  <a:pt x="1961" y="8052"/>
                  <a:pt x="1910" y="8209"/>
                  <a:pt x="1837" y="8304"/>
                </a:cubicBezTo>
                <a:cubicBezTo>
                  <a:pt x="1763" y="8398"/>
                  <a:pt x="1660" y="8470"/>
                  <a:pt x="1586" y="8551"/>
                </a:cubicBezTo>
                <a:cubicBezTo>
                  <a:pt x="1512" y="8631"/>
                  <a:pt x="1457" y="8735"/>
                  <a:pt x="1392" y="8802"/>
                </a:cubicBezTo>
                <a:cubicBezTo>
                  <a:pt x="1328" y="8869"/>
                  <a:pt x="1257" y="8901"/>
                  <a:pt x="1197" y="8968"/>
                </a:cubicBezTo>
                <a:cubicBezTo>
                  <a:pt x="1137" y="9035"/>
                  <a:pt x="1095" y="9121"/>
                  <a:pt x="1031" y="9215"/>
                </a:cubicBezTo>
                <a:cubicBezTo>
                  <a:pt x="966" y="9309"/>
                  <a:pt x="879" y="9448"/>
                  <a:pt x="810" y="9547"/>
                </a:cubicBezTo>
                <a:cubicBezTo>
                  <a:pt x="741" y="9646"/>
                  <a:pt x="675" y="9700"/>
                  <a:pt x="615" y="9799"/>
                </a:cubicBezTo>
                <a:cubicBezTo>
                  <a:pt x="555" y="9897"/>
                  <a:pt x="0" y="9552"/>
                  <a:pt x="448" y="10131"/>
                </a:cubicBezTo>
                <a:cubicBezTo>
                  <a:pt x="897" y="10710"/>
                  <a:pt x="2803" y="12716"/>
                  <a:pt x="3308" y="13282"/>
                </a:cubicBezTo>
                <a:cubicBezTo>
                  <a:pt x="3812" y="13847"/>
                  <a:pt x="3410" y="13452"/>
                  <a:pt x="3474" y="13533"/>
                </a:cubicBezTo>
                <a:cubicBezTo>
                  <a:pt x="3539" y="13614"/>
                  <a:pt x="3627" y="13686"/>
                  <a:pt x="3696" y="13780"/>
                </a:cubicBezTo>
                <a:cubicBezTo>
                  <a:pt x="3765" y="13874"/>
                  <a:pt x="3825" y="14031"/>
                  <a:pt x="3890" y="14112"/>
                </a:cubicBezTo>
                <a:cubicBezTo>
                  <a:pt x="3954" y="14193"/>
                  <a:pt x="4021" y="14198"/>
                  <a:pt x="4085" y="14278"/>
                </a:cubicBezTo>
                <a:cubicBezTo>
                  <a:pt x="4150" y="14359"/>
                  <a:pt x="4205" y="14530"/>
                  <a:pt x="4279" y="14610"/>
                </a:cubicBezTo>
                <a:cubicBezTo>
                  <a:pt x="4352" y="14691"/>
                  <a:pt x="4436" y="14664"/>
                  <a:pt x="4529" y="14777"/>
                </a:cubicBezTo>
                <a:cubicBezTo>
                  <a:pt x="4622" y="14889"/>
                  <a:pt x="4742" y="15149"/>
                  <a:pt x="4834" y="15275"/>
                </a:cubicBezTo>
                <a:cubicBezTo>
                  <a:pt x="4926" y="15400"/>
                  <a:pt x="5014" y="15445"/>
                  <a:pt x="5083" y="15526"/>
                </a:cubicBezTo>
                <a:cubicBezTo>
                  <a:pt x="5152" y="15607"/>
                  <a:pt x="5181" y="15706"/>
                  <a:pt x="5250" y="15773"/>
                </a:cubicBezTo>
                <a:cubicBezTo>
                  <a:pt x="5319" y="15840"/>
                  <a:pt x="5431" y="15872"/>
                  <a:pt x="5500" y="15939"/>
                </a:cubicBezTo>
                <a:cubicBezTo>
                  <a:pt x="5569" y="16006"/>
                  <a:pt x="5598" y="16092"/>
                  <a:pt x="5667" y="16191"/>
                </a:cubicBezTo>
                <a:cubicBezTo>
                  <a:pt x="5736" y="16289"/>
                  <a:pt x="5834" y="16428"/>
                  <a:pt x="5916" y="16523"/>
                </a:cubicBezTo>
                <a:cubicBezTo>
                  <a:pt x="5999" y="16617"/>
                  <a:pt x="6089" y="16689"/>
                  <a:pt x="6167" y="16770"/>
                </a:cubicBezTo>
                <a:cubicBezTo>
                  <a:pt x="6245" y="16850"/>
                  <a:pt x="6311" y="16922"/>
                  <a:pt x="6389" y="17016"/>
                </a:cubicBezTo>
                <a:cubicBezTo>
                  <a:pt x="6467" y="17111"/>
                  <a:pt x="6647" y="17268"/>
                  <a:pt x="6638" y="17349"/>
                </a:cubicBezTo>
                <a:cubicBezTo>
                  <a:pt x="6629" y="17429"/>
                  <a:pt x="6431" y="17474"/>
                  <a:pt x="6333" y="17515"/>
                </a:cubicBezTo>
                <a:cubicBezTo>
                  <a:pt x="6236" y="17555"/>
                  <a:pt x="6158" y="17573"/>
                  <a:pt x="6056" y="17600"/>
                </a:cubicBezTo>
                <a:cubicBezTo>
                  <a:pt x="5954" y="17627"/>
                  <a:pt x="5838" y="17627"/>
                  <a:pt x="5723" y="17681"/>
                </a:cubicBezTo>
                <a:cubicBezTo>
                  <a:pt x="5607" y="17735"/>
                  <a:pt x="5485" y="17851"/>
                  <a:pt x="5361" y="17932"/>
                </a:cubicBezTo>
                <a:cubicBezTo>
                  <a:pt x="5236" y="18013"/>
                  <a:pt x="5092" y="18125"/>
                  <a:pt x="4972" y="18179"/>
                </a:cubicBezTo>
                <a:cubicBezTo>
                  <a:pt x="4852" y="18233"/>
                  <a:pt x="4765" y="18184"/>
                  <a:pt x="4640" y="18264"/>
                </a:cubicBezTo>
                <a:cubicBezTo>
                  <a:pt x="4516" y="18345"/>
                  <a:pt x="4343" y="18583"/>
                  <a:pt x="4223" y="18677"/>
                </a:cubicBezTo>
                <a:cubicBezTo>
                  <a:pt x="4103" y="18772"/>
                  <a:pt x="4025" y="18776"/>
                  <a:pt x="3918" y="18843"/>
                </a:cubicBezTo>
                <a:cubicBezTo>
                  <a:pt x="3812" y="18911"/>
                  <a:pt x="3692" y="18996"/>
                  <a:pt x="3585" y="19095"/>
                </a:cubicBezTo>
                <a:cubicBezTo>
                  <a:pt x="3479" y="19194"/>
                  <a:pt x="3377" y="19333"/>
                  <a:pt x="3279" y="19427"/>
                </a:cubicBezTo>
                <a:cubicBezTo>
                  <a:pt x="3181" y="19521"/>
                  <a:pt x="3084" y="19593"/>
                  <a:pt x="3001" y="19674"/>
                </a:cubicBezTo>
                <a:cubicBezTo>
                  <a:pt x="2919" y="19755"/>
                  <a:pt x="2850" y="19844"/>
                  <a:pt x="2781" y="19925"/>
                </a:cubicBezTo>
                <a:cubicBezTo>
                  <a:pt x="2712" y="20006"/>
                  <a:pt x="2646" y="20105"/>
                  <a:pt x="2586" y="20172"/>
                </a:cubicBezTo>
                <a:cubicBezTo>
                  <a:pt x="2526" y="20239"/>
                  <a:pt x="2475" y="20271"/>
                  <a:pt x="2419" y="20338"/>
                </a:cubicBezTo>
                <a:cubicBezTo>
                  <a:pt x="2363" y="20405"/>
                  <a:pt x="2312" y="20491"/>
                  <a:pt x="2252" y="20590"/>
                </a:cubicBezTo>
                <a:cubicBezTo>
                  <a:pt x="2192" y="20688"/>
                  <a:pt x="2054" y="20841"/>
                  <a:pt x="2059" y="20922"/>
                </a:cubicBezTo>
                <a:cubicBezTo>
                  <a:pt x="2063" y="21002"/>
                  <a:pt x="2212" y="21047"/>
                  <a:pt x="2281" y="21088"/>
                </a:cubicBezTo>
                <a:cubicBezTo>
                  <a:pt x="2350" y="21128"/>
                  <a:pt x="2396" y="21128"/>
                  <a:pt x="2475" y="21169"/>
                </a:cubicBezTo>
                <a:cubicBezTo>
                  <a:pt x="2553" y="21209"/>
                  <a:pt x="2674" y="21294"/>
                  <a:pt x="2752" y="21335"/>
                </a:cubicBezTo>
                <a:cubicBezTo>
                  <a:pt x="2830" y="21375"/>
                  <a:pt x="2881" y="21406"/>
                  <a:pt x="2946" y="21420"/>
                </a:cubicBezTo>
                <a:cubicBezTo>
                  <a:pt x="3010" y="21433"/>
                  <a:pt x="3067" y="21406"/>
                  <a:pt x="3141" y="21420"/>
                </a:cubicBezTo>
                <a:cubicBezTo>
                  <a:pt x="3215" y="21433"/>
                  <a:pt x="3317" y="21474"/>
                  <a:pt x="3390" y="21501"/>
                </a:cubicBezTo>
                <a:cubicBezTo>
                  <a:pt x="3464" y="21528"/>
                  <a:pt x="3516" y="21573"/>
                  <a:pt x="3585" y="21586"/>
                </a:cubicBezTo>
                <a:cubicBezTo>
                  <a:pt x="3654" y="21600"/>
                  <a:pt x="3738" y="21586"/>
                  <a:pt x="3807" y="21586"/>
                </a:cubicBezTo>
                <a:cubicBezTo>
                  <a:pt x="3876" y="21586"/>
                  <a:pt x="3932" y="21586"/>
                  <a:pt x="4001" y="21586"/>
                </a:cubicBezTo>
                <a:cubicBezTo>
                  <a:pt x="4070" y="21586"/>
                  <a:pt x="4154" y="21586"/>
                  <a:pt x="4223" y="21586"/>
                </a:cubicBezTo>
                <a:cubicBezTo>
                  <a:pt x="4292" y="21586"/>
                  <a:pt x="4358" y="21600"/>
                  <a:pt x="4418" y="21586"/>
                </a:cubicBezTo>
                <a:cubicBezTo>
                  <a:pt x="4478" y="21573"/>
                  <a:pt x="4529" y="21528"/>
                  <a:pt x="4585" y="21501"/>
                </a:cubicBezTo>
                <a:cubicBezTo>
                  <a:pt x="4640" y="21474"/>
                  <a:pt x="4687" y="21447"/>
                  <a:pt x="4751" y="21420"/>
                </a:cubicBezTo>
                <a:cubicBezTo>
                  <a:pt x="4816" y="21393"/>
                  <a:pt x="4908" y="21362"/>
                  <a:pt x="4972" y="21335"/>
                </a:cubicBezTo>
                <a:cubicBezTo>
                  <a:pt x="5037" y="21308"/>
                  <a:pt x="5079" y="21294"/>
                  <a:pt x="5139" y="21254"/>
                </a:cubicBezTo>
                <a:cubicBezTo>
                  <a:pt x="5199" y="21213"/>
                  <a:pt x="5269" y="21142"/>
                  <a:pt x="5334" y="21088"/>
                </a:cubicBezTo>
                <a:cubicBezTo>
                  <a:pt x="5398" y="21034"/>
                  <a:pt x="5454" y="20989"/>
                  <a:pt x="5527" y="20922"/>
                </a:cubicBezTo>
                <a:cubicBezTo>
                  <a:pt x="5601" y="20854"/>
                  <a:pt x="5696" y="20769"/>
                  <a:pt x="5778" y="20670"/>
                </a:cubicBezTo>
                <a:cubicBezTo>
                  <a:pt x="5861" y="20572"/>
                  <a:pt x="5940" y="20432"/>
                  <a:pt x="6027" y="20338"/>
                </a:cubicBezTo>
                <a:cubicBezTo>
                  <a:pt x="6114" y="20244"/>
                  <a:pt x="6216" y="20159"/>
                  <a:pt x="6305" y="20091"/>
                </a:cubicBezTo>
                <a:cubicBezTo>
                  <a:pt x="6393" y="20024"/>
                  <a:pt x="6467" y="19993"/>
                  <a:pt x="6556" y="19925"/>
                </a:cubicBezTo>
                <a:cubicBezTo>
                  <a:pt x="6644" y="19858"/>
                  <a:pt x="6751" y="19755"/>
                  <a:pt x="6833" y="19674"/>
                </a:cubicBezTo>
                <a:cubicBezTo>
                  <a:pt x="6916" y="19593"/>
                  <a:pt x="6952" y="19539"/>
                  <a:pt x="7054" y="19427"/>
                </a:cubicBezTo>
                <a:cubicBezTo>
                  <a:pt x="7156" y="19315"/>
                  <a:pt x="7332" y="19122"/>
                  <a:pt x="7443" y="19009"/>
                </a:cubicBezTo>
                <a:cubicBezTo>
                  <a:pt x="7554" y="18897"/>
                  <a:pt x="7618" y="18875"/>
                  <a:pt x="7720" y="18763"/>
                </a:cubicBezTo>
                <a:cubicBezTo>
                  <a:pt x="7822" y="18650"/>
                  <a:pt x="7942" y="18457"/>
                  <a:pt x="8054" y="18345"/>
                </a:cubicBezTo>
                <a:cubicBezTo>
                  <a:pt x="8165" y="18233"/>
                  <a:pt x="8276" y="18179"/>
                  <a:pt x="8387" y="18098"/>
                </a:cubicBezTo>
                <a:cubicBezTo>
                  <a:pt x="8498" y="18017"/>
                  <a:pt x="8600" y="17959"/>
                  <a:pt x="8720" y="17847"/>
                </a:cubicBezTo>
                <a:cubicBezTo>
                  <a:pt x="8840" y="17735"/>
                  <a:pt x="8989" y="17546"/>
                  <a:pt x="9109" y="17434"/>
                </a:cubicBezTo>
                <a:cubicBezTo>
                  <a:pt x="9229" y="17322"/>
                  <a:pt x="9326" y="17308"/>
                  <a:pt x="9442" y="17183"/>
                </a:cubicBezTo>
                <a:cubicBezTo>
                  <a:pt x="9557" y="17057"/>
                  <a:pt x="9687" y="16828"/>
                  <a:pt x="9802" y="16689"/>
                </a:cubicBezTo>
                <a:cubicBezTo>
                  <a:pt x="9918" y="16550"/>
                  <a:pt x="10024" y="16455"/>
                  <a:pt x="10135" y="16357"/>
                </a:cubicBezTo>
                <a:cubicBezTo>
                  <a:pt x="10246" y="16258"/>
                  <a:pt x="10362" y="16186"/>
                  <a:pt x="10469" y="16105"/>
                </a:cubicBezTo>
                <a:cubicBezTo>
                  <a:pt x="10575" y="16024"/>
                  <a:pt x="10668" y="15953"/>
                  <a:pt x="10775" y="15858"/>
                </a:cubicBezTo>
                <a:cubicBezTo>
                  <a:pt x="10881" y="15764"/>
                  <a:pt x="10986" y="15638"/>
                  <a:pt x="11106" y="15526"/>
                </a:cubicBezTo>
                <a:cubicBezTo>
                  <a:pt x="11227" y="15414"/>
                  <a:pt x="11375" y="15293"/>
                  <a:pt x="11495" y="15194"/>
                </a:cubicBezTo>
                <a:cubicBezTo>
                  <a:pt x="11615" y="15095"/>
                  <a:pt x="11722" y="15010"/>
                  <a:pt x="11828" y="14943"/>
                </a:cubicBezTo>
                <a:cubicBezTo>
                  <a:pt x="11935" y="14875"/>
                  <a:pt x="12037" y="14830"/>
                  <a:pt x="12135" y="14777"/>
                </a:cubicBezTo>
                <a:cubicBezTo>
                  <a:pt x="12232" y="14723"/>
                  <a:pt x="12325" y="14678"/>
                  <a:pt x="12412" y="14610"/>
                </a:cubicBezTo>
                <a:cubicBezTo>
                  <a:pt x="12499" y="14543"/>
                  <a:pt x="12583" y="14417"/>
                  <a:pt x="12661" y="14364"/>
                </a:cubicBezTo>
                <a:cubicBezTo>
                  <a:pt x="12739" y="14310"/>
                  <a:pt x="12806" y="14319"/>
                  <a:pt x="12884" y="14278"/>
                </a:cubicBezTo>
                <a:cubicBezTo>
                  <a:pt x="12962" y="14238"/>
                  <a:pt x="13064" y="14139"/>
                  <a:pt x="13133" y="14112"/>
                </a:cubicBezTo>
                <a:cubicBezTo>
                  <a:pt x="13202" y="14085"/>
                  <a:pt x="13239" y="14126"/>
                  <a:pt x="13299" y="14112"/>
                </a:cubicBezTo>
                <a:cubicBezTo>
                  <a:pt x="13359" y="14099"/>
                  <a:pt x="13434" y="14045"/>
                  <a:pt x="13494" y="14031"/>
                </a:cubicBezTo>
                <a:cubicBezTo>
                  <a:pt x="13554" y="14018"/>
                  <a:pt x="13583" y="14045"/>
                  <a:pt x="13661" y="14031"/>
                </a:cubicBezTo>
                <a:cubicBezTo>
                  <a:pt x="13739" y="14018"/>
                  <a:pt x="13864" y="13973"/>
                  <a:pt x="13966" y="13946"/>
                </a:cubicBezTo>
                <a:cubicBezTo>
                  <a:pt x="14068" y="13919"/>
                  <a:pt x="14179" y="13879"/>
                  <a:pt x="14272" y="13865"/>
                </a:cubicBezTo>
                <a:cubicBezTo>
                  <a:pt x="14365" y="13852"/>
                  <a:pt x="14439" y="13879"/>
                  <a:pt x="14521" y="13865"/>
                </a:cubicBezTo>
                <a:cubicBezTo>
                  <a:pt x="14604" y="13852"/>
                  <a:pt x="14698" y="13794"/>
                  <a:pt x="14772" y="13780"/>
                </a:cubicBezTo>
                <a:cubicBezTo>
                  <a:pt x="14845" y="13767"/>
                  <a:pt x="14905" y="13780"/>
                  <a:pt x="14965" y="13780"/>
                </a:cubicBezTo>
                <a:cubicBezTo>
                  <a:pt x="15025" y="13780"/>
                  <a:pt x="15076" y="13780"/>
                  <a:pt x="15132" y="13780"/>
                </a:cubicBezTo>
                <a:cubicBezTo>
                  <a:pt x="15187" y="13780"/>
                  <a:pt x="15243" y="13780"/>
                  <a:pt x="15299" y="13780"/>
                </a:cubicBezTo>
                <a:cubicBezTo>
                  <a:pt x="15354" y="13780"/>
                  <a:pt x="15410" y="13753"/>
                  <a:pt x="15465" y="13780"/>
                </a:cubicBezTo>
                <a:cubicBezTo>
                  <a:pt x="15521" y="13807"/>
                  <a:pt x="15576" y="13834"/>
                  <a:pt x="15632" y="13946"/>
                </a:cubicBezTo>
                <a:cubicBezTo>
                  <a:pt x="15687" y="14058"/>
                  <a:pt x="15771" y="14238"/>
                  <a:pt x="15798" y="14444"/>
                </a:cubicBezTo>
                <a:cubicBezTo>
                  <a:pt x="15825" y="14651"/>
                  <a:pt x="15812" y="14929"/>
                  <a:pt x="15798" y="15194"/>
                </a:cubicBezTo>
                <a:cubicBezTo>
                  <a:pt x="15785" y="15459"/>
                  <a:pt x="15737" y="15804"/>
                  <a:pt x="15714" y="16024"/>
                </a:cubicBezTo>
                <a:cubicBezTo>
                  <a:pt x="15692" y="16244"/>
                  <a:pt x="15677" y="16343"/>
                  <a:pt x="15659" y="16523"/>
                </a:cubicBezTo>
                <a:cubicBezTo>
                  <a:pt x="15641" y="16702"/>
                  <a:pt x="15630" y="16882"/>
                  <a:pt x="15603" y="17102"/>
                </a:cubicBezTo>
                <a:cubicBezTo>
                  <a:pt x="15576" y="17322"/>
                  <a:pt x="15519" y="17627"/>
                  <a:pt x="15492" y="17847"/>
                </a:cubicBezTo>
                <a:cubicBezTo>
                  <a:pt x="15465" y="18067"/>
                  <a:pt x="15419" y="18264"/>
                  <a:pt x="15437" y="18430"/>
                </a:cubicBezTo>
                <a:cubicBezTo>
                  <a:pt x="15455" y="18597"/>
                  <a:pt x="15539" y="18763"/>
                  <a:pt x="15603" y="18843"/>
                </a:cubicBezTo>
                <a:cubicBezTo>
                  <a:pt x="15668" y="18924"/>
                  <a:pt x="15752" y="18915"/>
                  <a:pt x="15825" y="18929"/>
                </a:cubicBezTo>
                <a:cubicBezTo>
                  <a:pt x="15899" y="18942"/>
                  <a:pt x="15978" y="18929"/>
                  <a:pt x="16048" y="18929"/>
                </a:cubicBezTo>
                <a:cubicBezTo>
                  <a:pt x="16117" y="18929"/>
                  <a:pt x="16178" y="18929"/>
                  <a:pt x="16243" y="18929"/>
                </a:cubicBezTo>
                <a:cubicBezTo>
                  <a:pt x="16307" y="18929"/>
                  <a:pt x="16367" y="18929"/>
                  <a:pt x="16436" y="18929"/>
                </a:cubicBezTo>
                <a:cubicBezTo>
                  <a:pt x="16505" y="18929"/>
                  <a:pt x="16580" y="18915"/>
                  <a:pt x="16658" y="18929"/>
                </a:cubicBezTo>
                <a:cubicBezTo>
                  <a:pt x="16736" y="18942"/>
                  <a:pt x="16822" y="18996"/>
                  <a:pt x="16909" y="19009"/>
                </a:cubicBezTo>
                <a:cubicBezTo>
                  <a:pt x="16996" y="19023"/>
                  <a:pt x="17098" y="18996"/>
                  <a:pt x="17185" y="19009"/>
                </a:cubicBezTo>
                <a:cubicBezTo>
                  <a:pt x="17272" y="19023"/>
                  <a:pt x="17358" y="19068"/>
                  <a:pt x="17436" y="19095"/>
                </a:cubicBezTo>
                <a:cubicBezTo>
                  <a:pt x="17514" y="19122"/>
                  <a:pt x="17589" y="19149"/>
                  <a:pt x="17658" y="19176"/>
                </a:cubicBezTo>
                <a:cubicBezTo>
                  <a:pt x="17727" y="19202"/>
                  <a:pt x="17787" y="19220"/>
                  <a:pt x="17852" y="19261"/>
                </a:cubicBezTo>
                <a:cubicBezTo>
                  <a:pt x="17916" y="19301"/>
                  <a:pt x="17987" y="19400"/>
                  <a:pt x="18047" y="19427"/>
                </a:cubicBezTo>
                <a:cubicBezTo>
                  <a:pt x="18107" y="19454"/>
                  <a:pt x="18158" y="19400"/>
                  <a:pt x="18213" y="19427"/>
                </a:cubicBezTo>
                <a:cubicBezTo>
                  <a:pt x="18269" y="19454"/>
                  <a:pt x="18324" y="19539"/>
                  <a:pt x="18380" y="19593"/>
                </a:cubicBezTo>
                <a:cubicBezTo>
                  <a:pt x="18436" y="19647"/>
                  <a:pt x="18482" y="19692"/>
                  <a:pt x="18547" y="19759"/>
                </a:cubicBezTo>
                <a:cubicBezTo>
                  <a:pt x="18611" y="19826"/>
                  <a:pt x="18695" y="19939"/>
                  <a:pt x="18769" y="20006"/>
                </a:cubicBezTo>
                <a:cubicBezTo>
                  <a:pt x="18842" y="20073"/>
                  <a:pt x="18922" y="20132"/>
                  <a:pt x="18991" y="20172"/>
                </a:cubicBezTo>
                <a:cubicBezTo>
                  <a:pt x="19060" y="20212"/>
                  <a:pt x="19124" y="20230"/>
                  <a:pt x="19184" y="20257"/>
                </a:cubicBezTo>
                <a:cubicBezTo>
                  <a:pt x="19245" y="20284"/>
                  <a:pt x="19291" y="20298"/>
                  <a:pt x="19351" y="20338"/>
                </a:cubicBezTo>
                <a:cubicBezTo>
                  <a:pt x="19411" y="20379"/>
                  <a:pt x="19462" y="20464"/>
                  <a:pt x="19545" y="20504"/>
                </a:cubicBezTo>
                <a:cubicBezTo>
                  <a:pt x="19627" y="20545"/>
                  <a:pt x="19773" y="20576"/>
                  <a:pt x="19851" y="20590"/>
                </a:cubicBezTo>
                <a:cubicBezTo>
                  <a:pt x="19929" y="20603"/>
                  <a:pt x="19953" y="20576"/>
                  <a:pt x="20018" y="20590"/>
                </a:cubicBezTo>
                <a:cubicBezTo>
                  <a:pt x="20082" y="20603"/>
                  <a:pt x="20175" y="20657"/>
                  <a:pt x="20240" y="20670"/>
                </a:cubicBezTo>
                <a:cubicBezTo>
                  <a:pt x="20304" y="20684"/>
                  <a:pt x="20342" y="20670"/>
                  <a:pt x="20406" y="20670"/>
                </a:cubicBezTo>
                <a:cubicBezTo>
                  <a:pt x="20471" y="20670"/>
                  <a:pt x="20559" y="20670"/>
                  <a:pt x="20628" y="20670"/>
                </a:cubicBezTo>
                <a:cubicBezTo>
                  <a:pt x="20697" y="20670"/>
                  <a:pt x="20753" y="20670"/>
                  <a:pt x="20822" y="20670"/>
                </a:cubicBezTo>
                <a:cubicBezTo>
                  <a:pt x="20891" y="20670"/>
                  <a:pt x="20980" y="20657"/>
                  <a:pt x="21044" y="20670"/>
                </a:cubicBezTo>
                <a:cubicBezTo>
                  <a:pt x="21109" y="20684"/>
                  <a:pt x="21146" y="20729"/>
                  <a:pt x="21211" y="20756"/>
                </a:cubicBezTo>
                <a:cubicBezTo>
                  <a:pt x="21275" y="20783"/>
                  <a:pt x="21368" y="20823"/>
                  <a:pt x="21433" y="20836"/>
                </a:cubicBezTo>
                <a:cubicBezTo>
                  <a:pt x="21497" y="20850"/>
                  <a:pt x="21572" y="20836"/>
                  <a:pt x="21600" y="2083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0" y="5099040"/>
            <a:ext cx="9144000" cy="76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6668280" y="2359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AutoShape 7"/>
          <p:cNvSpPr/>
          <p:nvPr/>
        </p:nvSpPr>
        <p:spPr>
          <a:xfrm>
            <a:off x="2070000" y="2781360"/>
            <a:ext cx="219240" cy="21888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6516720" y="4622760"/>
            <a:ext cx="230040" cy="46188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6826320" y="4911840"/>
            <a:ext cx="414360" cy="1746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AutoShape 10"/>
          <p:cNvSpPr/>
          <p:nvPr/>
        </p:nvSpPr>
        <p:spPr>
          <a:xfrm>
            <a:off x="7250040" y="4508640"/>
            <a:ext cx="265320" cy="576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AutoShape 11"/>
          <p:cNvSpPr/>
          <p:nvPr/>
        </p:nvSpPr>
        <p:spPr>
          <a:xfrm>
            <a:off x="7763040" y="4194000"/>
            <a:ext cx="536400" cy="8859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AutoShape 12"/>
          <p:cNvSpPr/>
          <p:nvPr/>
        </p:nvSpPr>
        <p:spPr>
          <a:xfrm>
            <a:off x="8337600" y="4194000"/>
            <a:ext cx="479520" cy="8859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AutoShape 13"/>
          <p:cNvSpPr/>
          <p:nvPr/>
        </p:nvSpPr>
        <p:spPr>
          <a:xfrm>
            <a:off x="8859960" y="4803840"/>
            <a:ext cx="191880" cy="27468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1187280" y="4622760"/>
            <a:ext cx="416160" cy="46188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AutoShape 15"/>
          <p:cNvSpPr/>
          <p:nvPr/>
        </p:nvSpPr>
        <p:spPr>
          <a:xfrm>
            <a:off x="1681200" y="4911840"/>
            <a:ext cx="414360" cy="1728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AutoShape 16"/>
          <p:cNvSpPr/>
          <p:nvPr/>
        </p:nvSpPr>
        <p:spPr>
          <a:xfrm>
            <a:off x="2104920" y="4768920"/>
            <a:ext cx="265320" cy="31572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2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1590840" y="50760"/>
            <a:ext cx="7553160" cy="4269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1440" y="550800"/>
            <a:ext cx="9142560" cy="4269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0" y="1060560"/>
            <a:ext cx="9144000" cy="4255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20720" y="1558800"/>
            <a:ext cx="8423280" cy="427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2298600"/>
            <a:ext cx="7566120" cy="4269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3122640" y="2787480"/>
            <a:ext cx="6021360" cy="427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3749760" y="3336840"/>
            <a:ext cx="5394240" cy="4255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1260360" y="3962520"/>
            <a:ext cx="7883640" cy="4269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755640" y="4441680"/>
            <a:ext cx="8388360" cy="427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3240" y="5052960"/>
            <a:ext cx="8292960" cy="4269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4173480" y="5522760"/>
            <a:ext cx="4970520" cy="427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2316240" y="6165720"/>
            <a:ext cx="6827760" cy="427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3921480" y="2092320"/>
            <a:ext cx="3614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Century Gothic"/>
              </a:rPr>
              <a:t>erful </a:t>
            </a:r>
            <a:endParaRPr b="0" lang="en-US" sz="1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1316880" y="1484280"/>
            <a:ext cx="2971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Century Gothic"/>
              </a:rPr>
              <a:t>Pow</a:t>
            </a:r>
            <a:endParaRPr b="0" lang="en-US" sz="1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Text Box 16"/>
          <p:cNvSpPr/>
          <p:nvPr/>
        </p:nvSpPr>
        <p:spPr>
          <a:xfrm rot="420000">
            <a:off x="6292080" y="259920"/>
            <a:ext cx="1040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Century Gothic"/>
              </a:rPr>
              <a:t>p</a:t>
            </a:r>
            <a:endParaRPr b="0" lang="en-US" sz="1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Text Box 17"/>
          <p:cNvSpPr/>
          <p:nvPr/>
        </p:nvSpPr>
        <p:spPr>
          <a:xfrm>
            <a:off x="5607720" y="3789360"/>
            <a:ext cx="32925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ffff"/>
                </a:solidFill>
                <a:latin typeface="Century Gothic"/>
              </a:rPr>
              <a:t>free</a:t>
            </a:r>
            <a:endParaRPr b="0" lang="en-US" sz="1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2160" y="580536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1a5e9"/>
                </a:solidFill>
                <a:latin typeface="Century Gothic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1a5e9"/>
                </a:solidFill>
                <a:latin typeface="Century Gothic"/>
              </a:rPr>
              <a:t>Powerful&amp;fre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1918440" y="558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Text Box 20"/>
          <p:cNvSpPr/>
          <p:nvPr/>
        </p:nvSpPr>
        <p:spPr>
          <a:xfrm>
            <a:off x="834120" y="3645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3448080" y="33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Text Box 22"/>
          <p:cNvSpPr/>
          <p:nvPr/>
        </p:nvSpPr>
        <p:spPr>
          <a:xfrm>
            <a:off x="1413360" y="-20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10840" y="176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384624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Text Box 25"/>
          <p:cNvSpPr/>
          <p:nvPr/>
        </p:nvSpPr>
        <p:spPr>
          <a:xfrm>
            <a:off x="4111200" y="5654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Text Box 26"/>
          <p:cNvSpPr/>
          <p:nvPr/>
        </p:nvSpPr>
        <p:spPr>
          <a:xfrm>
            <a:off x="8111520" y="2349360"/>
            <a:ext cx="762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Text Box 27"/>
          <p:cNvSpPr/>
          <p:nvPr/>
        </p:nvSpPr>
        <p:spPr>
          <a:xfrm>
            <a:off x="4002480" y="4680"/>
            <a:ext cx="4489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Century Gothic"/>
              </a:rPr>
              <a:t>Sim  le</a:t>
            </a:r>
            <a:endParaRPr b="0" lang="en-US" sz="1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-9360" y="2787480"/>
            <a:ext cx="2112840" cy="427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Text Box 29"/>
          <p:cNvSpPr/>
          <p:nvPr/>
        </p:nvSpPr>
        <p:spPr>
          <a:xfrm>
            <a:off x="2462760" y="6140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  <a:ea typeface="华文细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9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0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5129280" y="3825720"/>
            <a:ext cx="1027080" cy="1027440"/>
          </a:xfrm>
          <a:custGeom>
            <a:avLst/>
            <a:gdLst>
              <a:gd name="textAreaLeft" fmla="*/ 50040 w 1027080"/>
              <a:gd name="textAreaRight" fmla="*/ 977040 w 1027080"/>
              <a:gd name="textAreaTop" fmla="*/ 50040 h 1027440"/>
              <a:gd name="textAreaBottom" fmla="*/ 977400 h 102744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974880" y="0"/>
            <a:ext cx="2447640" cy="33717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974880" y="5448240"/>
            <a:ext cx="2447640" cy="14097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49320" y="2276640"/>
            <a:ext cx="304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ff"/>
                </a:solidFill>
                <a:latin typeface="Century Gothic"/>
              </a:rPr>
              <a:t>WPS</a:t>
            </a:r>
            <a:endParaRPr b="0" lang="en-US" sz="9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894600" y="3470400"/>
            <a:ext cx="421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21a5e9"/>
                </a:solidFill>
                <a:latin typeface="Century Gothic"/>
              </a:rPr>
              <a:t>Simple</a:t>
            </a:r>
            <a:endParaRPr b="0" lang="en-US" sz="10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5529240" y="37893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entury Gothic"/>
              </a:rPr>
              <a:t>jia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5354280" y="3954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entury Gothic"/>
              </a:rPr>
              <a:t>简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3001320" y="5370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0" y="5734080"/>
            <a:ext cx="9144000" cy="792000"/>
          </a:xfrm>
          <a:prstGeom prst="flowChartProcess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6084720" y="5878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WP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6734520" y="58784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--Simp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Line 5"/>
          <p:cNvSpPr/>
          <p:nvPr/>
        </p:nvSpPr>
        <p:spPr>
          <a:xfrm>
            <a:off x="8172360" y="5734080"/>
            <a:ext cx="1800" cy="79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8388720" y="5862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2398680" y="48434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a5e9"/>
                </a:solidFill>
                <a:latin typeface="Century Gothic"/>
              </a:rPr>
              <a:t>简约不简单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AutoShape 8"/>
          <p:cNvSpPr/>
          <p:nvPr/>
        </p:nvSpPr>
        <p:spPr>
          <a:xfrm rot="5400000">
            <a:off x="2344320" y="-677880"/>
            <a:ext cx="1793880" cy="311148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3111480"/>
              <a:gd name="textAreaBottom" fmla="*/ 3111840 h 31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59" y="0"/>
                </a:lnTo>
                <a:lnTo>
                  <a:pt x="21600" y="10800"/>
                </a:lnTo>
                <a:lnTo>
                  <a:pt x="153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535120" y="6206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WPS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AutoShape 10"/>
          <p:cNvSpPr/>
          <p:nvPr/>
        </p:nvSpPr>
        <p:spPr>
          <a:xfrm rot="5400000">
            <a:off x="2334240" y="753120"/>
            <a:ext cx="1816200" cy="310032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3100320"/>
              <a:gd name="textAreaBottom" fmla="*/ 3100680 h 31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73" y="0"/>
                </a:lnTo>
                <a:lnTo>
                  <a:pt x="21600" y="10800"/>
                </a:lnTo>
                <a:lnTo>
                  <a:pt x="15273" y="21600"/>
                </a:lnTo>
                <a:lnTo>
                  <a:pt x="0" y="21600"/>
                </a:lnTo>
                <a:lnTo>
                  <a:pt x="6327" y="10800"/>
                </a:lnTo>
                <a:close/>
              </a:path>
            </a:pathLst>
          </a:cu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AutoShape 11"/>
          <p:cNvSpPr/>
          <p:nvPr/>
        </p:nvSpPr>
        <p:spPr>
          <a:xfrm rot="5400000">
            <a:off x="2334600" y="2192760"/>
            <a:ext cx="1815840" cy="3100320"/>
          </a:xfrm>
          <a:custGeom>
            <a:avLst/>
            <a:gdLst>
              <a:gd name="textAreaLeft" fmla="*/ 0 w 1815840"/>
              <a:gd name="textAreaRight" fmla="*/ 1816200 w 1815840"/>
              <a:gd name="textAreaTop" fmla="*/ 0 h 3100320"/>
              <a:gd name="textAreaBottom" fmla="*/ 3100680 h 31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73" y="0"/>
                </a:lnTo>
                <a:lnTo>
                  <a:pt x="21600" y="10800"/>
                </a:lnTo>
                <a:lnTo>
                  <a:pt x="15273" y="21600"/>
                </a:lnTo>
                <a:lnTo>
                  <a:pt x="0" y="21600"/>
                </a:lnTo>
                <a:lnTo>
                  <a:pt x="6327" y="10800"/>
                </a:lnTo>
                <a:close/>
              </a:path>
            </a:pathLst>
          </a:cu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2535120" y="369252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entury Gothic"/>
              </a:rPr>
              <a:t>简捷操作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35120" y="228276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简洁界面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Text Box 14"/>
          <p:cNvSpPr/>
          <p:nvPr/>
        </p:nvSpPr>
        <p:spPr>
          <a:xfrm>
            <a:off x="8540640" y="56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638" name="AutoShape 15"/>
          <p:cNvCxnSpPr/>
          <p:nvPr/>
        </p:nvCxnSpPr>
        <p:spPr>
          <a:xfrm flipV="1">
            <a:off x="3241800" y="1374120"/>
            <a:ext cx="5294880" cy="1835640"/>
          </a:xfrm>
          <a:prstGeom prst="straightConnector1">
            <a:avLst/>
          </a:prstGeom>
          <a:ln w="9360">
            <a:solidFill>
              <a:srgbClr val="21a5e9"/>
            </a:solidFill>
            <a:miter/>
          </a:ln>
        </p:spPr>
      </p:cxnSp>
      <p:cxnSp>
        <p:nvCxnSpPr>
          <p:cNvPr id="639" name="AutoShape 16"/>
          <p:cNvCxnSpPr/>
          <p:nvPr/>
        </p:nvCxnSpPr>
        <p:spPr>
          <a:xfrm flipV="1">
            <a:off x="3241800" y="2815560"/>
            <a:ext cx="5294880" cy="1816920"/>
          </a:xfrm>
          <a:prstGeom prst="straightConnector1">
            <a:avLst/>
          </a:prstGeom>
          <a:ln w="9360">
            <a:solidFill>
              <a:srgbClr val="21a5e9"/>
            </a:solidFill>
            <a:miter/>
          </a:ln>
        </p:spPr>
      </p:cxnSp>
      <p:sp>
        <p:nvSpPr>
          <p:cNvPr id="640" name="Text Box 17"/>
          <p:cNvSpPr/>
          <p:nvPr/>
        </p:nvSpPr>
        <p:spPr>
          <a:xfrm rot="20460000">
            <a:off x="6608160" y="16966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1a5e9"/>
                </a:solidFill>
                <a:latin typeface="Century Gothic"/>
              </a:rPr>
              <a:t>直观、简而美的界面设计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Text Box 18"/>
          <p:cNvSpPr/>
          <p:nvPr/>
        </p:nvSpPr>
        <p:spPr>
          <a:xfrm rot="20460000">
            <a:off x="6120000" y="30686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1a5e9"/>
                </a:solidFill>
                <a:latin typeface="Century Gothic"/>
              </a:rPr>
              <a:t>人性化界面设计让操作更快捷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252360" y="4437000"/>
            <a:ext cx="1008000" cy="24210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1332000" y="5425920"/>
            <a:ext cx="1008000" cy="14796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2517840" y="4991040"/>
            <a:ext cx="1008000" cy="191448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3565440" y="3357720"/>
            <a:ext cx="1006560" cy="35478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4645080" y="3357720"/>
            <a:ext cx="1008000" cy="35478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5724360" y="6377040"/>
            <a:ext cx="1008360" cy="52848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6734160" y="2982960"/>
            <a:ext cx="1008000" cy="39225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7885080" y="1866960"/>
            <a:ext cx="1008000" cy="504036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252360" y="-22320"/>
            <a:ext cx="1008000" cy="43344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Rectangle 11"/>
          <p:cNvSpPr/>
          <p:nvPr/>
        </p:nvSpPr>
        <p:spPr>
          <a:xfrm>
            <a:off x="1332000" y="0"/>
            <a:ext cx="1008000" cy="8478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2519280" y="0"/>
            <a:ext cx="1008000" cy="7632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418680" y="3998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1a5e9"/>
                </a:solidFill>
                <a:latin typeface="Century Gothic"/>
              </a:rPr>
              <a:t>体积虽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Text Box 14"/>
          <p:cNvSpPr/>
          <p:nvPr/>
        </p:nvSpPr>
        <p:spPr>
          <a:xfrm>
            <a:off x="4729320" y="2949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1a5e9"/>
                </a:solidFill>
                <a:latin typeface="Century Gothic"/>
              </a:rPr>
              <a:t>却设计精巧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1515600" y="83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1a5e9"/>
                </a:solidFill>
                <a:latin typeface="Century Gothic"/>
              </a:rPr>
              <a:t>面面俱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Text Box 16"/>
          <p:cNvSpPr/>
          <p:nvPr/>
        </p:nvSpPr>
        <p:spPr>
          <a:xfrm>
            <a:off x="8051400" y="1413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1a5e9"/>
                </a:solidFill>
                <a:latin typeface="Century Gothic"/>
              </a:rPr>
              <a:t>功能强大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Text Box 17"/>
          <p:cNvSpPr/>
          <p:nvPr/>
        </p:nvSpPr>
        <p:spPr>
          <a:xfrm>
            <a:off x="3641760" y="126828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1a5e9"/>
                </a:solidFill>
                <a:latin typeface="Century Gothic"/>
              </a:rPr>
              <a:t>WP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Text Box 18"/>
          <p:cNvSpPr/>
          <p:nvPr/>
        </p:nvSpPr>
        <p:spPr>
          <a:xfrm>
            <a:off x="3625920" y="1514520"/>
            <a:ext cx="18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1a5e9"/>
                </a:solidFill>
                <a:latin typeface="Century Gothic"/>
              </a:rPr>
              <a:t>Powerfu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Text Box 19"/>
          <p:cNvSpPr/>
          <p:nvPr/>
        </p:nvSpPr>
        <p:spPr>
          <a:xfrm>
            <a:off x="5335560" y="1268280"/>
            <a:ext cx="3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3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6559560" y="29829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a5e9"/>
                </a:solidFill>
                <a:latin typeface="Century Gothic"/>
              </a:rPr>
              <a:t>多样的操作方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9267840" y="298296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a5e9"/>
                </a:solidFill>
                <a:latin typeface="Century Gothic"/>
              </a:rPr>
              <a:t>海量的设计素材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9144000" y="2982960"/>
            <a:ext cx="26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a5e9"/>
                </a:solidFill>
                <a:latin typeface="Century Gothic"/>
              </a:rPr>
              <a:t>丰富的功能组合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9144000" y="298296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a5e9"/>
                </a:solidFill>
                <a:latin typeface="Century Gothic"/>
              </a:rPr>
              <a:t>让学习、工作、娱乐更自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3976560" y="2631960"/>
            <a:ext cx="13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1a5e9"/>
                </a:solidFill>
                <a:latin typeface="Century Gothic"/>
              </a:rPr>
              <a:t>WP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851280" y="2637000"/>
            <a:ext cx="15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1a5e9"/>
                </a:solidFill>
                <a:latin typeface="Century Gothic"/>
              </a:rPr>
              <a:t> </a:t>
            </a:r>
            <a:r>
              <a:rPr b="0" lang="zh-CN" sz="4000" spc="-1" strike="noStrike">
                <a:solidFill>
                  <a:srgbClr val="21a5e9"/>
                </a:solidFill>
                <a:latin typeface="Century Gothic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5029200" y="2611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1a5e9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722 0.006296 L -1.040903 0.006296 E">
                                      <p:cBhvr>
                                        <p:cTn id="275" dur="95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63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046736 0.006296 L -1.338194 0.006296 E">
                                      <p:cBhvr>
                                        <p:cTn id="277" dur="95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 0.006296 L -1.360972 0.006296 E">
                                      <p:cBhvr>
                                        <p:cTn id="279" dur="95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35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0.055764 0.006296 L -1.504792 0.006296 E">
                                      <p:cBhvr>
                                        <p:cTn id="281" dur="95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395280" y="0"/>
            <a:ext cx="2736720" cy="68580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Rectangle 3"/>
          <p:cNvSpPr/>
          <p:nvPr/>
        </p:nvSpPr>
        <p:spPr>
          <a:xfrm flipH="1">
            <a:off x="3120480" y="0"/>
            <a:ext cx="75960" cy="6858000"/>
          </a:xfrm>
          <a:prstGeom prst="rect">
            <a:avLst/>
          </a:prstGeom>
          <a:solidFill>
            <a:srgbClr val="21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306072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971640" y="2171880"/>
            <a:ext cx="17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entury Gothic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977760" y="24861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entury Gothic"/>
                <a:ea typeface="华文细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6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30:14Z</dcterms:modified>
  <cp:revision>1</cp:revision>
  <dc:subject/>
  <dc:title>PowerPoint 演示文稿</dc:title>
</cp:coreProperties>
</file>