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725-151A-4D16-9E40-4DED9D97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EA9-C026-452A-A843-33CD2B78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AEC-B562-4A24-B757-D5F5C63C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A9B-FDC2-41FF-92DF-0FBF4853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FD3-8638-4E68-97B1-E5A0FC64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65CC-0937-411C-8152-B2D7A2A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A48-4A19-4138-AFBD-DAB67D33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7339-F819-4B37-B8CF-D137817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D1A0-F06C-4020-A973-649E492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4043-F1A7-4FC5-9643-B866D1C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3A0-695B-4779-830B-300504C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70F-F2F2-49EE-A072-0F5BC0D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3C5-6B07-47BF-B1F7-466AB2AB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C30-E5D7-47E7-AB33-88564BE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3D24-B9FD-45EE-8E71-8C64AAB9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595-6AFA-4EC9-86C2-AECDA4BF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D420-79FD-4571-8904-F2A0D8EB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117D-3CCF-430C-9E0F-BAAC11A9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9E0D-A6E3-4CB2-981F-E032D51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0FA3-A83E-40FF-8A4F-FA133F2D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2867-1E8E-4B54-B92F-D26A437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84E6-3739-4460-A0BB-7AE72ECE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B90-9F5C-4E73-9E62-659E99A0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E967-1F67-42E7-A9B7-FF86F5E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16EE-E160-4A02-B796-B3A6268B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6D34-E31E-49F7-B987-BC9BE5C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1B1A-0973-4311-AE91-5900A93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EC63-91D9-46C0-95DE-68B7154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B8A7-9AAF-47F8-9343-56678964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381A-EA6B-47CA-975F-D2FBEDEC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B01-DD66-4AC7-8EC8-A9069BF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832-2429-4948-940B-205F5950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DB5-251C-4601-B7CF-ED235625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987-8C9D-439D-AD47-CB6FF27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581-89D5-4791-A20E-EF17D81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44F-BEEC-4861-B1BA-B9863E1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3D0A-3F66-481E-AB0D-2EA6CFF389A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291-1CDB-4BEC-99A7-2F1F8A07EC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C59-6DF0-404C-BFDF-16FB08161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756D-8669-4744-AD57-70C97A7542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标题-1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未标题-2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19640" y="14176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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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OOK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OK"/>
                <a:ea typeface="BROOK"/>
              </a:rPr>
              <a:t>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未标题-3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2492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OK"/>
                <a:ea typeface="BROOK"/>
              </a:rPr>
              <a:t>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未标题-4"/>
          <p:cNvPicPr/>
          <p:nvPr/>
        </p:nvPicPr>
        <p:blipFill>
          <a:blip r:embed="rId1"/>
          <a:srcRect l="0" t="0" r="11505" b="0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979640" y="476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OK"/>
                <a:ea typeface="BROOK"/>
              </a:rPr>
              <a:t>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9640" y="170028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是一种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，所谓的简约而不简单，就是这样一种工作的境界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工作如果太复杂，便会生出许多抱怨与牢骚。那简单的工作到底是怎样的？这个问题没有统一的答案，它是因人而异的，每个人都有自己的评判标准。简单的工作，它既包含物质上的简单，更包括精神上的简约。要想拥有简单的工作，必须具备一颗单纯、平常之心，能辩证地看待得与失，不强求那些不属于自己的东西，不制定不切实际的目标，不在没有意义的事情上浪费精力，放慢生活的脚步，多一份平和，少一份焦虑，多一份坦荡，少一份虚伪，多一份快乐，少一份愁苦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人生苦短，工作是一种追求，是一种理想的寄托，我们并不需要太多的争斗与抱怨，更多的是一份简单，一份轻松自由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标题-2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谢谢聆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29:49Z</dcterms:modified>
  <cp:revision>1</cp:revision>
  <dc:subject/>
  <dc:title>PowerPoint 演示文稿</dc:title>
</cp:coreProperties>
</file>