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3BF1-837E-46D9-9B6F-9DEEA1F89B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本模板包含特殊字体：汉仪菱心体简、方正幼线简体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为了保证文本框可编辑，特殊字体部分并未被替换成图片；如果像预览本作品完整设计效果，您需要安装以上字体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DBEB-F042-492A-848F-9C83C03BF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05AE-3269-4140-A0F8-83C0A23F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1825-0E89-4783-9DEF-75CD5585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17B-7417-437F-A93D-070805E8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4D7E-1E04-4BBD-89BF-B60B49A4F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61668-F2A0-4E83-A182-42BD46F49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3FE8-8BF8-4809-AA9E-4755346F6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8B807-7832-49E6-A515-E0EEA8223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ACEAD-89D9-43AE-872E-44B2B830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153C-9FCE-4C44-B818-A3F0F978E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59D4E-94A0-4D3A-AB73-240ECD7E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D9FF5-87C0-4CAA-BD6D-7BB37059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BB44-11C3-471A-AE76-69F4B38F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87FE-81CC-4DFD-8219-D9C97C0D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EEA9B-0460-4E4D-ADA2-094E1CF4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827FB-5A5A-43CD-9762-4439686C5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0AD6-1FEE-48D7-8655-597A94840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391E-8B20-4F90-90C8-67A050143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8971-081B-4E53-BA04-F9FE606D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6648-1767-4797-A670-B4F8A3FD3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6E17-DDD9-4456-AF29-6B463056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F27-A911-4CE1-94FC-2203C0F8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A3540-E5E1-4B21-8942-8266EF43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825E-718A-4928-A587-08F9092BE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FEA4-0B89-4A8D-803D-254C063157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4ADD-5096-46FD-8297-5DD9FE2DF33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37B7-0704-4546-8B8A-E0B8F869293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3413160" y="836640"/>
            <a:ext cx="5838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汉仪菱心体简"/>
              </a:rPr>
              <a:t>设计的思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504760" y="1585800"/>
            <a:ext cx="246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3300"/>
                </a:solidFill>
                <a:latin typeface="Arial"/>
              </a:rPr>
              <a:t>SHEJIDESI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1440" y="2714760"/>
            <a:ext cx="9142560" cy="41767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915800" y="346716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汉仪菱心体简"/>
                <a:ea typeface="汉仪菱心体简"/>
              </a:rPr>
              <a:t>认真 细心 仔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1190880" y="5407200"/>
            <a:ext cx="213156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汉仪菱心体简"/>
              </a:rPr>
              <a:t>一个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方正幼线简体"/>
              </a:rPr>
              <a:t>可能改变你的结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856080" y="6206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00"/>
                </a:solidFill>
                <a:latin typeface="Arial"/>
                <a:ea typeface="方正正中黑简体"/>
              </a:rPr>
              <a:t>精心打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92360" y="1773360"/>
            <a:ext cx="70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幼圆"/>
              </a:rPr>
              <a:t>一、仔细的跟客户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幼圆"/>
              </a:rPr>
              <a:t>二、分析客户的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幼圆"/>
              </a:rPr>
              <a:t>三、根据分析的结果制定实施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幼圆"/>
              </a:rPr>
              <a:t>四、根据方案完成设计并交付客户审核稿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  <a:ea typeface="幼圆"/>
              </a:rPr>
              <a:t>五、积极的跟客户沟通直至设计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3"/>
              <p:cNvSpPr txBox="1"/>
              <p:nvPr/>
            </p:nvSpPr>
            <p:spPr>
              <a:xfrm>
                <a:off x="4114800" y="3755880"/>
                <a:ext cx="114480" cy="2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7" name="Rectangle 4"/>
          <p:cNvSpPr/>
          <p:nvPr/>
        </p:nvSpPr>
        <p:spPr>
          <a:xfrm>
            <a:off x="1440" y="303120"/>
            <a:ext cx="914256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641160" y="857160"/>
            <a:ext cx="1617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8080"/>
                </a:solidFill>
                <a:latin typeface="Arial Black"/>
              </a:rPr>
              <a:t>ON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 flipV="1">
            <a:off x="1440" y="6092280"/>
            <a:ext cx="914256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8245440" y="5300640"/>
            <a:ext cx="287280" cy="254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8388360" y="5373720"/>
            <a:ext cx="50472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937520" y="19177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Berlin Sans FB Demi"/>
                <a:ea typeface="幼圆"/>
              </a:rPr>
              <a:t>一、仔细的跟客户沟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3652200" y="2565360"/>
            <a:ext cx="2771280" cy="2990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询问客户的具体要求或客户本身的构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向客户索要设计过程中所需要的内容（文字、图像、视频等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在交流的过程中告诉客户本身不可行的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4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联系方式方便以后做进一步的交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0" y="303120"/>
            <a:ext cx="914400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 flipV="1">
            <a:off x="1440" y="6092280"/>
            <a:ext cx="917892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8245440" y="5300640"/>
            <a:ext cx="287280" cy="254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8388360" y="5373720"/>
            <a:ext cx="50472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2634480" y="1917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二、分析客户的要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093760" y="2565360"/>
            <a:ext cx="2649600" cy="17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整理客户的要求仔细分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分析客户想要达到一种什么样的结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分析设计与客户要求结果可行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303120"/>
            <a:ext cx="914076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 flipV="1">
            <a:off x="1440" y="6092280"/>
            <a:ext cx="917892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8245440" y="5300640"/>
            <a:ext cx="287280" cy="254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8388360" y="5373720"/>
            <a:ext cx="50472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1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3548880" y="1917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三、根据分析的结果制定实施方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040200" y="2565360"/>
            <a:ext cx="448920" cy="17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整理分析结果制定可行性方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根据方案进行分配任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随时根据要求进行调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303120"/>
            <a:ext cx="914400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 flipV="1">
            <a:off x="1440" y="6092280"/>
            <a:ext cx="917892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8245440" y="5300640"/>
            <a:ext cx="287280" cy="254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8388360" y="5373720"/>
            <a:ext cx="50472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4158360" y="1917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四、根据方案完成设计并交付客户审核稿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802320" y="2565360"/>
            <a:ext cx="448920" cy="1715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根据客户要求完成设计后交付客户进行审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根据客户审阅后的具体要求再次进行修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随时根据要求进行调整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303120"/>
            <a:ext cx="914400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 flipV="1">
            <a:off x="1440" y="6092280"/>
            <a:ext cx="917892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8245440" y="5300640"/>
            <a:ext cx="287280" cy="254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8388360" y="5373720"/>
            <a:ext cx="50472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4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4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3701160" y="191772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Arial"/>
              </a:rPr>
              <a:t>五、积极的跟客户沟通直至设计完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3421080" y="2565360"/>
            <a:ext cx="448920" cy="223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1</a:t>
            </a:r>
            <a:r>
              <a:rPr b="0" lang="zh-CN" sz="2000" spc="-1" strike="noStrike">
                <a:solidFill>
                  <a:srgbClr val="003300"/>
                </a:solidFill>
                <a:latin typeface="幼圆"/>
                <a:ea typeface="幼圆"/>
              </a:rPr>
              <a:t>、积极的跟客户进行及时的额沟通工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2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保证在时间与质量上都达到客户的要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3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直至完成整个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4</a:t>
            </a:r>
            <a:r>
              <a:rPr b="0" lang="zh-CN" sz="1800" spc="-1" strike="noStrike">
                <a:solidFill>
                  <a:srgbClr val="003300"/>
                </a:solidFill>
                <a:latin typeface="幼圆"/>
                <a:ea typeface="幼圆"/>
              </a:rPr>
              <a:t>、交付完成设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303120"/>
            <a:ext cx="914400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 flipV="1">
            <a:off x="1440" y="6092280"/>
            <a:ext cx="917892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8245440" y="5300640"/>
            <a:ext cx="287280" cy="25416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8388360" y="5373720"/>
            <a:ext cx="504720" cy="50328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0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8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8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/>
          <p:cNvSpPr/>
          <p:nvPr/>
        </p:nvSpPr>
        <p:spPr>
          <a:xfrm rot="5400000">
            <a:off x="1834920" y="-1214280"/>
            <a:ext cx="5472360" cy="9142560"/>
          </a:xfrm>
          <a:prstGeom prst="flowChartDelay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3205080" y="285264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汉仪菱心体简"/>
              </a:rPr>
              <a:t>谢谢观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303120"/>
            <a:ext cx="9144000" cy="31752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5"/>
          <p:cNvSpPr/>
          <p:nvPr/>
        </p:nvSpPr>
        <p:spPr>
          <a:xfrm flipV="1">
            <a:off x="1440" y="6092280"/>
            <a:ext cx="9178920" cy="215640"/>
          </a:xfrm>
          <a:prstGeom prst="rect">
            <a:avLst/>
          </a:prstGeom>
          <a:solidFill>
            <a:srgbClr val="0033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 flipV="1">
            <a:off x="627120" y="6092280"/>
            <a:ext cx="700200" cy="21564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8-05T06:31:10Z</dcterms:modified>
  <cp:revision>1</cp:revision>
  <dc:subject/>
  <dc:title>PowerPoint 演示文稿</dc:title>
</cp:coreProperties>
</file>