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07B-D1AE-4AB1-90FF-82D5A958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4A8-D345-4A24-AD80-5632F5BB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03E-1176-4D67-8634-4B350620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286-C1E2-4F51-877F-B8350AA9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5B65-5790-4B1D-8083-AECAA756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10D2-CA8F-413E-8051-F256A222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34FD-1BD0-49F9-BA03-43FDBE79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7304-92B2-4E15-807F-1CC2742A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24E4-E065-4B0F-9A44-4EB385D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C31C-D800-4A5A-ADF6-0B401F34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16EB-34E8-4A3D-9917-61098A8B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34B-C602-4582-82D3-E240E3D8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48C9-E316-4FFB-AF1F-C3BC7BF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E1F7-309F-4013-9E1A-C34F910B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2998-6059-4EFB-B621-997B2FFD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67FF-1CCE-4880-8A9A-0D317A3D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5FDF-D500-4A3B-B3D6-DDF2345A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8E7-DA25-4398-B411-AC78F7E2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D48-551D-4EFF-B46F-B4EDA8B1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8DC-721A-4196-96D5-E3F004A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6E7-34F5-44B7-8223-505B269F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88B-0ECF-4271-8ABA-8083EAD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358-E0B9-4AC3-A5C4-6CB5795F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DD3-6491-48FD-980C-53BD0E2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78B0-10F5-4CFA-B5C2-4E530EA1E1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C8A1-7528-4693-A6CE-FD0DFF987E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CA61-6D1D-4C6F-8AA3-82CC79638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23"/>
          <p:cNvPicPr/>
          <p:nvPr/>
        </p:nvPicPr>
        <p:blipFill>
          <a:blip r:embed="rId1"/>
          <a:stretch/>
        </p:blipFill>
        <p:spPr>
          <a:xfrm>
            <a:off x="1440" y="-74520"/>
            <a:ext cx="9144000" cy="6933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"/>
          <p:cNvPicPr/>
          <p:nvPr/>
        </p:nvPicPr>
        <p:blipFill>
          <a:blip r:embed="rId2"/>
          <a:stretch/>
        </p:blipFill>
        <p:spPr>
          <a:xfrm>
            <a:off x="1260360" y="-74520"/>
            <a:ext cx="6777000" cy="6773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209760" y="4438800"/>
            <a:ext cx="33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标     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-31680" y="-22320"/>
            <a:ext cx="9212040" cy="6880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2"/>
          <p:cNvPicPr/>
          <p:nvPr/>
        </p:nvPicPr>
        <p:blipFill>
          <a:blip r:embed="rId1"/>
          <a:stretch/>
        </p:blipFill>
        <p:spPr>
          <a:xfrm>
            <a:off x="-31680" y="-22320"/>
            <a:ext cx="2873160" cy="2874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4222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  <a:ea typeface="微软雅黑"/>
              </a:rPr>
              <a:t>标题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31680" y="-22320"/>
            <a:ext cx="9212040" cy="6880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2"/>
          <p:cNvPicPr/>
          <p:nvPr/>
        </p:nvPicPr>
        <p:blipFill>
          <a:blip r:embed="rId1"/>
          <a:stretch/>
        </p:blipFill>
        <p:spPr>
          <a:xfrm>
            <a:off x="2052720" y="365040"/>
            <a:ext cx="5008320" cy="50086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4151160" y="3645000"/>
            <a:ext cx="142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微软雅黑"/>
              </a:rPr>
              <a:t>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9:06:07Z</dcterms:created>
  <dc:creator>ks13434</dc:creator>
  <dc:description/>
  <cp:keywords/>
  <dc:language>en-US</dc:language>
  <cp:lastModifiedBy>a</cp:lastModifiedBy>
  <dcterms:modified xsi:type="dcterms:W3CDTF">2014-07-26T07:12:4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