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FA6C-9ED8-4FF2-B676-B9D01BA5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6050-754E-4DAF-8A28-D189CBA8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82B8-3608-4B77-88E8-481435AFB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2FA9-17B3-4071-AF9E-8D980A9DB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5123-EE46-459A-8CA1-442AE082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A27C-7156-4D17-A9ED-378F9CD9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C0B3-9B92-4B4E-9DAC-899FDFE3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0726-7CE4-48F9-B035-9C0BEA28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6384-4DE4-4FF8-AA30-7694537A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9B3B-818C-4C98-9C3D-D8DF55C3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33FD-2D18-4C9F-AEBC-399AAE81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2DFD-2A70-4F73-973A-3D4CF714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CB9D-7B07-4E84-BCDF-8911006A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7CA3-6078-4A4F-8A6A-279FE63B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B7EE-EC40-4C7D-86EF-ED1C02A5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9627-C130-45F4-87B4-F1E67D1F5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8FC6-4079-491C-8037-1C303A170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CE93-8F75-4DEB-ACA3-B374E524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7D18-23D8-4292-99E7-3C261C6B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948A-3A7F-4043-942A-BE2C6DEE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54AB-42E1-4673-9CFC-B3E1DBAC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D2E0-7628-476E-BBB3-F4D24ABD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589A-9619-4963-9BF6-A0F8B023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6C79-D399-4E9F-BA72-C419558D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7214-5B8A-470F-B17F-4760E6D666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A920-1E72-4660-AAF8-F83F6858439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96F6-B3DE-40CE-9B64-E9EA56AF3D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123"/>
          <p:cNvPicPr/>
          <p:nvPr/>
        </p:nvPicPr>
        <p:blipFill>
          <a:blip r:embed="rId1"/>
          <a:stretch/>
        </p:blipFill>
        <p:spPr>
          <a:xfrm>
            <a:off x="-31680" y="189000"/>
            <a:ext cx="9139320" cy="7100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123"/>
          <p:cNvPicPr/>
          <p:nvPr/>
        </p:nvPicPr>
        <p:blipFill>
          <a:blip r:embed="rId2"/>
          <a:stretch/>
        </p:blipFill>
        <p:spPr>
          <a:xfrm>
            <a:off x="338040" y="44280"/>
            <a:ext cx="9202680" cy="6147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0" y="-22320"/>
            <a:ext cx="9107640" cy="5000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6380280"/>
            <a:ext cx="9107640" cy="504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771640" y="4581360"/>
            <a:ext cx="3745080" cy="648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123"/>
          <p:cNvPicPr/>
          <p:nvPr/>
        </p:nvPicPr>
        <p:blipFill>
          <a:blip r:embed="rId3"/>
          <a:stretch/>
        </p:blipFill>
        <p:spPr>
          <a:xfrm>
            <a:off x="539640" y="3571920"/>
            <a:ext cx="5295960" cy="3529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3857760" y="4638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Arial"/>
                <a:ea typeface="华文隶书"/>
              </a:rPr>
              <a:t>蛇年快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123"/>
          <p:cNvPicPr/>
          <p:nvPr/>
        </p:nvPicPr>
        <p:blipFill>
          <a:blip r:embed="rId1"/>
          <a:stretch/>
        </p:blipFill>
        <p:spPr>
          <a:xfrm>
            <a:off x="-31680" y="44280"/>
            <a:ext cx="9139320" cy="7101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0" y="-22320"/>
            <a:ext cx="9107640" cy="5000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6380280"/>
            <a:ext cx="9107640" cy="504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539640" y="549360"/>
            <a:ext cx="3745080" cy="64764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123"/>
          <p:cNvPicPr/>
          <p:nvPr/>
        </p:nvPicPr>
        <p:blipFill>
          <a:blip r:embed="rId2"/>
          <a:stretch/>
        </p:blipFill>
        <p:spPr>
          <a:xfrm>
            <a:off x="-2335320" y="-958680"/>
            <a:ext cx="690408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123"/>
          <p:cNvPicPr/>
          <p:nvPr/>
        </p:nvPicPr>
        <p:blipFill>
          <a:blip r:embed="rId1"/>
          <a:stretch/>
        </p:blipFill>
        <p:spPr>
          <a:xfrm>
            <a:off x="2195640" y="963720"/>
            <a:ext cx="4757760" cy="3564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4091040" y="3573360"/>
            <a:ext cx="105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微软雅黑"/>
              </a:rPr>
              <a:t>谢谢聆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7T09:28:05Z</dcterms:created>
  <dc:creator>ks13434</dc:creator>
  <dc:description/>
  <cp:keywords/>
  <dc:language>en-US</dc:language>
  <cp:lastModifiedBy>a</cp:lastModifiedBy>
  <dcterms:modified xsi:type="dcterms:W3CDTF">2014-08-08T05:02:26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