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E312-3E6F-4D14-80E0-B6CD798F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5EB-5638-4EFB-87D0-8369D4D3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E82C-7A66-422D-83D6-EC1F361C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B77-0A99-4029-816E-3D256A99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B780-D053-4C82-AD65-564DF990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1D9A-42E6-469A-8FF1-EBE1A1B7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8AC3-7C2F-4190-AE4D-9C32C6B3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B7B6-992A-4C67-8985-3B75D53D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5A32-2717-4B80-8F38-3F2A28D5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B79C-AA2D-4382-A1C9-D9295206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A5CD-7A01-4C6B-ACB6-678609AA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3FC-B49E-40B5-9747-5DD529CA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34BA-2FDB-4B70-9FA2-9715472D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7B23-2DF2-41B4-ABA6-FF730038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AE80-E707-404F-82E9-F1153D4B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BDC6-DFAD-4F42-A7B7-41D578E1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EF74-0B9F-4C95-BB91-7BB05A4B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82F30-A528-467C-BE93-BAD48B13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DBDC2-7B74-4446-857A-E4F0354E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1F4AB-F338-452C-AB00-F6873F97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B1C00-B0F3-4F28-88F2-D12CD0C0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A2BF9-93F8-4B3F-A0A7-DE7A06CD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BE7-5200-4BE8-8D4B-54491FFA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B5757-CF0F-4486-A7B9-F181F7A4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D1886-3BBD-4A79-9939-33316F4F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F4399-AE7B-417A-B550-C68F2824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53E8C-9233-409C-9116-148F1CAA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D3768-D3E8-4F9C-8B94-BA165980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5E8A1-4B62-411B-88ED-5A34A771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72D65-6401-400E-9943-810FBC8F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7F5-B8B7-4C96-83A0-D6C266A9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14D-3997-4F30-8A34-BBB119DB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E17-EEC5-4BEF-9C78-91EE557C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D9B-A03D-4B9E-B137-EBAF2F09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31D-63F9-4A67-B78E-D8ABC100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5B6-D6D3-4479-89E1-97536575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71EC-E3C0-4062-B91F-0C03C1B3B110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B3DF-188A-4351-B837-21939522CA8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763C-52E9-4779-9F0F-B8DC2DFF4B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C613-BB40-4C8D-8054-3EA7B9B0F5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index"/>
          <p:cNvPicPr/>
          <p:nvPr/>
        </p:nvPicPr>
        <p:blipFill>
          <a:blip r:embed="rId1"/>
          <a:stretch/>
        </p:blipFill>
        <p:spPr>
          <a:xfrm>
            <a:off x="34920" y="0"/>
            <a:ext cx="91375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文字页ppt3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2173320" y="1631880"/>
            <a:ext cx="48466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标  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专题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专题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专题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文字页ppt4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906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2700360" y="3027240"/>
            <a:ext cx="28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专 题 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5840" y="-20520"/>
            <a:ext cx="9137520" cy="697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文字页ppt2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324000" y="569880"/>
            <a:ext cx="243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专题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图片页ppt1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4T02:42:07Z</dcterms:modified>
  <cp:revision>1</cp:revision>
  <dc:subject/>
  <dc:title>PowerPoint 演示文稿</dc:title>
</cp:coreProperties>
</file>