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A50-B0F1-442C-A7A5-AE2E0010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680-D2C6-4D19-B04B-3DE4A19E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020-B4AB-4F77-BC2B-B257CB2F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BE0-12A8-4BB1-9EE8-8E375908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01EC-9D62-4997-9457-C5E5285D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F473-2768-4FB7-8A4D-93D0870A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A5EA-30A5-4943-BEFA-35B30B18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D696-2CC2-4969-BDFE-1495DAA9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6CAB-3D22-4D87-AEB7-4908CD21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56F6-B7BD-4648-BD25-B7E1B10D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6160-D075-4BB6-BC6E-54E2DE6E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6E1-EEB4-4C8C-803E-BDF356A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52E5-4450-45E2-AE1D-1EC0856D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AFF7-7902-4247-AC54-6AC8B544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9561-EAFA-40AB-AA38-11A2C2AF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09A4-AE72-46AF-8C5D-0B340963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A18F-6620-4448-8260-E6327FEB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C23-452F-4C65-AFBE-D015C596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082-FC24-474E-83FB-A02FE4AD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3F6-1A33-4EBA-AFDD-65585054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B5D-9A8D-4BF4-A239-60833130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494-FDC1-4073-8923-CD4F7DE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4AF-769A-4E3D-B169-B781C9BD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6A4-18D7-46C9-970A-DD1D63CA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AE93-EACE-4B03-A01F-0FC0F9768B7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0FE6-99AC-46E4-A201-0BB7F7466AAE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949-1206-4E6E-ACE3-E01CAA1FB195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6742080" y="410220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91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0099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6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93" name="Group 7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94" name="Group 8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95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Group 13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100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" name="Group 18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105" name="Group 19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106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24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111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5" name="Group 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16" name="Group 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17" name="Group 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18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23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28" name="Group 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29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34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8" name="Group 52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139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003366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54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41" name="Group 55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42" name="Group 56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43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61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48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Group 66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54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72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159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3" name="Group 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64" name="Group 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65" name="Group 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66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71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" name="Group 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76" name="Group 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77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82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6" name="Group 100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87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0066ff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89" name="Group 1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90" name="Group 1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91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96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Group 1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01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02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1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07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1" name="Group 125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12" name="Group 126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13" name="Group 127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14" name="Group 128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15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133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20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4" name="Group 138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25" name="Group 139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26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44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31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5" name="Group 149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36" name="Group 150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37" name="Group 151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38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156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43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7" name="Group 161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48" name="Group 162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49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" name="Group 167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54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58" name="Group 1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59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0066cc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61" name="Group 1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62" name="Group 1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63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Group 1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68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" name="Group 186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273" name="Group 187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274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Group 192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279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4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5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6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87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2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210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297" name="Group 211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298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16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303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7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08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09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0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5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9" name="Group 233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320" name="Group 234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321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239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326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0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00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34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102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36" name="Group 103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37" name="Group 104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38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109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43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7" name="Group 114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48" name="Group 115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49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Group 120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54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8" name="Group 125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59" name="Group 126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60" name="Group 127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61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2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133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67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1" name="Group 138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72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3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Group 144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78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2" name="Group 149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83" name="Group 150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84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5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156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90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4" name="Group 161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95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6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67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01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5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22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0066cc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25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6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28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31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4"/>
          <p:cNvSpPr txBox="1"/>
          <p:nvPr/>
        </p:nvSpPr>
        <p:spPr>
          <a:xfrm>
            <a:off x="6013440" y="356544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6491160" y="4280040"/>
            <a:ext cx="172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444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Box 7"/>
            <p:cNvSpPr/>
            <p:nvPr/>
          </p:nvSpPr>
          <p:spPr>
            <a:xfrm rot="20926800">
              <a:off x="2349720" y="2966040"/>
              <a:ext cx="3889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5:50:54Z</dcterms:created>
  <dc:creator>北京锐得幻演广告有限公司</dc:creator>
  <dc:description/>
  <cp:keywords/>
  <dc:language>en-US</dc:language>
  <cp:lastModifiedBy>a</cp:lastModifiedBy>
  <dcterms:modified xsi:type="dcterms:W3CDTF">2014-07-30T04:53:31Z</dcterms:modified>
  <cp:revision>348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