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C7F-8920-4D94-A527-D2A3227D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48A-CC91-4E97-901D-EC518B08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235-1306-4FEA-9722-A85B247C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5BB-3980-4F3F-9A29-FC59C313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7CFC-E05D-44EF-B1AD-7C450ED0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4FA0-4E59-45A7-899F-ED054ED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EEB1-269A-4D91-A521-557ADEA7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549E-FBA8-4EBA-B301-5EA86166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D3C-C1B7-40A7-ABE4-8C8A1C2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ABBB-0E6E-4AD7-AEC2-E9C6826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A5E-E315-4A64-A651-506FCC0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944-0106-4D21-A43C-5C78EC1E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51F-BAE5-4C74-BB70-4611C90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BA88-DE27-4CB5-AA7B-6D800B6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5A4C-F1F1-49CF-9816-AF086B56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5C2C-7D8D-48BF-8D14-3645461B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AF6D-A59D-468C-B3D4-37146655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080-EC0C-4B15-AB99-8507A3C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794-6909-4976-BC7B-4400AC22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C73-DFCF-480B-B99C-439D4EB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A2F-61D1-46BA-8C33-844866B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6EE-ACAA-4BE4-91F8-9502F66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F78-9EBC-4684-8955-C1622071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3FF-4D9B-4410-8401-47E8674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BD13-44C8-4C57-8A39-503120B8096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E9D-D5E7-4AC5-8D14-938EE23DBE5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A84-14D5-442F-BB90-94244F556EE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365-CEA0-40F7-B890-C16C540F342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PPT资料\PPT素材\图片\JPG\勇敢者的游戏·极限运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780000" y="37958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年终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80000" y="4371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报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1"/>
          <p:cNvSpPr/>
          <p:nvPr/>
        </p:nvSpPr>
        <p:spPr>
          <a:xfrm>
            <a:off x="3708360" y="3795840"/>
            <a:ext cx="0" cy="8650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2"/>
          <p:cNvSpPr/>
          <p:nvPr/>
        </p:nvSpPr>
        <p:spPr>
          <a:xfrm>
            <a:off x="3635280" y="3940200"/>
            <a:ext cx="1800" cy="72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4"/>
          <p:cNvSpPr/>
          <p:nvPr/>
        </p:nvSpPr>
        <p:spPr>
          <a:xfrm>
            <a:off x="755640" y="4660920"/>
            <a:ext cx="2879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自我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56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59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5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62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65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直接连接符 43"/>
          <p:cNvSpPr/>
          <p:nvPr/>
        </p:nvSpPr>
        <p:spPr>
          <a:xfrm>
            <a:off x="2700360" y="138420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7"/>
          <p:cNvSpPr/>
          <p:nvPr/>
        </p:nvSpPr>
        <p:spPr>
          <a:xfrm>
            <a:off x="3556080" y="2392200"/>
            <a:ext cx="497664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49"/>
          <p:cNvSpPr/>
          <p:nvPr/>
        </p:nvSpPr>
        <p:spPr>
          <a:xfrm>
            <a:off x="4368960" y="3400560"/>
            <a:ext cx="4163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54"/>
          <p:cNvSpPr/>
          <p:nvPr/>
        </p:nvSpPr>
        <p:spPr>
          <a:xfrm>
            <a:off x="5175360" y="440856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9B8-A3F3-4AFB-926D-21027557D0F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65160" y="-654120"/>
            <a:ext cx="9282240" cy="5797800"/>
          </a:xfrm>
          <a:prstGeom prst="rect">
            <a:avLst/>
          </a:prstGeom>
          <a:ln w="0">
            <a:noFill/>
          </a:ln>
        </p:spPr>
      </p:pic>
      <p:sp>
        <p:nvSpPr>
          <p:cNvPr id="274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1547640" y="9874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谢聆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5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277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7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279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28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619280" y="41400"/>
            <a:ext cx="450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077920" y="41400"/>
            <a:ext cx="43200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3"/>
          <p:cNvSpPr/>
          <p:nvPr/>
        </p:nvSpPr>
        <p:spPr>
          <a:xfrm>
            <a:off x="663480" y="2747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6"/>
          <p:cNvSpPr/>
          <p:nvPr/>
        </p:nvSpPr>
        <p:spPr>
          <a:xfrm>
            <a:off x="2847960" y="14508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619280" y="41400"/>
            <a:ext cx="11523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21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0" y="1558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2482920" y="15796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7988400" y="1558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0"/>
          <p:cNvSpPr/>
          <p:nvPr/>
        </p:nvSpPr>
        <p:spPr>
          <a:xfrm>
            <a:off x="179280" y="2571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1"/>
          <p:cNvSpPr/>
          <p:nvPr/>
        </p:nvSpPr>
        <p:spPr>
          <a:xfrm>
            <a:off x="179280" y="3363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2"/>
          <p:cNvSpPr/>
          <p:nvPr/>
        </p:nvSpPr>
        <p:spPr>
          <a:xfrm>
            <a:off x="179280" y="4156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在不足与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360云盘\02-个人资料\！PPT图片及版面资源\06-PPT精选插图\03-人物\Business_People_011_1024x683.jpg"/>
          <p:cNvPicPr/>
          <p:nvPr/>
        </p:nvPicPr>
        <p:blipFill>
          <a:blip r:embed="rId1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131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Teliss_Tong\Doing\new\10010-110324145F693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19280" y="41400"/>
            <a:ext cx="266544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619280" y="41400"/>
            <a:ext cx="266544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在不足与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1619280" y="41400"/>
            <a:ext cx="11523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89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8"/>
          <p:cNvSpPr/>
          <p:nvPr/>
        </p:nvSpPr>
        <p:spPr>
          <a:xfrm>
            <a:off x="2482920" y="15796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9"/>
          <p:cNvSpPr/>
          <p:nvPr/>
        </p:nvSpPr>
        <p:spPr>
          <a:xfrm>
            <a:off x="0" y="15595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0"/>
          <p:cNvSpPr/>
          <p:nvPr/>
        </p:nvSpPr>
        <p:spPr>
          <a:xfrm>
            <a:off x="179280" y="2571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1"/>
          <p:cNvSpPr/>
          <p:nvPr/>
        </p:nvSpPr>
        <p:spPr>
          <a:xfrm>
            <a:off x="179280" y="33638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2"/>
          <p:cNvSpPr/>
          <p:nvPr/>
        </p:nvSpPr>
        <p:spPr>
          <a:xfrm>
            <a:off x="179280" y="4156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自我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8172360" y="15595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200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208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211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4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214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217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目标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2" descr="D:\PPT资料\PPT素材\图片\JPG\2013-4.jpg"/>
          <p:cNvPicPr/>
          <p:nvPr/>
        </p:nvPicPr>
        <p:blipFill>
          <a:blip r:embed="rId1"/>
          <a:srcRect l="1217" t="19099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220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34920" y="507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41400"/>
            <a:ext cx="295272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5"/>
          <p:cNvSpPr/>
          <p:nvPr/>
        </p:nvSpPr>
        <p:spPr>
          <a:xfrm>
            <a:off x="2428920" y="1379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0"/>
          <p:cNvSpPr/>
          <p:nvPr/>
        </p:nvSpPr>
        <p:spPr>
          <a:xfrm>
            <a:off x="4589640" y="1379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4"/>
          <p:cNvSpPr/>
          <p:nvPr/>
        </p:nvSpPr>
        <p:spPr>
          <a:xfrm>
            <a:off x="2428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4589640" y="270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0"/>
          <p:cNvSpPr/>
          <p:nvPr/>
        </p:nvSpPr>
        <p:spPr>
          <a:xfrm>
            <a:off x="395280" y="40543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49:20Z</dcterms:created>
  <dc:creator>kingsoft</dc:creator>
  <dc:description/>
  <dc:language>en-US</dc:language>
  <cp:lastModifiedBy>a</cp:lastModifiedBy>
  <dcterms:modified xsi:type="dcterms:W3CDTF">2015-01-12T08:24:48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