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AA0E-A38B-48A7-9C0C-722BF2F8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68E-B2B1-4EB8-85E2-1F3F03D2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69B6B-02F2-4601-A64A-8DDBCDE8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9A482-5857-4F4A-AE6B-4B65A2C3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F8155-9908-4856-BECF-9B6E093E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5F9C6-AB53-4164-A3A2-0F40715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9D714-0519-4F00-B32E-66734AF0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94C90-B53E-4852-ABE8-486562F4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9E9E8-3375-4A7A-B7C8-8788EDEE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A197E-FA90-4A44-BF7B-4F75E2F4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D5A00-980F-4CE1-8E10-15B7B52D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DE44D-9C27-4C17-9F35-4972F898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B31-786E-4035-9060-5B8C3C07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D5716-60E5-493F-8568-F3CF81E7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E75CA-369C-45F2-A346-F9C20B27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B101F-38F2-4282-BE40-8997DB94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26906-7D1D-4E7B-812F-9CC097AA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C7EC8-C636-4554-AB26-2DF13BE3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A0AFD-461D-45D8-BCA2-D0513B9D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09BB8-8FC2-4E52-AD54-68ADB5F6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F9FE7-668E-444F-937F-A4A11D99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DF036-40AD-4234-BE15-C01D899E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88FA6-50E6-4868-8DD6-A1C67EFA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268-7E8B-4D8B-AB17-A82442B1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581D4-BD1B-4360-9A10-9043256F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59803-3B99-4D31-8031-4BB23A9B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FF775-03F5-4E5C-BF54-14F63C53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18E76-C301-491D-A642-5FBE3F88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64627-2565-4514-8B65-71B8C119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FFCCF-0B70-4F69-B4FC-D6E2A1EB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C2382-B58A-413B-BD60-229DC743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8F566-8E1B-4E0C-A7F1-386BFBD0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5D1EF-F699-4185-AD65-3B241672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C94F6-E37E-491D-A602-A7DDB03E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7397-1FCE-42EF-998A-AF7425CA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E38A4-D344-4AE4-B432-8AB2A26C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59533-F36F-4C8B-AE17-3D4840F1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64848-DA78-44A9-98BD-49F1D3F0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5AD73-C636-40B4-B6E5-2386D632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59169-0CC5-462D-89D0-FC85F81B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E6841-CC5A-4CC1-BB11-17264236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3DC35-60D9-4F77-8A07-5A49EDF0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13066-936C-43B8-8034-76377F75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44644-1C92-4D33-9E0D-3F7E2769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6C16E-3F5A-4EC3-BCFB-A5B77508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055B-CCA0-48B9-B16B-EE30FDED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4468E-EDA0-4B24-B8D7-551FC18C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5E298-1D3C-41F3-ACDA-ACE568B5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2B2F8-033F-47F4-B9AC-BC70D6D9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B496E-6853-444C-BB0A-392177FF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C19D6-E14A-416D-8179-2C904D7D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82970-9427-4507-8EE1-CFFD8DE8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7C5DD-5980-493E-A0E7-4103BFFA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01A7E-F0BD-4B16-BF7B-0F3EA172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D3B18-5282-4667-AAAF-86FE96F6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B4531-4C5C-4E6C-A46A-32F661DA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5558-A2AD-41DF-AFBE-14EFA95D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A9183-54FB-4878-A3B2-FE214467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010AA-59CB-401C-A6AA-50863F56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ADF7F-FBAA-45D0-9537-3E86F96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B89B5-CD72-4636-AFF9-AD1E75B0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CDE16-FA81-48ED-8DF4-D9DFC35D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C01DC-B8B9-4B98-8F42-6CD19C6B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973C8-326E-41D9-8906-24EB4C91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0023-527C-4D9B-9FBB-FF5ACE91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BB54-F77D-4757-B120-FEFAB301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693D-EABA-4239-AF27-B6AB5778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0498-9214-48EB-816D-0FE4A34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C55C-7C80-427F-891D-C5D4ACD7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5F38-28C8-467C-A78F-18CA700B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CF1C-9D16-4622-8D25-645DB977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7D7B-F474-4B7D-BB36-E2CBCAED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3E65-0795-4EF4-8185-46149691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C5D6-FB50-4A20-AE67-9501E3CA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5554-5CBF-4C52-BCFE-D4F50D8F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9491B-F519-4B2F-9B7B-5A2D270C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5914-DF98-4C06-BEEA-3023329C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E728-D2E6-43DB-8DE6-9B69F14D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D54EE-78EA-46A0-AA84-F19A04FF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1D4-1E29-470A-B1FE-6A1492F9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A758-3AC8-4205-864B-1CFE70B5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2B05-44A9-4A74-B6D0-AD9A62F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53084-D1AF-4A3B-806D-78E6619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C580-2D80-42A3-8681-68FDCE01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C0D0-205E-47ED-B414-4D2FF4E8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E329-B9BB-4FA7-B290-F9F8538A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0911B-9927-42FE-B0F7-2E197349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9B8C2-B9B5-403D-89E0-592B2C67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CD64E-EF2A-46AE-9610-D746C971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9D12C-9795-47A0-BF13-B5B8E7B9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AC8-618B-420B-9598-9B17E9EB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3AF99-DABE-48DA-9620-BEA05D90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FBA59-1E0C-4307-AD06-02481C57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ED788-BFA7-41B5-A351-4EF31A8B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72B42-528B-4AA3-9D86-4C3FDD23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95D8-68FF-41F2-8E41-B7EB49C5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89AA-B9A4-4835-9671-817D1CB1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9A3B-3E01-47F8-A300-492C9C88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9815-9A00-4D2E-A3BA-E05A24EC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7D7A-6067-4FED-B103-D8E340B0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0996B-62EA-4BE2-8BF2-63525069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873-B242-4CC1-8E78-A10A95A1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241FE-0223-4075-9B02-E2802923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42008-57F8-4151-A7CF-4DFCC7A9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4B99-7DFF-45E0-873A-1F231B22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73D3C-8AA4-41AC-980D-9A280B69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A457C-5EBA-45DC-B1E2-9CA90625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C5E4E-EFDE-4D67-8102-377078D4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8447-9B2C-4587-97DD-E63A1809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0D1E0-58E4-4A3E-AE4C-4B2F7BDB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5A4D0-D9D0-4975-8F45-BE7CBCE4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84A3B-9B29-43B2-89AA-CA76A1CF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220-4CAA-45FA-9D41-FF7CD653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48D47-65B9-4000-9B96-0A62B2B2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DDDD8-88E9-464E-8EE3-F998B638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7FF8B-3BBD-46B4-BA09-74A8E25D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413C5-79F0-4CF6-AC65-899E9CFC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E5220-51ED-4F19-BD7A-C3858092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4D0A6-705E-45A8-BE15-753D959A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74F5E-6380-4490-A8B9-D2DDD024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F415-53B9-4419-A1CE-65725BED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E7C17-A833-464C-91A9-43D162B9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E5203-8EC8-4C5A-94DD-5FE3484D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E7F-9A5A-4B9E-A746-A4B9E467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A4E8D-7B89-42E3-BD36-46C6F5FC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78BCF-8AA9-40A5-9E13-9A07B65A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278E9-BA37-4D6A-B987-6ACB23E8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7B8F0-50D1-493A-9788-BD729ADC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8E1E4-1D84-4706-9EF7-971CCA0E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CE6EC-4F80-4C24-AD22-9C15319F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B54FE-60D5-4CD3-9D3B-A325F973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F1A8E-AA45-4BC0-8380-CD50DDB7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CBBB1-F832-4CFC-B542-3E53AB5E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BAFB3-01DC-4587-9BB6-5A821E2C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AE4-9D55-47FC-B15A-7ECD6733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C90C6-A565-4FF8-B146-EB65255F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B1719-2B28-4997-89C9-91DD96EC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98DA6-2612-469F-B8CD-02B3595A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0764D-2114-4DB9-8AC8-E762B06D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C14DD-98F6-4CE4-8A06-77FDE042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99FC-A6B5-4E90-94C6-088A4521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A8B21-A5AA-42E5-9F6B-65B51E34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5E78C-3E08-4EF4-88E8-281B50E1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D4D11-0CB7-4CC5-9E29-8EB666E5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D809F-592D-48EF-B2C7-EAD774D2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7FB-C1BE-4189-9777-18E8A71E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F1457-8F31-45E3-9A00-ADC9EE9A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E807A-A8B8-48AF-AAA6-3189423D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1CF2A-FF2F-4DF9-8EE8-9A17CE6F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27789-A66D-4803-AD37-DC6355C3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E260E-9B9E-44DB-9F48-776D3D2A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66BDB-2607-4CD3-92BE-D2A828D0D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D5F30-B146-4256-80DF-45A1E1BF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84076-6A89-45E7-BCDA-8F4C0164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7D6F4-0AF7-4096-9DB3-B81E18B5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9E1D2-384F-4800-BDBA-D6B42A97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E7F9-5BB1-471A-8BB2-DCEE5A5E97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E32F-2F13-4685-BFF8-D2E69CDE940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7E0E-D9F4-4808-89AB-2256A745FC9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4722-1CC9-4272-B681-F41EA79DA08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618F-8B39-411C-BAC3-E13F0F6E31D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DC18-82A6-4FCC-BB04-042B27D4D90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2A42-8289-4E9B-A300-E68D737F2FC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A73F-D41F-4A6A-8B4F-7A6BC9E2C19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107F-D54C-4771-B414-99E01070921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EDD6-A35E-46D8-916A-3C45CC59C8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51E2-E12D-4F2C-AA45-4047BE3E64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1707-02D2-43E3-B084-3355CAFB1EF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B46D-EA56-41AB-AB4B-432ACA77924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7A56-4435-4E2A-BBB6-DC7B4D9EB64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6E8E-8555-48C5-837B-F97665C88ED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C376-5D6D-4BB0-8AB5-99A3FE86CEA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9181-71D8-4C5F-A471-82D05186CE7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0EFC-444E-4BAC-AF76-116F8DD7673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9DA4-AB1C-4EBE-94FA-9E686AB9C01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7430-9D49-4BF7-9A8B-3956FF97333A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7258-BFE0-4F00-832E-178834EF9FB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F27E-21C6-445A-BB75-58552F3F8AB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BD1C-733E-425A-8DC8-DE1A66F4B45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CBC0-41CF-4029-BD47-D3244087CD5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C83F-A985-4330-A4D4-CC99123F571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logoW"/>
          <p:cNvPicPr/>
          <p:nvPr/>
        </p:nvPicPr>
        <p:blipFill>
          <a:blip r:embed="rId1"/>
          <a:stretch/>
        </p:blipFill>
        <p:spPr>
          <a:xfrm>
            <a:off x="2505240" y="2357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4621320" y="2691720"/>
            <a:ext cx="575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473720" y="4156200"/>
            <a:ext cx="17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6296040" y="4156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8791560" y="414036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Line 7"/>
          <p:cNvSpPr/>
          <p:nvPr/>
        </p:nvSpPr>
        <p:spPr>
          <a:xfrm flipH="1">
            <a:off x="4392720" y="2467080"/>
            <a:ext cx="7813440" cy="14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4363920" y="4214880"/>
            <a:ext cx="0" cy="2643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Line 9"/>
          <p:cNvSpPr/>
          <p:nvPr/>
        </p:nvSpPr>
        <p:spPr>
          <a:xfrm flipV="1">
            <a:off x="2638440" y="0"/>
            <a:ext cx="0" cy="268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Line 10"/>
          <p:cNvSpPr/>
          <p:nvPr/>
        </p:nvSpPr>
        <p:spPr>
          <a:xfrm flipH="1">
            <a:off x="9000" y="3994200"/>
            <a:ext cx="2629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2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2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2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2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2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2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2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2924280" y="1555920"/>
            <a:ext cx="2070000" cy="2070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3" descr="logoW"/>
          <p:cNvPicPr/>
          <p:nvPr/>
        </p:nvPicPr>
        <p:blipFill>
          <a:blip r:embed="rId2"/>
          <a:stretch/>
        </p:blipFill>
        <p:spPr>
          <a:xfrm>
            <a:off x="3092400" y="1674720"/>
            <a:ext cx="1800360" cy="179856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4"/>
          <p:cNvSpPr/>
          <p:nvPr/>
        </p:nvSpPr>
        <p:spPr>
          <a:xfrm>
            <a:off x="5303880" y="157176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talogue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5348160" y="2349360"/>
            <a:ext cx="3641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180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 his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9545400" y="2360880"/>
            <a:ext cx="842040" cy="337320"/>
          </a:xfrm>
          <a:prstGeom prst="rect">
            <a:avLst/>
          </a:prstGeom>
          <a:solidFill>
            <a:srgbClr val="18005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bm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243400" y="927000"/>
            <a:ext cx="558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X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Vi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Windows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2863800" y="4986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362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044720" y="542880"/>
            <a:ext cx="29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103400" y="2095560"/>
            <a:ext cx="1292040" cy="1276200"/>
          </a:xfrm>
          <a:prstGeom prst="rect">
            <a:avLst/>
          </a:prstGeom>
          <a:solidFill>
            <a:srgbClr val="347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2567160" y="2095560"/>
            <a:ext cx="1282680" cy="12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3995640" y="2095560"/>
            <a:ext cx="2732040" cy="1292040"/>
          </a:xfrm>
          <a:prstGeom prst="rect">
            <a:avLst/>
          </a:prstGeom>
          <a:solidFill>
            <a:srgbClr val="d44b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Bas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Prem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lt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112760" y="3451320"/>
            <a:ext cx="2732040" cy="1292040"/>
          </a:xfrm>
          <a:prstGeom prst="rect">
            <a:avLst/>
          </a:prstGeom>
          <a:solidFill>
            <a:srgbClr val="1e7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990960" y="3451320"/>
            <a:ext cx="2732040" cy="12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7578720" y="3436920"/>
            <a:ext cx="2732040" cy="1292400"/>
          </a:xfrm>
          <a:prstGeom prst="rect">
            <a:avLst/>
          </a:prstGeom>
          <a:solidFill>
            <a:srgbClr val="72b9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用 快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 安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效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 小工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7574040" y="2095560"/>
            <a:ext cx="2732040" cy="1292040"/>
          </a:xfrm>
          <a:prstGeom prst="rect">
            <a:avLst/>
          </a:prstGeom>
          <a:solidFill>
            <a:srgbClr val="543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显卡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M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PU  1G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硬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10" descr="tietle2"/>
          <p:cNvPicPr/>
          <p:nvPr/>
        </p:nvPicPr>
        <p:blipFill>
          <a:blip r:embed="rId2"/>
          <a:stretch/>
        </p:blipFill>
        <p:spPr>
          <a:xfrm>
            <a:off x="4000680" y="3759120"/>
            <a:ext cx="2698560" cy="7081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win7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557440" y="2101680"/>
            <a:ext cx="1309680" cy="12765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2"/>
          <p:cNvSpPr/>
          <p:nvPr/>
        </p:nvSpPr>
        <p:spPr>
          <a:xfrm>
            <a:off x="1060560" y="3068640"/>
            <a:ext cx="127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开发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3951360" y="3068640"/>
            <a:ext cx="17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版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7535880" y="306864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配置要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15"/>
          <p:cNvSpPr/>
          <p:nvPr/>
        </p:nvSpPr>
        <p:spPr>
          <a:xfrm>
            <a:off x="7550280" y="4389480"/>
            <a:ext cx="13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系统特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 Box 16"/>
          <p:cNvSpPr/>
          <p:nvPr/>
        </p:nvSpPr>
        <p:spPr>
          <a:xfrm>
            <a:off x="1074600" y="4433760"/>
            <a:ext cx="27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ernet Explorer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17" descr="IE"/>
          <p:cNvPicPr/>
          <p:nvPr/>
        </p:nvPicPr>
        <p:blipFill>
          <a:blip r:embed="rId4"/>
          <a:stretch/>
        </p:blipFill>
        <p:spPr>
          <a:xfrm>
            <a:off x="1919160" y="3487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mph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2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43" nodeType="afterEffect" fill="hold" presetClass="exit" presetID="5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2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2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047600" y="542880"/>
            <a:ext cx="29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6" name="AutoShape 3"/>
          <p:cNvCxnSpPr/>
          <p:nvPr/>
        </p:nvCxnSpPr>
        <p:spPr>
          <a:xfrm>
            <a:off x="2476440" y="1244160"/>
            <a:ext cx="23040" cy="43362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567" name="AutoShape 4"/>
          <p:cNvCxnSpPr>
            <a:stCxn id="565" idx="3"/>
          </p:cNvCxnSpPr>
          <p:nvPr/>
        </p:nvCxnSpPr>
        <p:spPr>
          <a:xfrm>
            <a:off x="3995640" y="893880"/>
            <a:ext cx="6433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</p:cxnSp>
      <p:pic>
        <p:nvPicPr>
          <p:cNvPr id="568" name="Picture 5" descr="windows7"/>
          <p:cNvPicPr/>
          <p:nvPr/>
        </p:nvPicPr>
        <p:blipFill>
          <a:blip r:embed="rId2"/>
          <a:stretch/>
        </p:blipFill>
        <p:spPr>
          <a:xfrm>
            <a:off x="8004240" y="4229280"/>
            <a:ext cx="4178160" cy="2614320"/>
          </a:xfrm>
          <a:prstGeom prst="rect">
            <a:avLst/>
          </a:prstGeom>
          <a:ln w="0">
            <a:noFill/>
          </a:ln>
        </p:spPr>
      </p:pic>
      <p:cxnSp>
        <p:nvCxnSpPr>
          <p:cNvPr id="569" name="AutoShape 6"/>
          <p:cNvCxnSpPr/>
          <p:nvPr/>
        </p:nvCxnSpPr>
        <p:spPr>
          <a:xfrm>
            <a:off x="10427760" y="894960"/>
            <a:ext cx="1080" cy="32900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cxnSp>
        <p:nvCxnSpPr>
          <p:cNvPr id="570" name="AutoShape 7"/>
          <p:cNvCxnSpPr/>
          <p:nvPr/>
        </p:nvCxnSpPr>
        <p:spPr>
          <a:xfrm>
            <a:off x="2498760" y="5594040"/>
            <a:ext cx="54633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sp>
        <p:nvSpPr>
          <p:cNvPr id="571" name="Text Box 8"/>
          <p:cNvSpPr/>
          <p:nvPr/>
        </p:nvSpPr>
        <p:spPr>
          <a:xfrm>
            <a:off x="3203640" y="1262160"/>
            <a:ext cx="665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由微软公司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开发的操作系统，核心版本号为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NT 6.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供家庭及商业工作环境、笔记本电脑、平板电脑、多媒体中心等使用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RTM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 7600.1638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正式上线，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微软于美国正式发布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凌晨，微软面向大众用户正式发布了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——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SP1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7601.17514.101119-18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另外还包括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Server 2008 R2 SP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4025880" y="1352520"/>
            <a:ext cx="528480" cy="527040"/>
            <a:chOff x="4025880" y="1352520"/>
            <a:chExt cx="528480" cy="527040"/>
          </a:xfrm>
        </p:grpSpPr>
        <p:sp>
          <p:nvSpPr>
            <p:cNvPr id="573" name="Oval 3"/>
            <p:cNvSpPr/>
            <p:nvPr/>
          </p:nvSpPr>
          <p:spPr>
            <a:xfrm>
              <a:off x="4025880" y="1352520"/>
              <a:ext cx="528480" cy="527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4085280" y="1530360"/>
              <a:ext cx="380520" cy="173160"/>
            </a:xfrm>
            <a:prstGeom prst="leftArrow">
              <a:avLst>
                <a:gd name="adj1" fmla="val 50000"/>
                <a:gd name="adj2" fmla="val 54938"/>
              </a:avLst>
            </a:prstGeom>
            <a:solidFill>
              <a:srgbClr val="ffffff"/>
            </a:solidFill>
            <a:ln w="12600">
              <a:solidFill>
                <a:srgbClr val="1800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5" name="Text Box 5"/>
          <p:cNvSpPr/>
          <p:nvPr/>
        </p:nvSpPr>
        <p:spPr>
          <a:xfrm>
            <a:off x="4643280" y="1116000"/>
            <a:ext cx="4507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(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(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(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more(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6" name="Group 6"/>
          <p:cNvGrpSpPr/>
          <p:nvPr/>
        </p:nvGrpSpPr>
        <p:grpSpPr>
          <a:xfrm>
            <a:off x="11517480" y="5827320"/>
            <a:ext cx="334800" cy="441360"/>
            <a:chOff x="11517480" y="5827320"/>
            <a:chExt cx="334800" cy="441360"/>
          </a:xfrm>
        </p:grpSpPr>
        <p:sp>
          <p:nvSpPr>
            <p:cNvPr id="577" name="Oval 7"/>
            <p:cNvSpPr/>
            <p:nvPr/>
          </p:nvSpPr>
          <p:spPr>
            <a:xfrm>
              <a:off x="11517480" y="5933880"/>
              <a:ext cx="334800" cy="334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 flipV="1">
              <a:off x="11690640" y="5827320"/>
              <a:ext cx="360" cy="25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Rectangle 9"/>
          <p:cNvSpPr/>
          <p:nvPr/>
        </p:nvSpPr>
        <p:spPr>
          <a:xfrm>
            <a:off x="10709280" y="4654440"/>
            <a:ext cx="14241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關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重新啟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1761480" y="127080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3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3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3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3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3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3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3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3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3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3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3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3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3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3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3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314" nodeType="afterEffect" fill="hold" presetClass="emph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3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2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2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2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343188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21T06:44:5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