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B58D0-0761-4B58-8254-28BDC768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82AC1-DFB7-41AF-A1BB-018E77B6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75307-ACF1-4E69-9891-564732A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B6B19-4650-47C7-A926-6A29A61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74D3-3193-4761-A667-FBBE0F2D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B7269-CFC7-452D-9398-F6DA628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F3406-C554-442D-862C-16DCEB3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6CDFB-FC33-4904-BACC-5CC811F6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F562-5A3F-42F2-94B2-DE260E99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C8F2A-AC2F-48AB-9804-DDAACCCB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7114F-7B37-4A18-9150-CF24F9C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84A92-536E-46C0-A0A3-9DBF9855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F3BB-671F-49A0-97B2-DA77D84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B71C9-0D88-42FE-85E1-88D9AA6D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A4E4F-8ECB-41FC-9257-6B17CBE3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030DA-408B-45C1-A812-F89FD5FB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2BCCF-B2E2-45C7-A7B1-0AC04F6E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FBD7A-FE0E-44B6-9F3D-A364838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0A7D5-2BFA-48A5-A20A-A95AACDF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E17A1-144D-4E12-AFEF-4753A3F9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0B8EB-8E24-453F-8850-F1C9263E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35E3F-8087-403A-9969-77FFED3F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EEEF6-3343-49B4-BD7C-AA36A64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1E5C9-0DF5-47FC-A4A8-C62966C9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51FF3-E00B-4957-9AE9-70F73E68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3B966-D6B1-4779-8745-52D7AC12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CE350-66AA-49C2-9662-900B80ED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FA2C3-F7B8-49D6-8A2A-06E4668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D832C-10DB-4C57-803F-77017D3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B1C62-7E87-4F2D-9A9C-C4F0739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D35D8-83D8-4096-9135-BA7B73E9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DA564-A20A-4F0C-8ECB-C8C59238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FED19-AE57-48FA-BBD7-A7B8BECD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20623-F572-4FF5-B291-0580CCFA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23BF1-F222-48D5-A4D2-9F5646F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A71E3-4909-488B-BE1F-52584F52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95CFE-3799-449B-9876-17F6E3F4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A7939-35C0-4F20-A9DB-D6AEE0A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DCA3C-2860-4DC1-BA4A-C75C1A1D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2F588-D853-4B3D-AB18-1A42A63A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FBD37-B45D-445D-9244-CF3F336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19E51-083E-41D7-A2E6-FDE3DBD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BBAA2-5A7D-4616-8F20-F70030C9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E96EA-7D6C-4097-B1FE-96B0B902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04813-BF33-465F-811D-101D38C5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833B0-4A55-4F9B-A4AC-18E51DE2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74ADA-32BE-4F87-8FA3-8AFA6878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F3CF1-AD9B-4687-99A1-FD24EA6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926D6-B57B-4154-91B7-5C32F205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4327C-F84E-46EA-8217-567118D4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8A989-5220-4E65-A63E-195B5E32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09DC6-7869-42CF-8017-FDA4F525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2AAC5-06F7-4C8B-A3DB-71C50B6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ED22-A643-42B2-AD61-024BBD88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81F48-E1F3-4263-AE06-E9ECB1B3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32D3F-5FF7-4DFE-B9CE-A35E5AFC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829E0-6A27-4FCB-85BB-EB1EBC64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BAF3A-5471-45AE-9339-90B7307E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00466-BE44-483E-8244-6B2FD3CE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BEA79-ED97-4D91-AA0B-53E8D7F9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27EAB-0677-43DA-8121-20FD2219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EC6B3-45E1-417D-8551-1EC75A62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E2D37-6E00-40B1-AF89-E06C78E7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8D61D-AC3C-4D35-8722-8C6A5F79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450F1-0338-46F7-88E4-D2D4EE5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AE388-61F8-4656-B534-324BE733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B4DF4-6E3C-45C7-95E8-4805AB0B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0D411-7614-42F9-825B-7BD3F12E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6D16C-C4BC-40BB-A134-34978A2F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785-08D9-4E96-B268-0BF70CAE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20B-C18E-4486-B511-2C1E0B70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E00-2E41-4BDE-BDAF-8B0FC57D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108-B6AB-46B2-9B5A-0C88090D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FEB-C606-451D-A954-21321FD2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9D4-E70A-4132-84C3-E818DCF6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1BA-61BC-4288-9522-B8719E88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D7C-4E80-4B82-8090-8B8FBE4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5C4-1018-4694-A4FF-C0477DAF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C2C-D7EF-45AD-A4D7-7983E50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592-DCB1-4567-81D3-8887982D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216-0E1C-4BC1-BFAA-5FDC4315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1C55-6CAD-4B9E-A5F5-92571741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4F9-FA36-4EED-A4ED-199D4E2F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7815-CE46-42A7-A1BA-C52D0ACF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6331-DE75-4B07-9862-382CD090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903B-A8F3-4078-8794-D624F4EE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2B4C-2123-48EB-BFB7-C228D2B3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9DE8-2A56-48AB-B385-48C647B5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07E5-9A85-4442-B578-9058E69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04C0-51BE-486B-8140-3686134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DA61-D444-4979-84E7-5FBA8871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AA39-2165-4167-848F-A8B58C5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5EE9-97A7-4F3B-9111-9EB571D5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1EDB-BCF0-4E4E-9D6C-A46DE241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5B4B-6E68-487B-A4F6-D91BFFC7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A6BE-35D6-4CA6-A689-2648BAB1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D863-2F3C-420A-85C6-D9BCA445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A5B8-039C-44E4-A039-61302447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561F-3F77-4123-9439-9426897F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A3FF-C760-4643-A152-E7B8669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4C82-02C4-4D69-AAC7-D0A7836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0A82-B0D3-451C-8AD1-34142FFB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5A16-2C56-4EF4-912D-90F0F0F0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0F6A-39FD-4A45-A15D-C0A6C970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74EC-BCE4-48D5-95CF-CE6AD10D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7F2C-A076-4E90-8AD2-D65312EB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77A4-3BBE-4C6A-B155-3FF4C30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0E70-6961-429F-9A4C-FC901558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FC31-13F1-4A76-BEBF-AEAF1C3D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6CB65-5F95-4B3A-8EA0-8DBBA864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A96B-40A2-4A89-A2CC-B9E34CE5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A7992-986D-4B9E-A19B-99000553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21D16-6B31-4A18-9007-073C42D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7616-AF20-44E6-9E61-E2C2202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6743-5AF7-44B5-88C7-68B73698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F73A6-75AF-4161-B5B2-CBE31107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15D6-C9E1-4A39-8D3D-F951383B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B0ED-98AA-416B-93CA-DEEE5975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0A7C2-1C16-4CFB-8D92-FAE6DFED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2D83-C016-4FC1-BA65-78E4162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C6644-2088-4FCE-9AA9-EDC0CC5C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0D20F-1D99-4A44-85D4-ACB68BBB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2F52-FA4E-4F92-A7F6-ED8ADE9C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7A3E-E2C4-4F8E-8335-08F5C01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AFE4D-F384-4324-92AE-D6129CA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38C8-0AB5-48F6-A6AC-313047E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8BCD-EBFE-4485-A34C-039D86C2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6DD8-BB01-42D3-81F9-EDAAD2F8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4EB7-2605-43C3-8ECC-FE8A23A9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A2555-07CC-48CC-9640-4F8F4504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C9555-6A6B-4F23-976D-8EA62F2C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01CA2-5510-4021-A0E4-23B89D0D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F5C61-9343-4B3F-9E0C-B650D073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0D190-DA91-485C-BAC2-2271D77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50FBC-B8C5-4680-9363-10AC3720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3DC5D-467A-46E9-A288-3FCB5CEB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F7273-5D94-4C7A-AD11-081A1EC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88AE3-91D6-478C-836D-458D29C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2DE0-0784-4528-8B93-1994DD76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B6D50-6688-4E3A-A7E0-3F366F2D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8ECA-7796-4CEB-BC41-0F366F69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9D0F5-0889-4898-933A-69935597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9E05D-65A1-462A-A52D-DF77DF7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F720-E0B3-4CCA-832F-D4BEC09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02_070705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2D80-91EA-4500-85E9-E97CBB70EA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8A71-7570-4795-B24C-32D1FC42A8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DDC8-CA88-4F88-A2CC-BEF254C60B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50D6-155C-4394-9E28-CD376776D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561-DC85-48BE-A467-FBB7AB34F5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0B7C-CB43-47CA-84BB-07F199D06C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A023-44A5-4677-BEF8-EC334B7014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0E3-3344-4419-82DC-1D1799988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D35F-8B23-44CC-8DF2-BD9C926CEB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DF8-B239-46A9-AF4E-62C6BFD56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02_070705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150D-D335-4BC9-B23B-18C4079AD01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2449-77CA-4A42-954C-7477217A21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EA71-2374-401B-9680-71BAF0658D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3311-B507-45E1-AA47-2B976FE7CC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9C61-F505-4AC1-B4A3-E6935FE93B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B7EA-D491-42FD-9393-73DAF0B509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684-C225-490B-B83B-F8E58B6373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929A-ECCA-4013-8937-775D858F92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F694-31C6-472F-9951-CD8E46632E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2623-C901-496A-A560-4D792F2E9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EBBF-191A-49EE-9777-DC9A24EB81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442B-B4ED-489E-9859-137FC99A4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EEF7-F657-40D2-8E70-042D2D6EE5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EBA0-20DB-4905-9844-92E28D3BF5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2675160" y="2060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黑体"/>
              </a:rPr>
              <a:t>点击此处添加幻灯片标题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000080" y="1714320"/>
            <a:ext cx="75009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43680" y="571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方正黑体_GBK"/>
                <a:ea typeface="方正黑体_GBK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251520" y="27147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3f34"/>
                </a:solidFill>
                <a:latin typeface="Gulim"/>
                <a:ea typeface="创艺简中圆"/>
              </a:rPr>
              <a:t>谢谢您的观看</a:t>
            </a:r>
            <a:endParaRPr b="1" lang="en-US" sz="4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5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9:54:09Z</dcterms:created>
  <dc:creator/>
  <dc:description/>
  <cp:keywords/>
  <dc:language>en-US</dc:language>
  <cp:lastModifiedBy>a</cp:lastModifiedBy>
  <dcterms:modified xsi:type="dcterms:W3CDTF">2014-07-25T01:46:04Z</dcterms:modified>
  <cp:revision>79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