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B6E5-DF3F-451C-A991-F83FC05D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C6A-5DFC-4416-BBB6-335335DB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96A-BF96-4E8F-AAA8-573907F9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9A2-3BF6-40CD-92B6-935D9B8C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8228-C153-4F92-AD22-802321DA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D6EF-1454-463E-B6FF-8DD5C65B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5863-9F47-4752-B8D2-44A58FBC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A5CF-62D7-459E-B908-6CC235C4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47E4-616F-4354-8044-17AFCFFF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9248-E84B-47DF-9967-10A720DE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2B43-11CE-476D-9FEE-006C642C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0A3-3C6E-467D-A54E-F928D2DC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C00E-96FF-4213-A765-4BC38EDF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5954-63AD-4AE5-8D4D-03594F03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BFC6-8347-4A29-B854-6A308573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EC55-FE1B-4604-BBBF-CA4259DA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C03A-D58D-4A3F-A8B1-0CF5366C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51A-0829-44E1-A553-663BE8B7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83F-53D5-4B9C-A1B1-474A470B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849-D3AE-4D54-8225-E5B67B83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B2F4-3316-43A9-A777-EB356F1C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2B0-F41E-418F-AF9F-85568A02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624-730B-4B4A-9E4A-BF0C6E79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FDA-E992-4EC2-B83A-DDEB5A1D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F0A7-74F3-42D0-8AC4-40E81B6002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35B9-C722-4C69-AEE2-53F605BFBA9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2E83-89AB-4680-AF9F-B397A59B39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0:59:56Z</dcterms:created>
  <dc:creator>FiSh</dc:creator>
  <dc:description/>
  <dc:language>en-US</dc:language>
  <cp:lastModifiedBy>a</cp:lastModifiedBy>
  <dcterms:modified xsi:type="dcterms:W3CDTF">2015-01-12T08:17:01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