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B5B42-AB2A-4363-A165-8354EE97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40EFA-5520-4719-B573-F07AD1CC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C4097-25EB-440C-BA5A-031B0881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04404-6293-48D2-AB2F-057EADE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E5DE5-DF1C-4E0A-AB75-C7F43B0D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B48F5-E16E-4D42-8EE2-F74927F8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C868B-2A40-4BAF-A8DC-C6E76C6C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B1446-872C-4436-ABF4-7B6B6463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F8705-7A83-49EF-ADEA-92374F79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73ECA-69F1-4779-B31C-42056DE2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32829-AE55-49B4-BA4D-E25D7C27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21B5C-3C5C-41EE-90D3-87338B36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C349D-6699-4A85-B33A-11E2D2CC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A9314-41B1-4FB4-B948-6716D328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2D84C-A395-4910-82DF-FDE0DB95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7CAC8-A10F-4091-AA55-17CBE07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78E2A-B727-4398-B9D0-6346269C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0EDEF-BC55-469E-A4F0-E20383B7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8BB28-A3AC-4712-9D26-FF3BEC27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8D3BD-4A4A-46C0-B371-C62B5BAA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7E84E-9DDA-4097-B9B6-115686B9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EBDB3-FDDB-444A-ABD8-99AD40F7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CA862-8701-44A7-B65C-1F02731C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908FF-EE64-4B33-8FF7-AAEBE4F5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E790C-CDBD-480B-8D71-7E7E8ABC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052C0-AB65-4F92-B418-67CFF0DC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FA88D-EDA7-40AE-BFD8-60762E55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6C953-1F70-4434-A280-28335A01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61847-DC69-4570-B94A-E806C19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FB0D4-667E-449B-8167-2FF7EA4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EBF-6745-4C2E-B894-43FE7901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C58D6-8D79-48DD-A8DA-5C8A1434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BB0BE-DE78-4F60-B2FE-2E19463E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457FC-2CBB-4613-B20A-5177CCF8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CE73E-01E7-4C3D-8690-781F0A98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C08C9-6AF6-487C-A41A-50931BC1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03F21-1970-40F2-AF99-EB91559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0D6B2-4EC4-4B58-8AC4-3811396E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5ACEC-F574-4BA2-A835-5E2FCBB7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C8C60-B32C-4F18-A312-9C6F6808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2AE95-D2CE-4204-BF1D-F00CFE1A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3E9-631B-48FF-8872-4F493E00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7579D-598F-4C25-B213-3B8028A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6D5C5-4062-46E6-98EB-02424E2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42A0C-C394-4080-8377-47CE95C3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2A1A8-089A-4211-AFB3-2762AA50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4788B-00EB-4102-8ECD-9F355606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D4454-7142-4977-B86C-366C9F43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48105-219B-4877-B535-F9B3F1D5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0668A-BC08-45A1-A5B0-7A5EE032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55DCC-7248-4CB7-A8CD-E04BD6E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36DFA-5D8E-4827-9CCE-9F4FA525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FB8-F96D-4131-B403-AD3443A0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1537A-1753-41A5-A283-4D5773A1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0C24B-AAD9-4CF9-BDE8-F553185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47727-916D-4C09-B435-67F9BE78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5A2F2-9D57-4DCC-9870-1E5EB87B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56539-C47E-4D70-94B6-0C61DBD2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064B4-A97D-43AE-ADF1-0206D49D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F1D2E-B404-4B09-AAD2-AD12E57A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EDAD4-2763-44D4-82B4-F7E1FB82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06392-ECD2-4000-8482-9AE33749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6EFCE-379A-4C6B-AA26-6F327EF2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B5A-5574-47AA-BED4-90F9FACA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6AC97-A2FC-4DCF-A559-FCEFF8D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3086D-68EB-47ED-BA32-556710BE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EDF12-1A53-4C7E-AB01-C438D935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602E6-E727-4528-B22F-AD1F3BC8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47FFA-2D2D-4E3B-BCE5-D09B834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158AE-F7B5-4EBA-82EC-C393DE6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021CB-2A0A-4F6F-8F3B-FB1349F8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C50E9-AF2F-42B6-AC54-922AF332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596D9-09E5-4936-8AA9-A80FC1EB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381-BCEB-408F-9DBA-840CA55C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51A-ECEB-43D3-892E-47F6354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336-9D79-4521-9C9C-D6899DCF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6D5-D2C3-428C-B227-DA4D583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985-EACB-456D-8D0D-432C0CC5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7BE-4C6E-4403-BD56-C0469835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685-D7CB-448A-BF5C-8D794C44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AD7-8846-44AA-AD10-CA3BBB54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7376-FD96-48FB-B069-E4CEF91C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7516-98C2-4C72-B975-B9CB1389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1A2D-3019-401C-A4AF-C7B56B40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32BE-C8A6-4B06-BD2A-D1472D93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66B3-FDA4-45D1-8470-34D6D8E5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41FA-0F8E-4341-961F-CF571B21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BC76-4DA0-49AD-889D-6507A86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AC14-9EC4-46DA-AE32-9CC15F58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CC85-8F2F-40FF-BC47-CE4D74D8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0900-F4DE-40E4-80E2-923547F8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335D-EF0B-4DE1-A284-2E0D7252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27C6-4567-4561-A8FA-B2BD5174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CCB2-CBEA-4F5B-A32C-D53B4A58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E4B7-FA8C-46C0-A7EA-9CC885F2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6F0F-544A-47ED-B0D2-48711319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1FE73-4229-4A00-A0F6-B2FE272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340D-C5F4-4885-896A-213CC6B4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51627-8F83-492A-94E9-2459111C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382F-BCBB-44DD-981D-10BD7247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6A6B-B297-4F80-9837-B48DD0C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4D86-1B0E-45F0-A0AE-33AB111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4C5D-0AE8-4961-A2E1-F3F9993B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02A6-E937-44A6-9D8F-425AA99E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E40B-1B36-461E-BC3D-27882665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0DBD-1C5C-4848-8689-7B25740E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C820-766E-4E61-B93D-8DA15098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20DC-8229-4EC2-9C82-E8D4CFEC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24C6-DBD7-4B6A-A1D5-E9A59933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2684-092B-4136-BEF3-06D718AD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F0D8-F2F1-4E57-B5AD-8C94EC5A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0EAD-5554-474F-86D6-861BF1EF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92C3F-805D-4BE9-82A6-629B3A5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05E7-DC09-4CF6-9FF2-29CC855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2193-EEB7-4221-901D-22511878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D75C-7F7A-4508-B70D-80C95F8F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11A9-E001-429E-8F71-DBF2DB2E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7AF5-B864-49EE-BBCC-22AB45A2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081C-3B0D-48F1-A947-F7F6CDFE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5767-88C2-488A-BE19-649BBA07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5026-0532-44CC-A65C-FF940BBB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CA5D8-D11F-4861-B911-59A3B903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14A21-3F06-4657-80B0-D9AFD617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B3CA6-AFC1-44D5-A827-C0D8AC5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19D50-32D9-4AD8-9F25-E6444F4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394A-EC3A-4EAA-86FB-067E68C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CF829-F1FD-40C2-B87A-711F95B8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C94A0-D473-4DC5-872E-3A364C7B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C91D9-CFBF-4CA1-B789-29F858D1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01BE0-A42F-4161-9C77-4FFCAB44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9A48-6A7B-4824-B95B-532E7693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62F3-4E36-43CB-A483-9BD4B0EC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840DF-4E3A-4EC1-BB23-F2A07B74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2E16C-F24E-4990-94EE-75DBA239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32C2D-FB06-41AD-A929-E196B30A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8ED81-A47D-4CEF-8A16-36FF1FC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6D8FF-8090-475D-8469-3055D8C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1E40-A367-41B8-A46A-0A30F0E8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D2C7E-4094-4E6A-9DAB-30D655B8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53B5-D999-4E25-9E72-77E69C6E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93D2B-F042-4690-AF88-11D8C4FD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8D62-AA3D-4FD6-B87C-C80823C3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988A2-2DF9-4D87-8FAE-77F7E88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21B23-D516-4567-A10C-987D83B4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C4C46-C218-41C9-9FEE-F242A3E6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459F-F6C8-428D-B38B-337FEC9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75588-335B-4302-B6EE-9B9540D4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6C56B-DF4E-40C1-9E4B-8643ABB2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8ADDF-16DF-4AAA-A8D8-27D112B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18A9D-1846-4A3B-9404-F80720E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2AB82-0C7D-44CC-9A2D-5DCB613E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AD79F-35D4-4F9B-BA96-E031723E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6E71C-2AF7-47DC-BCB0-D71A6DE3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D2BA5-426F-4839-8861-F15238E7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4EF85-B38E-4FF7-B419-26619F41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A749C-3860-4363-A70F-90B23C37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8421-D241-4DAD-A1D5-96B893260D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7608-6453-4BAB-A080-C1A1C01A06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9823-DB8F-4C48-8A94-82A8FEE109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8250-7EAC-48D8-9C64-04D35AEF89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8F9-3C29-4F3F-B9AF-197C71130C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3041-DD05-4C81-966B-6635021358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BBD5-308E-4784-8F6E-0941409A0E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D7BD-FFFE-4657-A26F-8A02EB7D9C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16A2-3A7A-4F8C-AD0F-58FC0B38E0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FA17-EEAB-46E7-B609-8C28618136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5608-E49C-4FD5-9241-2544A00C8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9AA-9ACF-4954-8BAA-E692FA99B2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0A90-79AB-47E9-91D7-DBE5498576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60A4-F2B1-4308-805E-957B28B68A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133-38E5-4D55-A34F-D5DAF6FA9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5ADC-D0F6-4AB7-9921-C3E74D6333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0CD2-C54B-47EC-BDAB-F224437DF8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73D-2403-4321-84FA-6A2D29EF20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401F-DD50-4889-8F10-C1DEC74D1F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7486-7217-4535-A601-CA268A8E30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878F-9265-4EFA-9DD8-5D121FEC3A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6AE9-29F3-4E9C-9636-A140FD62EC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9D79-E052-449F-A5B7-A35525B8EE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9D1A-E34E-428A-891C-CEBF1355D3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CB7D-8C19-402D-A2B7-A757F55F95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001"/>
          <p:cNvPicPr/>
          <p:nvPr/>
        </p:nvPicPr>
        <p:blipFill>
          <a:blip r:embed="rId1"/>
          <a:stretch/>
        </p:blipFill>
        <p:spPr>
          <a:xfrm>
            <a:off x="6207120" y="5261040"/>
            <a:ext cx="1141560" cy="7016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image7"/>
          <p:cNvPicPr/>
          <p:nvPr/>
        </p:nvPicPr>
        <p:blipFill>
          <a:blip r:embed="rId2"/>
          <a:stretch/>
        </p:blipFill>
        <p:spPr>
          <a:xfrm>
            <a:off x="3389400" y="4375080"/>
            <a:ext cx="1652400" cy="14302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4897440" y="393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MingLiU"/>
              </a:rPr>
              <a:t>静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845520" y="439272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ff"/>
                </a:solidFill>
                <a:latin typeface="comic"/>
                <a:ea typeface="MingLiU"/>
              </a:rPr>
              <a:t>心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5641920" y="450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MingLiU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4625640" y="4470480"/>
            <a:ext cx="261828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"/>
                <a:ea typeface="方正舒体"/>
              </a:rPr>
              <a:t>自由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595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7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599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603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606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60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2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618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621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626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66760" y="-71280"/>
            <a:ext cx="5165640" cy="3770280"/>
          </a:xfrm>
          <a:prstGeom prst="rect">
            <a:avLst/>
          </a:prstGeom>
          <a:ln w="0">
            <a:noFill/>
          </a:ln>
        </p:spPr>
      </p:pic>
      <p:grpSp>
        <p:nvGrpSpPr>
          <p:cNvPr id="646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647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654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" descr="E:\新模板\国粹\04.png"/>
          <p:cNvPicPr/>
          <p:nvPr/>
        </p:nvPicPr>
        <p:blipFill>
          <a:blip r:embed="rId5"/>
          <a:stretch/>
        </p:blipFill>
        <p:spPr>
          <a:xfrm>
            <a:off x="431640" y="2708280"/>
            <a:ext cx="2448000" cy="727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9"/>
          <p:cNvSpPr/>
          <p:nvPr/>
        </p:nvSpPr>
        <p:spPr>
          <a:xfrm>
            <a:off x="1098720" y="2421000"/>
            <a:ext cx="1439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行楷"/>
              </a:rPr>
              <a:t>静心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574560" y="2019240"/>
            <a:ext cx="2233800" cy="2232000"/>
          </a:xfrm>
          <a:prstGeom prst="ellipse">
            <a:avLst/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圆角矩形 19"/>
          <p:cNvSpPr/>
          <p:nvPr/>
        </p:nvSpPr>
        <p:spPr>
          <a:xfrm>
            <a:off x="3025800" y="2049480"/>
            <a:ext cx="7120080" cy="2100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2" descr="001"/>
          <p:cNvPicPr/>
          <p:nvPr/>
        </p:nvPicPr>
        <p:blipFill>
          <a:blip r:embed="rId6"/>
          <a:stretch/>
        </p:blipFill>
        <p:spPr>
          <a:xfrm>
            <a:off x="9361440" y="1757520"/>
            <a:ext cx="939960" cy="5760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3"/>
          <p:cNvSpPr/>
          <p:nvPr/>
        </p:nvSpPr>
        <p:spPr>
          <a:xfrm>
            <a:off x="3241800" y="2146320"/>
            <a:ext cx="6622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“心静，则自由”结合中国恒久渊博的国学文化，衍生出“</a:t>
            </a:r>
            <a:r>
              <a:rPr b="1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归一、聚气凝神、神游天外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三大静心论，紧扣“</a:t>
            </a:r>
            <a:r>
              <a:rPr b="1" lang="zh-CN" sz="1600" spc="-1" strike="noStrike">
                <a:solidFill>
                  <a:srgbClr val="cc3300"/>
                </a:solidFill>
                <a:latin typeface="Arial"/>
                <a:ea typeface="微软雅黑"/>
              </a:rPr>
              <a:t>Simple, Powerful and free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，万物归一意为“化繁为简”，聚气凝神意为“积蓄力量”，神游天外意为“实现自由”，以此层层推导出“轻松的心态”需要“静心”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828720" y="0"/>
            <a:ext cx="8466120" cy="6858000"/>
            <a:chOff x="828720" y="0"/>
            <a:chExt cx="8466120" cy="6858000"/>
          </a:xfrm>
        </p:grpSpPr>
        <p:sp>
          <p:nvSpPr>
            <p:cNvPr id="666" name="矩形 4"/>
            <p:cNvSpPr/>
            <p:nvPr/>
          </p:nvSpPr>
          <p:spPr>
            <a:xfrm>
              <a:off x="14457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87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TextBox 7"/>
            <p:cNvSpPr/>
            <p:nvPr/>
          </p:nvSpPr>
          <p:spPr>
            <a:xfrm rot="20926800">
              <a:off x="274968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dc:language>en-US</dc:language>
  <cp:lastModifiedBy>a</cp:lastModifiedBy>
  <dcterms:modified xsi:type="dcterms:W3CDTF">2015-01-12T12:59:41Z</dcterms:modified>
  <cp:revision>5</cp:revision>
  <dc:subject>心静，则自由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