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BE8D6-18C1-4D7A-B1FC-679D4C834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59BAD-D2A7-4C76-8020-14E9E09E4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A5BC-C435-4E70-99E8-F254DF927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8CFA7-5B70-4656-A939-544B0DDEC6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0B47-EBB7-4EC0-B917-9FCB216853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1A97C-C426-48F9-860E-0089C0A571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F73F5-0E0C-4868-AC54-DD302A61B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29F0F-B215-482C-A67B-FE631CA2E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A4BB62-C8BD-4843-9D40-9E9841F12E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B8145-624A-4C30-88AF-ED059C043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14487-8B06-4620-BA16-2E062BE82F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73F63-6AB9-462A-85B3-0FFFE63CD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7A389F-4A65-41EA-9B53-35F868B3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A3EC2-035C-4E81-A678-094192261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854330-E6E4-4090-BF4D-751DFAE202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504F46-0EFC-4D9A-9534-A4F1AD1F7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934DE7-27A3-4B24-B6A6-C24FB2ADA2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A9FB94-69EE-470C-8687-E6211A21D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F4F2B9-681E-4477-8465-F5A59102F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B5B9F1-83F2-4E5C-9841-9CB3EB253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6DEA87A-B909-4F99-82D5-35CFAE38D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6BA2B1-619E-4699-AA27-09DCE7B859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3FFD2-D4ED-438A-9282-A40F177EF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3D7CF7-3CE1-4797-B7F7-233C83C98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1360E-AA9C-4D63-87E0-F61D98084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105C75-D178-4616-9ACC-1BE504EC2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A15FAE-EAC4-4305-910F-4CFF5364FF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81926A-8B8F-425C-AC77-EA4D33DC9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E0ED7-A018-44E6-8723-942CC39209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383087-80E2-42D2-A383-BC905A61A0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82C0-3A5F-4F47-8728-E686DB90F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75E5D-3D09-4B50-AE47-FF9865B2B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B5987-463E-4FD8-AA36-9BC16D0C8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69AB7-1703-4332-A53F-B6027485C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D6940-4AE4-436B-B18B-4B3D3CC1F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253C2-A124-4149-B977-6D11E07E4E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36A9E-AB1B-4451-A97E-5C8B02A3B557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49A4EE-ADE8-48F3-AB57-2507A531AE9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0B08-AF64-405F-98ED-6CC2971A656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2850B5-7311-4A08-892F-7E57D5A391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Text Box 2"/>
          <p:cNvSpPr/>
          <p:nvPr/>
        </p:nvSpPr>
        <p:spPr>
          <a:xfrm>
            <a:off x="15840" y="52560"/>
            <a:ext cx="3144960" cy="91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封面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777777"/>
                </a:solidFill>
                <a:uFillTx/>
                <a:latin typeface="Arial"/>
                <a:ea typeface="微软雅黑"/>
              </a:rPr>
              <a:t>（设计好之后可以删掉这个文本框哦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3" descr="1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2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" descr="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31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2" name="Picture 4" descr="http://www.elixirinteractive.com/LookFeel/elixirinteractive.com/images/headers/brand-awareness.jpg"/>
            <p:cNvPicPr/>
            <p:nvPr/>
          </p:nvPicPr>
          <p:blipFill>
            <a:blip r:embed="rId1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TextBox 7"/>
            <p:cNvSpPr/>
            <p:nvPr/>
          </p:nvSpPr>
          <p:spPr>
            <a:xfrm rot="20926800">
              <a:off x="1908000" y="3573720"/>
              <a:ext cx="4667040" cy="106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www.</a:t>
              </a:r>
              <a:r>
                <a:rPr b="1" lang="zh-CN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eeppt</a:t>
              </a:r>
              <a:r>
                <a:rPr b="1" lang="en-US" sz="32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</cp:lastModifiedBy>
  <dcterms:modified xsi:type="dcterms:W3CDTF">2014-07-26T06:37:05Z</dcterms:modified>
  <cp:revision>1</cp:revision>
  <dc:subject/>
  <dc:title>PowerPoint 演示文稿</dc:title>
</cp:coreProperties>
</file>