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1BC-7CCB-480E-9385-955F2EF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A50-9846-4C02-93E7-702E1417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B27B-0F61-43AB-AB78-1BC1358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2F121-A272-4774-B316-35BA52B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68B7-6EA5-46E6-B7CC-52DE8024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91ECD-99CA-4BA8-8485-8C1547B8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14EB0-826B-4206-AD1D-53AD912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9E414-93C2-4BF8-9C72-B5B062B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FC311-78FF-432F-A75A-A2ABF81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B2674-DB2B-4B53-B69D-088A827B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F0FC-E704-45D1-B0F9-40DBB25B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E9B71-66DB-4A6F-8789-B943179D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6DD-65FF-4283-A0FB-925CECA7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C96C2-D0DF-410F-8556-416C3CFB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077BE-CDE9-4123-BF1B-3EB8076A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21DC1-1158-4A36-B12F-81751C2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4CB8-9845-4EC4-AAAC-857B0F2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D146-5EBF-4E83-AF88-3A6ED37F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FB0D0-54E1-4C88-817E-9640ECE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55442-A8B8-42EC-9AC2-F031BBBF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14785-523A-4522-843B-83481E4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E2AF3-BE05-41E3-AB68-C19CCA1A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019CE-E394-451E-AB9B-541A0426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11B-D82E-492A-A908-BD9B9A46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09F4D-5010-4C41-B9C8-AE204C93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2E79C-9EAA-477E-A0F1-A7C22C20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394A0-50EE-4096-8E3F-0FFEA89A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135D-0DC0-4E30-83DB-877D94B2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918BB-D901-4584-A23D-36BCD86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B1B19-5929-4358-A638-D551F46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2556A-4ACD-42D0-9AE2-1AA8171F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F12FF-CA61-44F2-89C3-BAD1534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FCE5D-F5B7-4B16-B217-176EBD3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8646E-FCC5-4FFA-A0B3-C6FA478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A346-C1D6-4619-9489-B845A2B6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934BC-8D44-488D-A631-701F9CB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D1DB8-5492-46B5-85C1-3F7DD6DE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4F20F-D0BE-4215-B8C9-2C418746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E49AF-DE74-438A-AE98-727B6F32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8292A-98E0-4783-93D5-9EAA93AE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E36B3-94FE-40BF-B5C6-CFDF2750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5B8E1-0E31-4BEF-AABC-056AA6DE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7743D-6833-41BE-B396-EA9F7CDF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48034-F900-4020-8DE5-2B55E39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3BC90-F93A-40BE-B1C6-9F60A70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FDF8-43CC-48BE-BE18-535A04EB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C90A-3203-46E7-BBE8-F06BA8B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01A82-86BC-4DBF-BD6D-F3C2AE3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636C4-E413-42FB-8FF0-6A80AA0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D353E-8BD1-4E94-82D7-53ACB5B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44FF5-FE98-4A89-800C-C29AD76A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7AC35-FCDF-42E9-BDB1-41DFE8DB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18E12-7E27-4386-928B-8A69D07C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7E7DD-7D6C-480B-B44A-25B1C271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DD069-82C2-4FDC-9840-CEE1FAC3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BF3A3-C1F2-4C8B-A7E8-BC7815AF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7DBA-F454-473C-897D-4B0DBD73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AF951-53D8-456A-925E-C2A83B27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29ED6-53B0-4867-9751-7088497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D58D4-DC1D-43DF-B0AD-1F2C47F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C1D28-2BDC-4FEA-9BDD-4578444C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49323-F200-428E-A114-175DE6C3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7386A-5A0E-41F8-8326-EE53680A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BBACA-6FB4-4AFA-9B79-EEA7B0E8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C3F4-76D0-4CEB-8E9A-14F97635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4AA-1851-443E-91CD-B48FF6C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A20-B2A8-48AC-85B2-EDC238D4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BC5-AAC4-469C-9FB3-73C9250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4984-3424-4CAA-B7B9-2AC866E8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BF56-EF20-454D-962D-3A4257A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FEF-4332-41E6-9779-B1E3176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DC92-B3AE-4E5A-B439-1AA8E677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E4FD-13B1-4AF7-8E3D-DB2128B6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4D0-146D-4FE7-87AA-2E9F4346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2C2B-4753-4817-A5A7-5116541E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4F0F-0F27-4C9C-8E13-DCC14D4A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B594-FA54-4B01-BBF5-4842906E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0AC4-E0CB-4AA3-AFEA-D71FD15E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88B08-706E-4FCC-BB4D-DF0ACA25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ECE-2983-4D84-830A-E33F7A35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7B5F-8915-49C6-807C-318FA40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4D27-BA79-4A3B-9E3B-34AEE1EB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74F8-5190-4867-A097-0DC5E7F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5F87-090A-4D74-8BC6-D34A366E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5968-A4F1-41DB-968D-538F481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0E57-46F2-4F22-94BE-9852831D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41B3-2DE6-4FE2-ADAF-CFC30F11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E98D-B2A1-4FD6-813B-440F2F2A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BAD6-8BDC-49B1-BEF6-DC216BE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A81E-6A3F-4994-A276-85D1ED2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85D-968A-4863-BC69-B1519261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DCFD-ECC0-4D2E-BFFC-0C4BFDD9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6EA23-F227-434E-8B63-BE48FC63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A477-57FC-4923-9532-99E4FE5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F4AFF-2E9D-4827-9DDC-D4AE8F7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BE99-B551-4149-A003-ACD7A82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BDA9-97F0-498E-913C-951F2EB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BE8A-7381-4BC2-8EB1-73FFC1E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A6CC-8B4D-41BF-8077-D2A62FC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8063-F220-465C-AD6C-1333DBEF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4698-1FD9-41F6-9A70-046DEF50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5E8-27C7-4C1B-AE68-8D03C2BA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364FF-306B-41B1-B137-4459287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18F1-65D4-40A7-A98E-0049F14E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27FD-5E88-4789-8EE4-7F98BCFA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973F-9C7B-4FA9-B113-8F3DBF2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9BD20-E16C-4634-90F6-BEC88F78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D86F-B086-43A9-9F1F-30B6403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D509-ADC9-4011-91D9-1E6E3B6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D732-926B-4219-A622-1A9B872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ECE0-28C9-441B-8379-F4578F1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622CA-DF63-43EC-96A8-DCC2FAB6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8EE-1EB8-4CDD-8332-A3D0CC02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FC15-A6E8-433A-831C-8BDD9E27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CD1F-E410-4CEF-9785-8EF54E53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D296-8FE5-4227-8F5F-8C9B22DD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C81A8-1BAB-4EEF-A755-427D5E2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8C3C-E084-4BEA-9EE3-F578D1B3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C09F-F503-4F12-848C-025D956F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631CE-8FB4-4CAA-A978-C59CB1DC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1B6F-3608-4D80-B152-3FD94ED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CE85D-BEF4-466E-A204-5BB6A65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92BB-641D-49EB-AF58-BD31BA93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60A-51EA-44ED-A46B-117F47A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1E31E-B4B5-4318-B361-55CB00F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7EF9-0066-43FF-8CF8-762D2127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9C39-4F03-499B-BE34-9270F82E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42ED-1A02-42D4-90DB-7C0955F7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3DACA-9C8E-4A2F-BD3D-8A8E24C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E6D8-AA50-4CA4-B302-E120BE9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8BF03-62CE-4852-85B0-524579C8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7C90F-5EBD-4D20-980B-C3BF72C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4EF4-D7C2-4B4A-839D-D6C5E72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EF8F-ADF2-4287-BA9A-13EEE85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AEE-2AA2-4F72-B95D-8F256BB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3F6D-BF81-4158-A3BB-AF1F1C0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7268A-C642-4439-B756-7294EB8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3FB1A-222E-4AB8-A069-8DBE946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062DB-25D8-4BD8-83C9-0E231149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8524-0125-49D7-BDA5-8DDB651F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D3D76-A046-44C3-8F1A-9DD7F8D2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89E6-D811-42D3-BD08-3067037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1FCCB-04A3-4CD5-B648-172C0DA9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09CE7-C605-4E59-899E-EA7CB84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0ADD3-C7FD-4E77-B4AC-4F579CB7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9E4-3AC4-472E-ADA7-438C16B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DE12-21F1-42A7-B513-CEA48FC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5AD95-D4C9-464B-B102-A498B3E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E26F-20F7-4007-9E89-1729C37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0E5D0-5683-4624-8C3A-3671A0F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4505-0921-488F-A2AD-224EA53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AC5D-B2E2-4D94-8392-B6774A43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7292-3CDD-4346-972D-39632239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A0C47-05BD-4AE4-B41E-A48A5F5C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D7698-C40C-4A72-9FF5-C55F856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85A9B-890E-4400-B687-1E71EEA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9AF-E038-4A74-BBA0-05332F069E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B13-0495-430C-8AC9-7CDA89CB44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08E4-5E47-4B96-98EC-F50D8855AAA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AC4-AF51-4EAC-A600-12CE451F749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713-3D6C-47A5-87CD-89BC018203B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5D2-27D3-4895-BB3F-32E64ACC231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959B-255E-4F52-9DD9-EB9212061B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1600-CDAD-47C8-BE85-AC61FFD4992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AC40-1CE4-4B0E-9756-B317E5408F6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268-741F-4169-9AB3-F73D4568B6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D28-18D3-4196-A87E-0073A315F0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786-E6E9-4845-8B0E-F3A31E11BBF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400-47FD-47BE-A790-8AED2D7BD61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E56-377E-4953-8493-29D1D33D8B9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BD1-94C9-4876-AFF4-D394F853E1E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7E8-1B4A-48BB-A9B3-246569F7EC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783E-0E22-4155-9B8E-1357D4D13C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ED52-CB1D-469B-AA17-AD0F87C5BFB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790-E645-4B18-801D-0F1388F14B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258A-C5FD-45EF-881F-C4BEDFC587A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4401-2ED2-44E3-96B7-A1BA57CA162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092-0BD1-487E-9A48-D8B03B4F9AE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DA45-D020-4106-A85A-83C3437157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602-DDAC-4821-AAB8-39DF401E945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6CA-2EB3-467E-82DA-414A352B337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设计"/>
          <p:cNvPicPr/>
          <p:nvPr/>
        </p:nvPicPr>
        <p:blipFill>
          <a:blip r:embed="rId1"/>
          <a:stretch/>
        </p:blipFill>
        <p:spPr>
          <a:xfrm>
            <a:off x="0" y="-1440"/>
            <a:ext cx="12192120" cy="68450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727200" y="35244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83e32"/>
                </a:solidFill>
                <a:latin typeface="Brush Script Std"/>
              </a:rPr>
              <a:t>Tea tim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641760" y="565200"/>
            <a:ext cx="357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享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317600" y="111456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Book Antiqua"/>
              </a:rPr>
              <a:t>YOUR FREEDOM TAKE IT EAS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9910800" y="55260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83e32"/>
                </a:solidFill>
                <a:latin typeface="Calibri"/>
                <a:ea typeface="汉仪圆叠体简"/>
              </a:rPr>
              <a:t>下午茶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79200" y="6024600"/>
            <a:ext cx="17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2012-10-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8" descr="设计"/>
          <p:cNvPicPr/>
          <p:nvPr/>
        </p:nvPicPr>
        <p:blipFill>
          <a:blip r:embed="rId2"/>
          <a:stretch/>
        </p:blipFill>
        <p:spPr>
          <a:xfrm>
            <a:off x="2604960" y="1071720"/>
            <a:ext cx="6566040" cy="5359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设计"/>
          <p:cNvPicPr/>
          <p:nvPr/>
        </p:nvPicPr>
        <p:blipFill>
          <a:blip r:embed="rId3"/>
          <a:stretch/>
        </p:blipFill>
        <p:spPr>
          <a:xfrm>
            <a:off x="9507600" y="5761080"/>
            <a:ext cx="357120" cy="1731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设计"/>
          <p:cNvPicPr/>
          <p:nvPr/>
        </p:nvPicPr>
        <p:blipFill>
          <a:blip r:embed="rId4"/>
          <a:stretch/>
        </p:blipFill>
        <p:spPr>
          <a:xfrm>
            <a:off x="1392120" y="1179360"/>
            <a:ext cx="49320" cy="86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设计"/>
          <p:cNvPicPr/>
          <p:nvPr/>
        </p:nvPicPr>
        <p:blipFill>
          <a:blip r:embed="rId5"/>
          <a:stretch/>
        </p:blipFill>
        <p:spPr>
          <a:xfrm>
            <a:off x="6215040" y="1395360"/>
            <a:ext cx="49320" cy="856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2"/>
          <p:cNvSpPr/>
          <p:nvPr/>
        </p:nvSpPr>
        <p:spPr>
          <a:xfrm>
            <a:off x="727200" y="33984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83e32"/>
                </a:solidFill>
                <a:latin typeface="Brush Script Std"/>
              </a:rPr>
              <a:t>Tea tim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3641760" y="554040"/>
            <a:ext cx="357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享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1317600" y="110340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Book Antiqua"/>
              </a:rPr>
              <a:t>YOUR FREEDOM TAKE IT EAS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设计"/>
          <p:cNvPicPr/>
          <p:nvPr/>
        </p:nvPicPr>
        <p:blipFill>
          <a:blip r:embed="rId1"/>
          <a:stretch/>
        </p:blipFill>
        <p:spPr>
          <a:xfrm>
            <a:off x="0" y="0"/>
            <a:ext cx="12192120" cy="68547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设计"/>
          <p:cNvPicPr/>
          <p:nvPr/>
        </p:nvPicPr>
        <p:blipFill>
          <a:blip r:embed="rId2"/>
          <a:stretch/>
        </p:blipFill>
        <p:spPr>
          <a:xfrm>
            <a:off x="1392120" y="1179360"/>
            <a:ext cx="49320" cy="86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设计"/>
          <p:cNvPicPr/>
          <p:nvPr/>
        </p:nvPicPr>
        <p:blipFill>
          <a:blip r:embed="rId3"/>
          <a:stretch/>
        </p:blipFill>
        <p:spPr>
          <a:xfrm>
            <a:off x="6181560" y="1406520"/>
            <a:ext cx="47880" cy="8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2286000" y="2755800"/>
            <a:ext cx="535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2448000" y="2730600"/>
            <a:ext cx="48402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683e3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下午茶的定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683e3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  </a:t>
            </a: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下午茶发展历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683e3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  </a:t>
            </a: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下午茶礼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683e3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  </a:t>
            </a: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列举典型喝下午茶的国家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683e3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  </a:t>
            </a:r>
            <a:r>
              <a:rPr b="1" lang="zh-CN" sz="2600" spc="-1" strike="noStrike">
                <a:solidFill>
                  <a:srgbClr val="605e5d"/>
                </a:solidFill>
                <a:latin typeface="方正新报宋简体"/>
                <a:ea typeface="方正新报宋简体"/>
              </a:rPr>
              <a:t>喝下午茶的功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7" descr="设计"/>
          <p:cNvPicPr/>
          <p:nvPr/>
        </p:nvPicPr>
        <p:blipFill>
          <a:blip r:embed="rId4"/>
          <a:stretch/>
        </p:blipFill>
        <p:spPr>
          <a:xfrm>
            <a:off x="8675640" y="374760"/>
            <a:ext cx="3137040" cy="60973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8"/>
          <p:cNvSpPr/>
          <p:nvPr/>
        </p:nvSpPr>
        <p:spPr>
          <a:xfrm>
            <a:off x="727200" y="35244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83e32"/>
                </a:solidFill>
                <a:latin typeface="Brush Script Std"/>
              </a:rPr>
              <a:t>Tea tim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641760" y="565200"/>
            <a:ext cx="357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享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317600" y="111456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Book Antiqua"/>
              </a:rPr>
              <a:t>YOUR FREEDOM TAKE IT EAS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设计"/>
          <p:cNvPicPr/>
          <p:nvPr/>
        </p:nvPicPr>
        <p:blipFill>
          <a:blip r:embed="rId1"/>
          <a:stretch/>
        </p:blipFill>
        <p:spPr>
          <a:xfrm>
            <a:off x="0" y="0"/>
            <a:ext cx="12192120" cy="68547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619200" y="511200"/>
            <a:ext cx="10945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605e5d"/>
                </a:solidFill>
                <a:latin typeface="Calibri"/>
              </a:rPr>
              <a:t>面对现代社会的高效率、快节奏，上班族的午餐常常吃得太少或者过于匆忙。一顿营养均衡的下午茶不仅能赶走下午的瞌睡虫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605e5d"/>
                </a:solidFill>
                <a:latin typeface="Calibri"/>
              </a:rPr>
              <a:t>还有助于恢复体力，还可以帮助人们保持精力直到黄昏，进而使晚餐比较清淡，养成最完美的饮食习惯。 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605e5d"/>
                </a:solidFill>
                <a:latin typeface="Calibri"/>
              </a:rPr>
              <a:t>此外，实验证明，下午茶还可以增强记忆力和应变力。有喝下午茶习惯的人在记忆力和应变力上，比其他人的平均分值高出</a:t>
            </a:r>
            <a:r>
              <a:rPr b="0" lang="en-US" sz="1300" spc="-1" strike="noStrike">
                <a:solidFill>
                  <a:srgbClr val="605e5d"/>
                </a:solidFill>
                <a:latin typeface="Calibri"/>
              </a:rPr>
              <a:t>15%~20%</a:t>
            </a:r>
            <a:r>
              <a:rPr b="0" lang="zh-CN" sz="1300" spc="-1" strike="noStrike">
                <a:solidFill>
                  <a:srgbClr val="605e5d"/>
                </a:solidFill>
                <a:latin typeface="Calibri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设计"/>
          <p:cNvPicPr/>
          <p:nvPr/>
        </p:nvPicPr>
        <p:blipFill>
          <a:blip r:embed="rId2"/>
          <a:stretch/>
        </p:blipFill>
        <p:spPr>
          <a:xfrm>
            <a:off x="1901880" y="1293840"/>
            <a:ext cx="8199360" cy="499572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>
            <a:off x="3065400" y="1373040"/>
            <a:ext cx="1103400" cy="631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6"/>
          <p:cNvSpPr/>
          <p:nvPr/>
        </p:nvSpPr>
        <p:spPr>
          <a:xfrm rot="10800000">
            <a:off x="5446440" y="2141280"/>
            <a:ext cx="1103400" cy="631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9225000" y="1414440"/>
            <a:ext cx="1103400" cy="631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329640" y="15210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3e32"/>
                </a:solidFill>
                <a:latin typeface="Calibri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5534640" y="2286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3e32"/>
                </a:solidFill>
                <a:latin typeface="Calibri"/>
              </a:rPr>
              <a:t>MONF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9463680" y="157320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3e32"/>
                </a:solidFill>
                <a:latin typeface="Calibri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设计"/>
          <p:cNvPicPr/>
          <p:nvPr/>
        </p:nvPicPr>
        <p:blipFill>
          <a:blip r:embed="rId1"/>
          <a:stretch/>
        </p:blipFill>
        <p:spPr>
          <a:xfrm>
            <a:off x="0" y="0"/>
            <a:ext cx="12192120" cy="68547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647640" y="485640"/>
            <a:ext cx="44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83e32"/>
                </a:solidFill>
                <a:latin typeface="方正新报宋简体"/>
                <a:ea typeface="方正新报宋简体"/>
              </a:rPr>
              <a:t>下 午 茶 的 由 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631800" y="901800"/>
            <a:ext cx="424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83e32"/>
                </a:solidFill>
                <a:latin typeface="Book Antiqua"/>
              </a:rPr>
              <a:t>AFTERNOON TEA HISTO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5" descr="设计"/>
          <p:cNvPicPr/>
          <p:nvPr/>
        </p:nvPicPr>
        <p:blipFill>
          <a:blip r:embed="rId2"/>
          <a:stretch/>
        </p:blipFill>
        <p:spPr>
          <a:xfrm>
            <a:off x="8675640" y="374760"/>
            <a:ext cx="3137040" cy="60973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739800" y="1292400"/>
            <a:ext cx="79516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下午茶是时下流行的餐饮形式之一，各地的下午茶也都有各自独特的习惯和茶点类别。下午茶在世界许多地区由来已久，在国内尤以广东和福建地区为盛，如今随着各地餐饮文化的融合，下午茶已悄然在世界各地逐渐发展起来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从饮茶文化发源来讲，最早于下午喝茶的民族，理应是一向以茶文化著称的古代中国。然而随着时代的发展，将下午茶发展为一种既定习俗的文化方式，则是英国人。 　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世纪时，英国上流社会的早餐都很丰盛，午餐较为简便，而社交晚餐则一直到晚上 ，下午茶八时左右才开始，人们便习惯在下午四时左右吃些点心、喝杯茶。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英国贵族赋予红茶以优雅的形象及丰富华美的品饮方式。下午茶更被视为社交的入门，时尚的象征，是英国人招待朋友开办沙龙的最佳形式。享用下午茶时，英国人喜欢选择极品红茶，配以中国瓷器或银制茶具，摆放在铺有纯白蕾丝花边桌巾的茶桌上，并且用小推车推出各种各样的精制茶点。至于音乐和鲜花更是必不可少，并且以古典为美，曲必悠扬典雅，花必清芬馥郁。 　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1500" spc="-1" strike="noStrike">
                <a:solidFill>
                  <a:srgbClr val="000000"/>
                </a:solidFill>
                <a:latin typeface="Calibri"/>
              </a:rPr>
              <a:t>社会的发展解脱了对女人的束缚，生活空间的扩展使得女人们不再局限于狭小的天地，轻松的下午茶时光，真的变成了享受。如今的女性们越来越注意生活的质量与情趣，那么，在周末的午后举行一次小小的下午茶聚会，招待二三知己，既有气氛又有面子，多好的事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设计"/>
          <p:cNvPicPr/>
          <p:nvPr/>
        </p:nvPicPr>
        <p:blipFill>
          <a:blip r:embed="rId1"/>
          <a:stretch/>
        </p:blipFill>
        <p:spPr>
          <a:xfrm>
            <a:off x="0" y="0"/>
            <a:ext cx="12192120" cy="6854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设计"/>
          <p:cNvPicPr/>
          <p:nvPr/>
        </p:nvPicPr>
        <p:blipFill>
          <a:blip r:embed="rId2"/>
          <a:stretch/>
        </p:blipFill>
        <p:spPr>
          <a:xfrm>
            <a:off x="1392120" y="1179360"/>
            <a:ext cx="49320" cy="86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设计"/>
          <p:cNvPicPr/>
          <p:nvPr/>
        </p:nvPicPr>
        <p:blipFill>
          <a:blip r:embed="rId3"/>
          <a:stretch/>
        </p:blipFill>
        <p:spPr>
          <a:xfrm>
            <a:off x="6168960" y="1395360"/>
            <a:ext cx="49320" cy="856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设计"/>
          <p:cNvPicPr/>
          <p:nvPr/>
        </p:nvPicPr>
        <p:blipFill>
          <a:blip r:embed="rId4"/>
          <a:stretch/>
        </p:blipFill>
        <p:spPr>
          <a:xfrm>
            <a:off x="4917960" y="3654360"/>
            <a:ext cx="2355840" cy="70488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9910800" y="55260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83e32"/>
                </a:solidFill>
                <a:latin typeface="Calibri"/>
                <a:ea typeface="汉仪圆叠体简"/>
              </a:rPr>
              <a:t>下午茶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7" descr="设计"/>
          <p:cNvPicPr/>
          <p:nvPr/>
        </p:nvPicPr>
        <p:blipFill>
          <a:blip r:embed="rId5"/>
          <a:stretch/>
        </p:blipFill>
        <p:spPr>
          <a:xfrm>
            <a:off x="9516960" y="5753160"/>
            <a:ext cx="365400" cy="1648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727200" y="33984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83e32"/>
                </a:solidFill>
                <a:latin typeface="Brush Script Std"/>
              </a:rPr>
              <a:t>Tea tim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641760" y="554040"/>
            <a:ext cx="357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享受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天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汉仪瘦金书简"/>
              </a:rPr>
              <a:t>每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1317600" y="110340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777777"/>
                </a:solidFill>
                <a:latin typeface="Book Antiqua"/>
              </a:rPr>
              <a:t>YOUR FREEDOM TAKE IT EAS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9979200" y="6024600"/>
            <a:ext cx="17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2012-10-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Katherine</dc:creator>
  <dc:description/>
  <dc:language>en-US</dc:language>
  <cp:lastModifiedBy>a</cp:lastModifiedBy>
  <dcterms:modified xsi:type="dcterms:W3CDTF">2015-01-11T17:08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