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FA7-470C-4F82-AC64-D53C016F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EF5-ABE2-4F39-AADC-59912E78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FE1-F4EE-4094-BA20-7B2ED88C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614-1F9A-47A9-879D-5D2BD516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C9E-3A6F-4961-ACF1-967D69C7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1574-B2F3-403E-BCF1-2BB2983B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3920-E433-4959-86D8-3C1FA486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EF37-A1E8-4DFF-AC88-44E758E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5D8-B9AD-4250-894D-7DCA7C5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63F6-2EC1-4EED-9145-D50C966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FF6-7E77-4119-9E96-8DDC208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898-742B-45C2-B3DA-1DF9759A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431C-3800-41AB-A5D0-6A2F17F5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41FA-5E7A-4B95-A613-D80D283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755F-1F3B-4F4D-87A9-9BFD2988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6D86-8C37-405A-8B29-33435CD2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5CB-536B-4612-A967-6B435E09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E1E-4F06-49CA-A805-2EAE85C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1D3-607A-4DEE-BEF0-82CE740E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5CE-8F2A-4ED8-B34C-D5CAD5B3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446-B922-4C39-9D21-98FF6D66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F2D-4F7A-4E33-9739-8E24DC2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F6B-73CE-4DA8-9FA9-B3BF5A8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7B3-EA9E-4BC0-8B1B-052EDE01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7FA7-B47D-4DF7-9EC3-B0CF2C9A7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BE26-BF1F-4B69-BC26-DAFF52B700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C68-66FD-40C3-96E3-EEFAF84BC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雷锋"/>
          <p:cNvPicPr/>
          <p:nvPr/>
        </p:nvPicPr>
        <p:blipFill>
          <a:blip r:embed="rId2"/>
          <a:stretch/>
        </p:blipFill>
        <p:spPr>
          <a:xfrm>
            <a:off x="179280" y="620640"/>
            <a:ext cx="8796600" cy="4176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0572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18143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418143"/>
                </a:solidFill>
                <a:latin typeface="Arial"/>
              </a:rPr>
              <a:t>雷锋日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这天是我永远不能忘记的日子，这天是我最大的荣幸和光荣的日子。我走上了新的战斗岗位，穿上了黄军服，光荣的参加了中国人民解放军。我好几年来的愿望在今天已实现了，真感到万分的高兴和喜悦，这是我一生最大的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我在党的正确领导下，在革命的大家庭里，我一定要好好地锻炼自己，在入伍的这一天，我并提出如下保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听党的话，服从命令听指挥，党指向哪里，我就冲向哪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加强政治学习，多看报纸和政治书籍，按时参加部队各种会议和学习，积极宣传党的政策，密切靠近组织，及时向组织反映各种情况，不断提高自己的政治思想觉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三、尊敬领导，团结同志，互帮互爱互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四、严格遵守部队一切纪律，做到虚心向老战士学习，刻苦钻研，加强军事学习，随时准备打击敌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五、克服一切困难，发扬长辈优良的革命传统。我要坚决做到头可断，血可流，在敌人面前决不屈服、投降。我一定要向董存瑞，黄继光、安业民等英雄的战土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、我要努力学习政治、军事、文化，我要好好的锻炼身体，我一定要在部队争取立功当英雄，我一定要做一个毛泽东时代的好战士，我要把我可爱的青春献给祖国最壮丽的事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以上六条是我努力的方向和我的奋斗目标。今天我太高兴我太激动，千言万语一下要写完是办不到的，因此写到这里告一段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25:30Z</dcterms:created>
  <dc:creator>Administrator</dc:creator>
  <dc:description/>
  <cp:keywords/>
  <dc:language>en-US</dc:language>
  <cp:lastModifiedBy>a</cp:lastModifiedBy>
  <dcterms:modified xsi:type="dcterms:W3CDTF">2014-07-17T06:10:29Z</dcterms:modified>
  <cp:revision>1</cp:revision>
  <dc:subject/>
  <dc:title>  雷锋日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