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3B4-7A38-4506-8CD0-F44B464C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4EC-6062-42B8-997C-60A669E0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BD4-2DD3-43A6-A95A-6CF0CBCF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EAF-57F2-45A6-A4EC-CCE043A7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136-4277-4EED-AFD3-9D42179E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10D-7875-4A62-A110-B6118CB1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FF6-7C96-49E4-82D7-FEFAA58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F2C-336E-4536-BDC1-F5D63438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9A3-21A9-4799-B64E-3F85625B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750-8214-45D8-8641-E116FAF4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0E6-4D67-4FC2-BD45-DC157B9B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851-A822-4CD8-AE1A-B345503E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3BE8-1607-4D99-BEFD-47E310A0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0ED7-965E-42ED-AF66-BC7296C2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FC6C-371E-4485-A852-19EDDD4F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62DA-4EFC-46CE-A033-2A072FED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79E8-BD58-4720-922F-B55777C1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555B-337B-4DFE-B4A0-76D49A19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6F61-E322-423A-AAEE-ABF782EC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CA99-9418-4D07-BEE5-DBD358ED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C9DD-8F47-4569-BCCD-2808E2F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EBC4-3B05-4F27-AFBD-70612A90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23A5-6022-480B-B579-A69F6093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CABD-886F-43DD-9CE0-21E01B7F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628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-71280" y="6267600"/>
            <a:ext cx="9296280" cy="593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0A3A-E6BC-4076-84F6-4124298E0C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 flipV="1">
            <a:off x="250920" y="1224000"/>
            <a:ext cx="8642160" cy="1440"/>
          </a:xfrm>
          <a:prstGeom prst="line">
            <a:avLst/>
          </a:prstGeom>
          <a:ln w="2844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EC35-B11F-4823-94F9-628DF21E28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7628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-71280" y="6267600"/>
            <a:ext cx="9296280" cy="593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9230-555F-4CCE-875A-EB86453689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3378-DF67-4C5F-B8C7-FC85894423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6CA2-5298-4A3F-89A4-A2E11A4511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-71280" y="6267600"/>
            <a:ext cx="9296280" cy="593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2E7B-5F8C-4059-89D7-939824003E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7628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-54000" y="3924360"/>
            <a:ext cx="9293400" cy="29368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1640" y="16286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C:/Users/INK/Desktop/design/img/HIT_main_building_white.pngHIT_main_building_white"/>
          <p:cNvPicPr/>
          <p:nvPr/>
        </p:nvPicPr>
        <p:blipFill>
          <a:blip r:embed="rId1"/>
          <a:stretch/>
        </p:blipFill>
        <p:spPr>
          <a:xfrm>
            <a:off x="27000" y="4057560"/>
            <a:ext cx="6985080" cy="288144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/>
          <p:cNvSpPr/>
          <p:nvPr/>
        </p:nvSpPr>
        <p:spPr>
          <a:xfrm rot="16200000">
            <a:off x="-461880" y="-885960"/>
            <a:ext cx="2462040" cy="1125720"/>
          </a:xfrm>
          <a:custGeom>
            <a:avLst/>
            <a:gdLst>
              <a:gd name="textAreaLeft" fmla="*/ 307800 w 2462040"/>
              <a:gd name="textAreaRight" fmla="*/ 2154600 w 2462040"/>
              <a:gd name="textAreaTop" fmla="*/ 281520 h 1125720"/>
              <a:gd name="textAreaBottom" fmla="*/ 84456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ea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96,11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5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630360" y="1763640"/>
            <a:ext cx="6615000" cy="574920"/>
            <a:chOff x="630360" y="1763640"/>
            <a:chExt cx="6615000" cy="574920"/>
          </a:xfrm>
        </p:grpSpPr>
        <p:sp>
          <p:nvSpPr>
            <p:cNvPr id="215" name="Line 5"/>
            <p:cNvSpPr/>
            <p:nvPr/>
          </p:nvSpPr>
          <p:spPr>
            <a:xfrm>
              <a:off x="1079640" y="2050920"/>
              <a:ext cx="494640" cy="360"/>
            </a:xfrm>
            <a:prstGeom prst="line">
              <a:avLst/>
            </a:prstGeom>
            <a:ln w="2232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630360" y="1763640"/>
              <a:ext cx="576000" cy="574920"/>
            </a:xfrm>
            <a:prstGeom prst="rect">
              <a:avLst/>
            </a:prstGeom>
            <a:solidFill>
              <a:srgbClr val="366b7e"/>
            </a:solidFill>
            <a:ln w="648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1485720" y="1763640"/>
              <a:ext cx="5759640" cy="574920"/>
            </a:xfrm>
            <a:prstGeom prst="rect">
              <a:avLst/>
            </a:prstGeom>
            <a:solidFill>
              <a:srgbClr val="366b7e"/>
            </a:solidFill>
            <a:ln w="936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Be diffe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8" name="AutoShape 7"/>
          <p:cNvCxnSpPr/>
          <p:nvPr/>
        </p:nvCxnSpPr>
        <p:spPr>
          <a:xfrm>
            <a:off x="253800" y="1224000"/>
            <a:ext cx="8639640" cy="2160"/>
          </a:xfrm>
          <a:prstGeom prst="straightConnector1">
            <a:avLst/>
          </a:prstGeom>
          <a:ln w="25560">
            <a:solidFill>
              <a:srgbClr val="6ea0b0"/>
            </a:solidFill>
            <a:miter/>
          </a:ln>
        </p:spPr>
      </p:cxnSp>
      <p:grpSp>
        <p:nvGrpSpPr>
          <p:cNvPr id="219" name="Group 8"/>
          <p:cNvGrpSpPr/>
          <p:nvPr/>
        </p:nvGrpSpPr>
        <p:grpSpPr>
          <a:xfrm>
            <a:off x="1093680" y="3117960"/>
            <a:ext cx="6615360" cy="574560"/>
            <a:chOff x="1093680" y="3117960"/>
            <a:chExt cx="6615360" cy="574560"/>
          </a:xfrm>
        </p:grpSpPr>
        <p:sp>
          <p:nvSpPr>
            <p:cNvPr id="220" name="Line 5"/>
            <p:cNvSpPr/>
            <p:nvPr/>
          </p:nvSpPr>
          <p:spPr>
            <a:xfrm>
              <a:off x="1542960" y="3404880"/>
              <a:ext cx="494640" cy="360"/>
            </a:xfrm>
            <a:prstGeom prst="line">
              <a:avLst/>
            </a:prstGeom>
            <a:ln w="2232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1093680" y="3117960"/>
              <a:ext cx="576000" cy="574560"/>
            </a:xfrm>
            <a:prstGeom prst="rect">
              <a:avLst/>
            </a:prstGeom>
            <a:solidFill>
              <a:srgbClr val="366b7e"/>
            </a:solidFill>
            <a:ln w="648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7"/>
            <p:cNvSpPr/>
            <p:nvPr/>
          </p:nvSpPr>
          <p:spPr>
            <a:xfrm>
              <a:off x="1949040" y="3117960"/>
              <a:ext cx="5760000" cy="574560"/>
            </a:xfrm>
            <a:prstGeom prst="rect">
              <a:avLst/>
            </a:prstGeom>
            <a:solidFill>
              <a:srgbClr val="366b7e"/>
            </a:solidFill>
            <a:ln w="936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Keep it sim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2"/>
          <p:cNvGrpSpPr/>
          <p:nvPr/>
        </p:nvGrpSpPr>
        <p:grpSpPr>
          <a:xfrm>
            <a:off x="1557360" y="4471920"/>
            <a:ext cx="6615000" cy="576360"/>
            <a:chOff x="1557360" y="4471920"/>
            <a:chExt cx="6615000" cy="576360"/>
          </a:xfrm>
        </p:grpSpPr>
        <p:sp>
          <p:nvSpPr>
            <p:cNvPr id="224" name="Line 5"/>
            <p:cNvSpPr/>
            <p:nvPr/>
          </p:nvSpPr>
          <p:spPr>
            <a:xfrm>
              <a:off x="2006640" y="4759560"/>
              <a:ext cx="494640" cy="360"/>
            </a:xfrm>
            <a:prstGeom prst="line">
              <a:avLst/>
            </a:prstGeom>
            <a:ln w="2232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1557360" y="4471920"/>
              <a:ext cx="576000" cy="576360"/>
            </a:xfrm>
            <a:prstGeom prst="rect">
              <a:avLst/>
            </a:prstGeom>
            <a:solidFill>
              <a:srgbClr val="366b7e"/>
            </a:solidFill>
            <a:ln w="648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2412720" y="4471920"/>
              <a:ext cx="5759640" cy="576360"/>
            </a:xfrm>
            <a:prstGeom prst="rect">
              <a:avLst/>
            </a:prstGeom>
            <a:solidFill>
              <a:srgbClr val="366b7e"/>
            </a:solidFill>
            <a:ln w="9360">
              <a:solidFill>
                <a:srgbClr val="366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Make this yo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 rot="18900000">
            <a:off x="2409840" y="2980800"/>
            <a:ext cx="917640" cy="898560"/>
          </a:xfrm>
          <a:prstGeom prst="rect">
            <a:avLst/>
          </a:prstGeom>
          <a:solidFill>
            <a:srgbClr val="366b7e"/>
          </a:solidFill>
          <a:ln w="648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882800" y="3214440"/>
            <a:ext cx="1992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"/>
          <p:cNvSpPr/>
          <p:nvPr/>
        </p:nvSpPr>
        <p:spPr>
          <a:xfrm>
            <a:off x="3581280" y="3429000"/>
            <a:ext cx="4365720" cy="0"/>
          </a:xfrm>
          <a:prstGeom prst="line">
            <a:avLst/>
          </a:prstGeom>
          <a:ln w="2844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708360" y="2708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diffe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/Users/INK/Desktop/design/img/dare-to-be-different-pictures11.jpegdare-to-be-different-pictures11"/>
          <p:cNvPicPr/>
          <p:nvPr/>
        </p:nvPicPr>
        <p:blipFill>
          <a:blip r:embed="rId1"/>
          <a:srcRect l="0" t="26328" r="0" b="0"/>
          <a:stretch/>
        </p:blipFill>
        <p:spPr>
          <a:xfrm>
            <a:off x="-324000" y="-162000"/>
            <a:ext cx="9614160" cy="70819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6280" y="14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Make a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 rot="18900000">
            <a:off x="2409840" y="2980800"/>
            <a:ext cx="917640" cy="898560"/>
          </a:xfrm>
          <a:prstGeom prst="rect">
            <a:avLst/>
          </a:prstGeom>
          <a:solidFill>
            <a:srgbClr val="366b7e"/>
          </a:solidFill>
          <a:ln w="648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882800" y="3214440"/>
            <a:ext cx="1992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3581280" y="3429000"/>
            <a:ext cx="4365720" cy="0"/>
          </a:xfrm>
          <a:prstGeom prst="line">
            <a:avLst/>
          </a:prstGeom>
          <a:ln w="2844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762360" y="2708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it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3" descr=""/>
          <p:cNvPicPr/>
          <p:nvPr/>
        </p:nvPicPr>
        <p:blipFill>
          <a:blip r:embed="rId1"/>
          <a:stretch/>
        </p:blipFill>
        <p:spPr>
          <a:xfrm>
            <a:off x="2232000" y="2303640"/>
            <a:ext cx="5283360" cy="20714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 rot="18900000">
            <a:off x="2409840" y="2980800"/>
            <a:ext cx="917640" cy="898560"/>
          </a:xfrm>
          <a:prstGeom prst="rect">
            <a:avLst/>
          </a:prstGeom>
          <a:solidFill>
            <a:srgbClr val="366b7e"/>
          </a:solidFill>
          <a:ln w="648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882800" y="3214800"/>
            <a:ext cx="1992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3581280" y="3429000"/>
            <a:ext cx="4365720" cy="0"/>
          </a:xfrm>
          <a:prstGeom prst="line">
            <a:avLst/>
          </a:prstGeom>
          <a:ln w="28440">
            <a:solidFill>
              <a:srgbClr val="366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716280" y="2708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this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ange 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476280" y="2584440"/>
            <a:ext cx="8416800" cy="14241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927000" y="1617840"/>
            <a:ext cx="39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幻灯片母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2"/>
          <a:stretch/>
        </p:blipFill>
        <p:spPr>
          <a:xfrm>
            <a:off x="5832360" y="2800440"/>
            <a:ext cx="668520" cy="849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2050920" y="4375080"/>
            <a:ext cx="39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然后更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403542 0.065556 E">
                                      <p:cBhvr>
                                        <p:cTn id="77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-54000" y="3924360"/>
            <a:ext cx="9293400" cy="293688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C:/Users/INK/Desktop/design/img/HIT_main_building_white.pngHIT_main_building_white"/>
          <p:cNvPicPr/>
          <p:nvPr/>
        </p:nvPicPr>
        <p:blipFill>
          <a:blip r:embed="rId1"/>
          <a:stretch/>
        </p:blipFill>
        <p:spPr>
          <a:xfrm>
            <a:off x="27000" y="4057560"/>
            <a:ext cx="6985080" cy="2881440"/>
          </a:xfrm>
          <a:prstGeom prst="rect">
            <a:avLst/>
          </a:prstGeom>
          <a:ln w="0">
            <a:noFill/>
          </a:ln>
        </p:spPr>
      </p:pic>
      <p:sp>
        <p:nvSpPr>
          <p:cNvPr id="249" name="标题 1"/>
          <p:cNvSpPr/>
          <p:nvPr/>
        </p:nvSpPr>
        <p:spPr>
          <a:xfrm>
            <a:off x="527040" y="198900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ea0b0"/>
                </a:solidFill>
                <a:latin typeface="Bitsumishi"/>
                <a:ea typeface="微软雅黑"/>
              </a:rPr>
              <a:t>Thanks</a:t>
            </a:r>
            <a:r>
              <a:rPr b="0" lang="zh-CN" sz="8000" spc="-1" strike="noStrike">
                <a:solidFill>
                  <a:srgbClr val="6ea0b0"/>
                </a:solidFill>
                <a:latin typeface="Bitsumishi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 rot="16200000">
            <a:off x="-461880" y="-885960"/>
            <a:ext cx="2462040" cy="1125720"/>
          </a:xfrm>
          <a:custGeom>
            <a:avLst/>
            <a:gdLst>
              <a:gd name="textAreaLeft" fmla="*/ 307800 w 2462040"/>
              <a:gd name="textAreaRight" fmla="*/ 2154600 w 2462040"/>
              <a:gd name="textAreaTop" fmla="*/ 281520 h 1125720"/>
              <a:gd name="textAreaBottom" fmla="*/ 844560 h 1125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ea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7:36:32Z</dcterms:created>
  <dc:creator>sg</dc:creator>
  <dc:description/>
  <dc:language>en-US</dc:language>
  <cp:lastModifiedBy>a</cp:lastModifiedBy>
  <dcterms:modified xsi:type="dcterms:W3CDTF">2015-01-12T07:38:36Z</dcterms:modified>
  <cp:revision>1</cp:revision>
  <dc:subject/>
  <dc:title>Make a dif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