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42C-19D6-45CC-9D58-F7ABE963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DCE-49FD-48EB-8B05-C398825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B98-0FF6-4ABB-A3E1-DB0A4C0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38B-F9F8-44E4-800F-B92AA31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77C-7808-484F-8068-92959CD4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404A-B80D-4C30-B92C-E4E417E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0DA-9EF4-4A7C-847D-E13D494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7A1D-113E-4B6B-94F8-04885AB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AB87-0BDB-4A74-BB13-AC20706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EB6F-37C2-49A6-97D2-824C9B9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219C-08D4-4D16-9150-AD06E67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37-1072-4EFC-BA78-81F0C324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0EFD-E37D-46DE-97F9-8FCC054A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1561-388C-437E-948B-5130C21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F0C-B337-4662-9BDC-239B634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349-EE4A-48E0-AC1E-FFF37688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B85-82D0-4D5C-AAB9-AF5C7241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BE3-63D6-40B7-B31B-E4C7540F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A06-5309-4488-8FA9-C6788941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5E-971E-4B24-9A13-5B9D863A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34C-5920-46BF-9FC4-EF157AC5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489-C447-4079-AA81-4882E47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033-51ED-4B9B-9ED3-3EAD123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F6E-7A6C-4503-BCDD-BBB636A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97C4-72A6-47CE-AF4A-FC6E81F626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55E-1FE2-4D85-BB3D-5FCE420BB3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6E52-0648-4B48-9518-1BBCEB1B07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1922-BAC2-443F-8590-5F82C036B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327320"/>
            <a:ext cx="65404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愚人节想玩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2560" y="6383160"/>
            <a:ext cx="229248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42892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黑体"/>
              </a:rPr>
              <a:t>多谢观看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02:00Z</dcterms:created>
  <dc:creator/>
  <dc:description/>
  <dc:language>en-US</dc:language>
  <cp:lastModifiedBy>a</cp:lastModifiedBy>
  <dcterms:modified xsi:type="dcterms:W3CDTF">2015-01-12T08:57:56Z</dcterms:modified>
  <cp:revision>1</cp:revision>
  <dc:subject>April Fool's Day</dc:subject>
  <dc:title>愚人节想玩什么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