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255-A3F1-41AA-A623-97A134DE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7180-9A7E-48B5-9210-5C21D3EEF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EA82-6D74-484B-A4E1-16E398C0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8568-52CD-492C-8361-90E3F8EAE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1002-E02C-4A04-BDFC-EF6AF6EE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28D3-BA6E-4F54-83F5-D3F695DD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C217-D5B3-48F2-A0F8-81EEAB1F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067D-B25A-4CF8-A01E-85470D60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72AD-678E-4374-85E8-82926319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E864-0AEA-418F-A57F-D1534421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8F76-CD14-45D1-8701-9ACB055E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82C2-E7D4-4ABA-9ACE-88D4BC05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BD897-3965-4BAD-AA75-9577C4C3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73605-1F58-439D-B47D-F7D3D234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0F36-78D0-4358-8F33-0649C492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E8C0-D467-46D6-8FE8-1A26BF28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31E1-3044-4E01-9F16-CF7D22F7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32BA-9C00-4B7B-B2A5-2C234B663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A70-5304-42C9-B475-34B0CB9E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1FD-093D-4631-AE16-50FE1AB8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E960-B38C-46CD-BDD8-A0F0E6C78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4165-3F7F-4DB3-9026-FF3EA337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EA5-1669-448A-A90D-BA0C6019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C9CA-B464-4881-A269-9610A652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45BB-8F31-4CDB-B99F-B74876E20A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A286-2585-4C6C-95D9-AB442D1AF0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4677-D493-463C-AC3D-833A1F6039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706200" y="4294080"/>
            <a:ext cx="469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5434200" y="522936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适用于卡通简约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495840" y="5734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 Light"/>
              </a:rPr>
              <a:t>站长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61568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57604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83168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600912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688040" y="378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080760" y="371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904040" y="371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152040" y="371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759680" y="3718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864040" y="364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975320" y="3789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007680" y="386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点击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1:53:25Z</dcterms:created>
  <dc:creator>Administrator</dc:creator>
  <dc:description/>
  <dc:language>en-US</dc:language>
  <cp:lastModifiedBy>a</cp:lastModifiedBy>
  <dcterms:modified xsi:type="dcterms:W3CDTF">2015-01-12T12:54:31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