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EE7-22E2-4619-BE8B-719850A6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BB9-80F4-46BE-AEA6-E3E1BFF6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3C1-0E5D-4974-9486-385EA1F0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E6E-B03F-4471-BDD7-6C102F04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61A2-A4B3-40AA-9C1B-63FE0A65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374C-BE41-4328-B275-EE73F084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721A-6FFD-46F0-9BEC-803B02F3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D90F-1A56-4EDC-8777-058E95E5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EA94-0D12-4792-ACBA-D03A1A45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D0F0-16B8-4987-8DF7-22101FEF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470C-13AB-401B-8DBE-E86180CE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167-8DF9-42D3-B978-AEC45AD2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7766-54B5-4F3B-AD24-6CD6EEED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FF2B-B85C-47D0-8811-6963305A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9A73-3340-4B24-B43C-FC04025E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742A-50FD-4B72-A394-AC8CE002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C815-16BA-43EA-8BA7-C5AD0BE3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5535-693D-4C79-AE62-45036B1E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61A8-3B7B-4C83-8F6C-4744935F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3DDA8-9029-4078-98CD-92815394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9AA7-5B40-43F6-98A5-26081555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492B8-B929-4BD4-9E23-F1E50538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FEA-72EF-4EE8-95B0-AB153B74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D9AA-8E0C-4C47-83FD-8B71FBD6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7FB34-3874-4956-BCA9-0D51CB72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D37E5-F5FC-460C-96B6-3BDC64A9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EFEC8-BE46-4898-A040-9DDEF181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86349-08B1-4D35-AF01-C0C5B5E2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5FB1C-657C-489E-BA79-5F9CD882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9DA52-EAE6-4039-809B-92FEA76C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495-C21C-48A2-83A0-1BD79FF0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A8A-03B1-4933-9370-18A526F9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3055-3635-4C95-9EC5-7A90B659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A93-16E6-43C9-BDD1-098DD354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1C4-4E61-4AEA-B5FC-6D529F22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87B-EE6E-4907-AA07-C44E84C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4AB3-86D5-4DF8-83F5-BAF10405CC9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1A9C-CCDD-4627-BD97-DE72F010E65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82D1-129B-4067-8B92-36120F1CF4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3EC8-9CF1-4F7B-9E01-1390AD8519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692360" y="2565360"/>
            <a:ext cx="422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仿宋"/>
              </a:rPr>
              <a:t>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"/>
              </a:rPr>
              <a:t>【</a:t>
            </a:r>
            <a:r>
              <a:rPr b="0" lang="zh-CN" sz="4000" spc="-1" strike="noStrike">
                <a:solidFill>
                  <a:srgbClr val="000000"/>
                </a:solidFill>
                <a:latin typeface="BrowalliaUPC"/>
                <a:ea typeface="仿宋"/>
              </a:rPr>
              <a:t>cha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587840" y="2747880"/>
            <a:ext cx="272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658160" y="1219320"/>
            <a:ext cx="78984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仿宋"/>
              </a:rPr>
              <a:t>目录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mu lu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063240" y="1219320"/>
            <a:ext cx="60696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轻松办公  【</a:t>
            </a:r>
            <a:r>
              <a:rPr b="0" lang="zh-CN" sz="2800" spc="-1" strike="noStrike">
                <a:solidFill>
                  <a:srgbClr val="000000"/>
                </a:solidFill>
                <a:latin typeface="Ebrima"/>
                <a:ea typeface="仿宋"/>
              </a:rPr>
              <a:t>qing so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353840" y="1219320"/>
            <a:ext cx="60696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宁静办公  【</a:t>
            </a:r>
            <a:r>
              <a:rPr b="0" lang="zh-CN" sz="2800" spc="-1" strike="noStrike">
                <a:solidFill>
                  <a:srgbClr val="000000"/>
                </a:solidFill>
                <a:latin typeface="Ebrima"/>
                <a:ea typeface="仿宋"/>
              </a:rPr>
              <a:t>ning j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91160" y="1219320"/>
            <a:ext cx="45720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067520" y="812880"/>
            <a:ext cx="4572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743080" y="1219320"/>
            <a:ext cx="606960" cy="51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从容办公  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cong ro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070040" y="1219320"/>
            <a:ext cx="6069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超然办公  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chao ra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32000" y="1706400"/>
            <a:ext cx="648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仿宋"/>
              </a:rPr>
              <a:t>轻松办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195640" y="3137040"/>
            <a:ext cx="68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qing song ban gon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898560" y="97776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禅意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116000" y="1989000"/>
            <a:ext cx="705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工作中，人难免浮躁，何况还要面对工作压力、生活纠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此时，不妨借鉴禅理所倡导的淡泊心境，在办公生活中营造出一块空灵意境，为心灵寻求些许宁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职场，不过是工作场所而已，既不是天堂，也不是地狱。所谓的天堂或地域，都只是人们在不同的心态下对它作出的评定。我们之所以对职场生活存在种种烦恼、恐惧与不安，正是因为我们在当下活得还不够清醒。人生犹如爬山，职场是爬上顶峰的阶梯，能否最终到达山巅，不在于路途的风景，而在于每一级台阶是否走得踏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智光大师在《工作禅》中说得很有道理，在人生的征途上，不要被工作的肉身遮住眼睛，应该多一点禅意的工作。丢掉“为了明天，牺牲今天”的想法吧，你该努力拼搏，使自己在当下的每分每秒都能欢愉幸福地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023000" y="3071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谢谢  观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654280" y="3884760"/>
            <a:ext cx="1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117960" y="3884760"/>
            <a:ext cx="32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ie xie guan shan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13:18:07Z</dcterms:created>
  <dc:creator>sg</dc:creator>
  <dc:description/>
  <dc:language>en-US</dc:language>
  <cp:lastModifiedBy>a</cp:lastModifiedBy>
  <dcterms:modified xsi:type="dcterms:W3CDTF">2015-01-12T13:19:2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