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579-0631-40CA-8F13-B85BD753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F2E-C5B8-4EFC-9E2E-2BA5FEAA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056-9FE6-4397-A52E-9C6CCEDD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3D0-154F-48DE-9EF3-85E6BD25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055-454F-46C7-B661-6CDD434B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80F1-1381-46F9-A26B-561E4F36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E60A-41A6-4B55-9882-1B2FB818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487E-C417-4825-A9B1-0719009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0EAC-EDE0-4D0E-9F6C-0177BFA9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06E9-57B3-41B0-BC3A-B975F5C4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7503-14B2-4A6C-A1A3-EE89916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342-7F39-4D2A-9430-431D153A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CC77-42B2-4FC4-99EF-FF15C0DB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901F-3CDA-48C2-8B2D-E81F479D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46DF-31A2-4F0D-BEB8-5D1C82F4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0AFB-35C7-4F12-912E-8A5CDBB4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F5BE-7FED-4104-8C78-ABF734AC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F66-5C79-420E-857A-C10716CA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C98-E61A-41C7-A921-7C59FDCC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1C2-CE9B-4577-959A-A9469CF6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F82-BB68-492C-AC5B-ED6F8C23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EF1-747F-487D-B4E6-C308EFAB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D2F-6FE6-445D-A905-AE741AD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438-4B9B-4157-93F9-28C1DF7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569D-21A9-4616-BC87-0ACDE4F4245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3C9F-301F-4180-B35D-18E2D2F777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4322-EE0F-43E5-82B6-F171E52B53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F334-9F0F-4419-A0FC-0C4BA2AB4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1028880" cy="6858000"/>
            <a:chOff x="0" y="0"/>
            <a:chExt cx="1028880" cy="6858000"/>
          </a:xfrm>
        </p:grpSpPr>
        <p:sp>
          <p:nvSpPr>
            <p:cNvPr id="83" name="任意多边形 7"/>
            <p:cNvSpPr/>
            <p:nvPr/>
          </p:nvSpPr>
          <p:spPr>
            <a:xfrm>
              <a:off x="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"/>
            <p:cNvSpPr/>
            <p:nvPr/>
          </p:nvSpPr>
          <p:spPr>
            <a:xfrm>
              <a:off x="51444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4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"/>
          <p:cNvGrpSpPr/>
          <p:nvPr/>
        </p:nvGrpSpPr>
        <p:grpSpPr>
          <a:xfrm>
            <a:off x="901800" y="0"/>
            <a:ext cx="1028520" cy="6858000"/>
            <a:chOff x="901800" y="0"/>
            <a:chExt cx="1028520" cy="6858000"/>
          </a:xfrm>
        </p:grpSpPr>
        <p:sp>
          <p:nvSpPr>
            <p:cNvPr id="86" name="任意多边形 9"/>
            <p:cNvSpPr/>
            <p:nvPr/>
          </p:nvSpPr>
          <p:spPr>
            <a:xfrm>
              <a:off x="90180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fc6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0"/>
            <p:cNvSpPr/>
            <p:nvPr/>
          </p:nvSpPr>
          <p:spPr>
            <a:xfrm>
              <a:off x="14158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"/>
          <p:cNvGrpSpPr/>
          <p:nvPr/>
        </p:nvGrpSpPr>
        <p:grpSpPr>
          <a:xfrm>
            <a:off x="1803240" y="0"/>
            <a:ext cx="1028880" cy="6858000"/>
            <a:chOff x="1803240" y="0"/>
            <a:chExt cx="1028880" cy="6858000"/>
          </a:xfrm>
        </p:grpSpPr>
        <p:sp>
          <p:nvSpPr>
            <p:cNvPr id="89" name="任意多边形 11"/>
            <p:cNvSpPr/>
            <p:nvPr/>
          </p:nvSpPr>
          <p:spPr>
            <a:xfrm>
              <a:off x="180324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ffc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12"/>
            <p:cNvSpPr/>
            <p:nvPr/>
          </p:nvSpPr>
          <p:spPr>
            <a:xfrm>
              <a:off x="23176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b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1"/>
          <p:cNvGrpSpPr/>
          <p:nvPr/>
        </p:nvGrpSpPr>
        <p:grpSpPr>
          <a:xfrm>
            <a:off x="2705040" y="0"/>
            <a:ext cx="1028880" cy="6858000"/>
            <a:chOff x="2705040" y="0"/>
            <a:chExt cx="1028880" cy="6858000"/>
          </a:xfrm>
        </p:grpSpPr>
        <p:sp>
          <p:nvSpPr>
            <p:cNvPr id="92" name="任意多边形 13"/>
            <p:cNvSpPr/>
            <p:nvPr/>
          </p:nvSpPr>
          <p:spPr>
            <a:xfrm>
              <a:off x="270504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a0d4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4"/>
            <p:cNvSpPr/>
            <p:nvPr/>
          </p:nvSpPr>
          <p:spPr>
            <a:xfrm>
              <a:off x="32194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c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3606840" y="0"/>
            <a:ext cx="1028520" cy="6858000"/>
            <a:chOff x="3606840" y="0"/>
            <a:chExt cx="1028520" cy="6858000"/>
          </a:xfrm>
        </p:grpSpPr>
        <p:sp>
          <p:nvSpPr>
            <p:cNvPr id="95" name="任意多边形 15"/>
            <p:cNvSpPr/>
            <p:nvPr/>
          </p:nvSpPr>
          <p:spPr>
            <a:xfrm>
              <a:off x="360684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6"/>
            <p:cNvSpPr/>
            <p:nvPr/>
          </p:nvSpPr>
          <p:spPr>
            <a:xfrm>
              <a:off x="412092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7"/>
          <p:cNvGrpSpPr/>
          <p:nvPr/>
        </p:nvGrpSpPr>
        <p:grpSpPr>
          <a:xfrm>
            <a:off x="4508640" y="0"/>
            <a:ext cx="1028520" cy="6858000"/>
            <a:chOff x="4508640" y="0"/>
            <a:chExt cx="1028520" cy="6858000"/>
          </a:xfrm>
        </p:grpSpPr>
        <p:sp>
          <p:nvSpPr>
            <p:cNvPr id="98" name="任意多边形 17"/>
            <p:cNvSpPr/>
            <p:nvPr/>
          </p:nvSpPr>
          <p:spPr>
            <a:xfrm>
              <a:off x="450864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4f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8"/>
            <p:cNvSpPr/>
            <p:nvPr/>
          </p:nvSpPr>
          <p:spPr>
            <a:xfrm>
              <a:off x="502272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a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0"/>
          <p:cNvGrpSpPr/>
          <p:nvPr/>
        </p:nvGrpSpPr>
        <p:grpSpPr>
          <a:xfrm>
            <a:off x="5410080" y="0"/>
            <a:ext cx="1028880" cy="6858000"/>
            <a:chOff x="5410080" y="0"/>
            <a:chExt cx="1028880" cy="6858000"/>
          </a:xfrm>
        </p:grpSpPr>
        <p:sp>
          <p:nvSpPr>
            <p:cNvPr id="101" name="任意多边形 19"/>
            <p:cNvSpPr/>
            <p:nvPr/>
          </p:nvSpPr>
          <p:spPr>
            <a:xfrm>
              <a:off x="54100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5d9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20"/>
            <p:cNvSpPr/>
            <p:nvPr/>
          </p:nvSpPr>
          <p:spPr>
            <a:xfrm>
              <a:off x="592452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89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3"/>
          <p:cNvGrpSpPr/>
          <p:nvPr/>
        </p:nvGrpSpPr>
        <p:grpSpPr>
          <a:xfrm>
            <a:off x="6311880" y="0"/>
            <a:ext cx="1028880" cy="6858000"/>
            <a:chOff x="6311880" y="0"/>
            <a:chExt cx="1028880" cy="6858000"/>
          </a:xfrm>
        </p:grpSpPr>
        <p:sp>
          <p:nvSpPr>
            <p:cNvPr id="104" name="任意多边形 21"/>
            <p:cNvSpPr/>
            <p:nvPr/>
          </p:nvSpPr>
          <p:spPr>
            <a:xfrm>
              <a:off x="63118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ec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22"/>
            <p:cNvSpPr/>
            <p:nvPr/>
          </p:nvSpPr>
          <p:spPr>
            <a:xfrm>
              <a:off x="682632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6"/>
          <p:cNvGrpSpPr/>
          <p:nvPr/>
        </p:nvGrpSpPr>
        <p:grpSpPr>
          <a:xfrm>
            <a:off x="7213680" y="0"/>
            <a:ext cx="1028520" cy="6858000"/>
            <a:chOff x="7213680" y="0"/>
            <a:chExt cx="1028520" cy="6858000"/>
          </a:xfrm>
        </p:grpSpPr>
        <p:sp>
          <p:nvSpPr>
            <p:cNvPr id="107" name="任意多边形 23"/>
            <p:cNvSpPr/>
            <p:nvPr/>
          </p:nvSpPr>
          <p:spPr>
            <a:xfrm>
              <a:off x="721368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cc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24"/>
            <p:cNvSpPr/>
            <p:nvPr/>
          </p:nvSpPr>
          <p:spPr>
            <a:xfrm>
              <a:off x="772776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9"/>
          <p:cNvGrpSpPr/>
          <p:nvPr/>
        </p:nvGrpSpPr>
        <p:grpSpPr>
          <a:xfrm>
            <a:off x="8115480" y="0"/>
            <a:ext cx="1028520" cy="6858000"/>
            <a:chOff x="8115480" y="0"/>
            <a:chExt cx="1028520" cy="6858000"/>
          </a:xfrm>
        </p:grpSpPr>
        <p:sp>
          <p:nvSpPr>
            <p:cNvPr id="110" name="任意多边形 25"/>
            <p:cNvSpPr/>
            <p:nvPr/>
          </p:nvSpPr>
          <p:spPr>
            <a:xfrm>
              <a:off x="811548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26"/>
            <p:cNvSpPr/>
            <p:nvPr/>
          </p:nvSpPr>
          <p:spPr>
            <a:xfrm>
              <a:off x="862956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圆角矩形 37"/>
          <p:cNvSpPr/>
          <p:nvPr/>
        </p:nvSpPr>
        <p:spPr>
          <a:xfrm>
            <a:off x="2444760" y="2228760"/>
            <a:ext cx="425448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8"/>
          <p:cNvSpPr/>
          <p:nvPr/>
        </p:nvSpPr>
        <p:spPr>
          <a:xfrm>
            <a:off x="3452760" y="23432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康俪金黑W8(P)"/>
                <a:ea typeface="华康俪金黑W8(P)"/>
              </a:rPr>
              <a:t>多彩的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ec87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d77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粉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粉玫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9"/>
          <p:cNvGrpSpPr/>
          <p:nvPr/>
        </p:nvGrpSpPr>
        <p:grpSpPr>
          <a:xfrm>
            <a:off x="6480360" y="586080"/>
            <a:ext cx="1372320" cy="1166760"/>
            <a:chOff x="6480360" y="586080"/>
            <a:chExt cx="1372320" cy="1166760"/>
          </a:xfrm>
        </p:grpSpPr>
        <p:sp>
          <p:nvSpPr>
            <p:cNvPr id="257" name="新月形 9"/>
            <p:cNvSpPr/>
            <p:nvPr/>
          </p:nvSpPr>
          <p:spPr>
            <a:xfrm rot="17100000">
              <a:off x="7017840" y="1149480"/>
              <a:ext cx="196200" cy="42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新月形 17"/>
            <p:cNvSpPr/>
            <p:nvPr/>
          </p:nvSpPr>
          <p:spPr>
            <a:xfrm rot="7362000">
              <a:off x="7183440" y="978120"/>
              <a:ext cx="196200" cy="42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新月形 19"/>
            <p:cNvSpPr/>
            <p:nvPr/>
          </p:nvSpPr>
          <p:spPr>
            <a:xfrm rot="2466600">
              <a:off x="6857640" y="901800"/>
              <a:ext cx="196200" cy="42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新月形 20"/>
            <p:cNvSpPr/>
            <p:nvPr/>
          </p:nvSpPr>
          <p:spPr>
            <a:xfrm rot="2466600">
              <a:off x="6753960" y="606600"/>
              <a:ext cx="21996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新月形 22"/>
            <p:cNvSpPr/>
            <p:nvPr/>
          </p:nvSpPr>
          <p:spPr>
            <a:xfrm rot="7823400">
              <a:off x="7247160" y="590760"/>
              <a:ext cx="330840" cy="68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新月形 23"/>
            <p:cNvSpPr/>
            <p:nvPr/>
          </p:nvSpPr>
          <p:spPr>
            <a:xfrm rot="13389600">
              <a:off x="7423920" y="1108440"/>
              <a:ext cx="241200" cy="64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新月形 24"/>
            <p:cNvSpPr/>
            <p:nvPr/>
          </p:nvSpPr>
          <p:spPr>
            <a:xfrm rot="17936400">
              <a:off x="6745320" y="1048680"/>
              <a:ext cx="290880" cy="77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673400" y="1079280"/>
            <a:ext cx="623520" cy="597240"/>
            <a:chOff x="7673400" y="1079280"/>
            <a:chExt cx="623520" cy="597240"/>
          </a:xfrm>
        </p:grpSpPr>
        <p:sp>
          <p:nvSpPr>
            <p:cNvPr id="265" name="新月形 26"/>
            <p:cNvSpPr/>
            <p:nvPr/>
          </p:nvSpPr>
          <p:spPr>
            <a:xfrm rot="19765200">
              <a:off x="7867440" y="1306080"/>
              <a:ext cx="104400" cy="22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新月形 27"/>
            <p:cNvSpPr/>
            <p:nvPr/>
          </p:nvSpPr>
          <p:spPr>
            <a:xfrm rot="10026600">
              <a:off x="7994880" y="1302120"/>
              <a:ext cx="104400" cy="22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新月形 28"/>
            <p:cNvSpPr/>
            <p:nvPr/>
          </p:nvSpPr>
          <p:spPr>
            <a:xfrm rot="5130600">
              <a:off x="7899840" y="1152000"/>
              <a:ext cx="104400" cy="22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新月形 29"/>
            <p:cNvSpPr/>
            <p:nvPr/>
          </p:nvSpPr>
          <p:spPr>
            <a:xfrm rot="5130600">
              <a:off x="7937640" y="992160"/>
              <a:ext cx="117000" cy="31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新月形 30"/>
            <p:cNvSpPr/>
            <p:nvPr/>
          </p:nvSpPr>
          <p:spPr>
            <a:xfrm rot="10488000">
              <a:off x="8103960" y="1183320"/>
              <a:ext cx="17640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新月形 31"/>
            <p:cNvSpPr/>
            <p:nvPr/>
          </p:nvSpPr>
          <p:spPr>
            <a:xfrm rot="16054800">
              <a:off x="7993080" y="1433160"/>
              <a:ext cx="128520" cy="34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新月形 32"/>
            <p:cNvSpPr/>
            <p:nvPr/>
          </p:nvSpPr>
          <p:spPr>
            <a:xfrm rot="20601600">
              <a:off x="7729200" y="1157400"/>
              <a:ext cx="155160" cy="41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ccd1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aab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银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水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6354720" y="1030320"/>
            <a:ext cx="671400" cy="582480"/>
            <a:chOff x="6354720" y="1030320"/>
            <a:chExt cx="671400" cy="582480"/>
          </a:xfrm>
        </p:grpSpPr>
        <p:sp>
          <p:nvSpPr>
            <p:cNvPr id="280" name="椭圆 8"/>
            <p:cNvSpPr/>
            <p:nvPr/>
          </p:nvSpPr>
          <p:spPr>
            <a:xfrm>
              <a:off x="6354720" y="1030320"/>
              <a:ext cx="671400" cy="58248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9"/>
            <p:cNvSpPr/>
            <p:nvPr/>
          </p:nvSpPr>
          <p:spPr>
            <a:xfrm>
              <a:off x="6390360" y="1035720"/>
              <a:ext cx="600120" cy="434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1"/>
            <p:cNvSpPr/>
            <p:nvPr/>
          </p:nvSpPr>
          <p:spPr>
            <a:xfrm>
              <a:off x="6782040" y="1404720"/>
              <a:ext cx="150840" cy="1310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3"/>
          <p:cNvGrpSpPr/>
          <p:nvPr/>
        </p:nvGrpSpPr>
        <p:grpSpPr>
          <a:xfrm>
            <a:off x="7418520" y="1171440"/>
            <a:ext cx="420480" cy="363600"/>
            <a:chOff x="7418520" y="1171440"/>
            <a:chExt cx="420480" cy="363600"/>
          </a:xfrm>
        </p:grpSpPr>
        <p:sp>
          <p:nvSpPr>
            <p:cNvPr id="284" name="椭圆 19"/>
            <p:cNvSpPr/>
            <p:nvPr/>
          </p:nvSpPr>
          <p:spPr>
            <a:xfrm>
              <a:off x="7418520" y="1171440"/>
              <a:ext cx="420480" cy="36360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20"/>
            <p:cNvSpPr/>
            <p:nvPr/>
          </p:nvSpPr>
          <p:spPr>
            <a:xfrm>
              <a:off x="7440840" y="1174680"/>
              <a:ext cx="375840" cy="271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22"/>
            <p:cNvSpPr/>
            <p:nvPr/>
          </p:nvSpPr>
          <p:spPr>
            <a:xfrm>
              <a:off x="7686000" y="1405080"/>
              <a:ext cx="94320" cy="817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7"/>
          <p:cNvGrpSpPr/>
          <p:nvPr/>
        </p:nvGrpSpPr>
        <p:grpSpPr>
          <a:xfrm>
            <a:off x="5819760" y="927000"/>
            <a:ext cx="241200" cy="208080"/>
            <a:chOff x="5819760" y="927000"/>
            <a:chExt cx="241200" cy="208080"/>
          </a:xfrm>
        </p:grpSpPr>
        <p:sp>
          <p:nvSpPr>
            <p:cNvPr id="288" name="椭圆 24"/>
            <p:cNvSpPr/>
            <p:nvPr/>
          </p:nvSpPr>
          <p:spPr>
            <a:xfrm>
              <a:off x="5819760" y="927000"/>
              <a:ext cx="241200" cy="20808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25"/>
            <p:cNvSpPr/>
            <p:nvPr/>
          </p:nvSpPr>
          <p:spPr>
            <a:xfrm>
              <a:off x="5832360" y="928800"/>
              <a:ext cx="215640" cy="155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26"/>
            <p:cNvSpPr/>
            <p:nvPr/>
          </p:nvSpPr>
          <p:spPr>
            <a:xfrm>
              <a:off x="5973120" y="1060920"/>
              <a:ext cx="54000" cy="46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434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7"/>
          <p:cNvSpPr/>
          <p:nvPr/>
        </p:nvSpPr>
        <p:spPr>
          <a:xfrm>
            <a:off x="10789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黑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子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新月形 2"/>
          <p:cNvSpPr/>
          <p:nvPr/>
        </p:nvSpPr>
        <p:spPr>
          <a:xfrm rot="17802600">
            <a:off x="6294960" y="772560"/>
            <a:ext cx="603360" cy="12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00" y="1471"/>
                  <a:pt x="8200" y="5080"/>
                  <a:pt x="8200" y="10800"/>
                </a:cubicBezTo>
                <a:cubicBezTo>
                  <a:pt x="8200" y="16520"/>
                  <a:pt x="14900" y="2012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34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"/>
          <p:cNvSpPr/>
          <p:nvPr/>
        </p:nvSpPr>
        <p:spPr>
          <a:xfrm>
            <a:off x="8553600" y="898560"/>
            <a:ext cx="136440" cy="138240"/>
          </a:xfrm>
          <a:custGeom>
            <a:avLst/>
            <a:gdLst/>
            <a:ahLst/>
            <a:rect l="l" t="t" r="r" b="b"/>
            <a:pathLst>
              <a:path w="136525" h="138113">
                <a:moveTo>
                  <a:pt x="0" y="52754"/>
                </a:moveTo>
                <a:lnTo>
                  <a:pt x="52148" y="52755"/>
                </a:lnTo>
                <a:lnTo>
                  <a:pt x="68263" y="0"/>
                </a:lnTo>
                <a:lnTo>
                  <a:pt x="84377" y="52755"/>
                </a:lnTo>
                <a:lnTo>
                  <a:pt x="136525" y="52754"/>
                </a:lnTo>
                <a:lnTo>
                  <a:pt x="94336" y="85358"/>
                </a:lnTo>
                <a:lnTo>
                  <a:pt x="110451" y="138113"/>
                </a:lnTo>
                <a:lnTo>
                  <a:pt x="68263" y="105508"/>
                </a:lnTo>
                <a:lnTo>
                  <a:pt x="26074" y="138113"/>
                </a:lnTo>
                <a:lnTo>
                  <a:pt x="42189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五角星 15"/>
          <p:cNvSpPr/>
          <p:nvPr/>
        </p:nvSpPr>
        <p:spPr>
          <a:xfrm>
            <a:off x="7683480" y="1379520"/>
            <a:ext cx="136440" cy="138240"/>
          </a:xfrm>
          <a:custGeom>
            <a:avLst/>
            <a:gdLst/>
            <a:ahLst/>
            <a:rect l="l" t="t" r="r" b="b"/>
            <a:pathLst>
              <a:path w="136525" h="138112">
                <a:moveTo>
                  <a:pt x="0" y="52754"/>
                </a:moveTo>
                <a:lnTo>
                  <a:pt x="52148" y="52754"/>
                </a:lnTo>
                <a:lnTo>
                  <a:pt x="68263" y="0"/>
                </a:lnTo>
                <a:lnTo>
                  <a:pt x="84377" y="52754"/>
                </a:lnTo>
                <a:lnTo>
                  <a:pt x="136525" y="52754"/>
                </a:lnTo>
                <a:lnTo>
                  <a:pt x="94336" y="85358"/>
                </a:lnTo>
                <a:lnTo>
                  <a:pt x="110451" y="138112"/>
                </a:lnTo>
                <a:lnTo>
                  <a:pt x="68263" y="105507"/>
                </a:lnTo>
                <a:lnTo>
                  <a:pt x="26074" y="138112"/>
                </a:lnTo>
                <a:lnTo>
                  <a:pt x="42189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五角星 19"/>
          <p:cNvSpPr/>
          <p:nvPr/>
        </p:nvSpPr>
        <p:spPr>
          <a:xfrm>
            <a:off x="7777080" y="676440"/>
            <a:ext cx="138240" cy="136440"/>
          </a:xfrm>
          <a:custGeom>
            <a:avLst/>
            <a:gdLst/>
            <a:ahLst/>
            <a:rect l="l" t="t" r="r" b="b"/>
            <a:pathLst>
              <a:path w="138112" h="136525">
                <a:moveTo>
                  <a:pt x="0" y="52148"/>
                </a:moveTo>
                <a:lnTo>
                  <a:pt x="52754" y="52148"/>
                </a:lnTo>
                <a:lnTo>
                  <a:pt x="69056" y="0"/>
                </a:lnTo>
                <a:lnTo>
                  <a:pt x="85358" y="52148"/>
                </a:lnTo>
                <a:lnTo>
                  <a:pt x="138112" y="52148"/>
                </a:lnTo>
                <a:lnTo>
                  <a:pt x="95433" y="84377"/>
                </a:lnTo>
                <a:lnTo>
                  <a:pt x="111735" y="136525"/>
                </a:lnTo>
                <a:lnTo>
                  <a:pt x="69056" y="104295"/>
                </a:lnTo>
                <a:lnTo>
                  <a:pt x="26377" y="136525"/>
                </a:lnTo>
                <a:lnTo>
                  <a:pt x="42679" y="84377"/>
                </a:lnTo>
                <a:lnTo>
                  <a:pt x="0" y="52148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五角星 22"/>
          <p:cNvSpPr/>
          <p:nvPr/>
        </p:nvSpPr>
        <p:spPr>
          <a:xfrm>
            <a:off x="7134120" y="995400"/>
            <a:ext cx="136800" cy="138240"/>
          </a:xfrm>
          <a:custGeom>
            <a:avLst/>
            <a:gdLst/>
            <a:ahLst/>
            <a:rect l="l" t="t" r="r" b="b"/>
            <a:pathLst>
              <a:path w="136525" h="138112">
                <a:moveTo>
                  <a:pt x="0" y="52754"/>
                </a:moveTo>
                <a:lnTo>
                  <a:pt x="52148" y="52754"/>
                </a:lnTo>
                <a:lnTo>
                  <a:pt x="68263" y="0"/>
                </a:lnTo>
                <a:lnTo>
                  <a:pt x="84377" y="52754"/>
                </a:lnTo>
                <a:lnTo>
                  <a:pt x="136525" y="52754"/>
                </a:lnTo>
                <a:lnTo>
                  <a:pt x="94336" y="85358"/>
                </a:lnTo>
                <a:lnTo>
                  <a:pt x="110451" y="138112"/>
                </a:lnTo>
                <a:lnTo>
                  <a:pt x="68263" y="105507"/>
                </a:lnTo>
                <a:lnTo>
                  <a:pt x="26074" y="138112"/>
                </a:lnTo>
                <a:lnTo>
                  <a:pt x="42189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五角星 23"/>
          <p:cNvSpPr/>
          <p:nvPr/>
        </p:nvSpPr>
        <p:spPr>
          <a:xfrm>
            <a:off x="6527880" y="392040"/>
            <a:ext cx="137880" cy="138240"/>
          </a:xfrm>
          <a:custGeom>
            <a:avLst/>
            <a:gdLst/>
            <a:ahLst/>
            <a:rect l="l" t="t" r="r" b="b"/>
            <a:pathLst>
              <a:path w="138113" h="138112">
                <a:moveTo>
                  <a:pt x="0" y="52754"/>
                </a:moveTo>
                <a:lnTo>
                  <a:pt x="52755" y="52754"/>
                </a:lnTo>
                <a:lnTo>
                  <a:pt x="69057" y="0"/>
                </a:lnTo>
                <a:lnTo>
                  <a:pt x="85358" y="52754"/>
                </a:lnTo>
                <a:lnTo>
                  <a:pt x="138113" y="52754"/>
                </a:lnTo>
                <a:lnTo>
                  <a:pt x="95433" y="85358"/>
                </a:lnTo>
                <a:lnTo>
                  <a:pt x="111736" y="138112"/>
                </a:lnTo>
                <a:lnTo>
                  <a:pt x="69057" y="105507"/>
                </a:lnTo>
                <a:lnTo>
                  <a:pt x="26377" y="138112"/>
                </a:lnTo>
                <a:lnTo>
                  <a:pt x="42680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五角星 24"/>
          <p:cNvSpPr/>
          <p:nvPr/>
        </p:nvSpPr>
        <p:spPr>
          <a:xfrm>
            <a:off x="7197840" y="617400"/>
            <a:ext cx="137880" cy="138240"/>
          </a:xfrm>
          <a:custGeom>
            <a:avLst/>
            <a:gdLst/>
            <a:ahLst/>
            <a:rect l="l" t="t" r="r" b="b"/>
            <a:pathLst>
              <a:path w="138113" h="138112">
                <a:moveTo>
                  <a:pt x="0" y="52754"/>
                </a:moveTo>
                <a:lnTo>
                  <a:pt x="52755" y="52754"/>
                </a:lnTo>
                <a:lnTo>
                  <a:pt x="69057" y="0"/>
                </a:lnTo>
                <a:lnTo>
                  <a:pt x="85358" y="52754"/>
                </a:lnTo>
                <a:lnTo>
                  <a:pt x="138113" y="52754"/>
                </a:lnTo>
                <a:lnTo>
                  <a:pt x="95433" y="85358"/>
                </a:lnTo>
                <a:lnTo>
                  <a:pt x="111736" y="138112"/>
                </a:lnTo>
                <a:lnTo>
                  <a:pt x="69057" y="105507"/>
                </a:lnTo>
                <a:lnTo>
                  <a:pt x="26377" y="138112"/>
                </a:lnTo>
                <a:lnTo>
                  <a:pt x="42680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d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0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3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红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草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6747120" y="182880"/>
            <a:ext cx="1250640" cy="1402920"/>
            <a:chOff x="6747120" y="182880"/>
            <a:chExt cx="1250640" cy="1402920"/>
          </a:xfrm>
        </p:grpSpPr>
        <p:grpSp>
          <p:nvGrpSpPr>
            <p:cNvPr id="122" name="Group 10"/>
            <p:cNvGrpSpPr/>
            <p:nvPr/>
          </p:nvGrpSpPr>
          <p:grpSpPr>
            <a:xfrm>
              <a:off x="6747120" y="182880"/>
              <a:ext cx="1061280" cy="776520"/>
              <a:chOff x="6747120" y="182880"/>
              <a:chExt cx="1061280" cy="776520"/>
            </a:xfrm>
          </p:grpSpPr>
          <p:sp>
            <p:nvSpPr>
              <p:cNvPr id="123" name="等腰三角形 37"/>
              <p:cNvSpPr/>
              <p:nvPr/>
            </p:nvSpPr>
            <p:spPr>
              <a:xfrm rot="17439600">
                <a:off x="6865920" y="464760"/>
                <a:ext cx="344880" cy="49248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38"/>
              <p:cNvSpPr/>
              <p:nvPr/>
            </p:nvSpPr>
            <p:spPr>
              <a:xfrm rot="20124600">
                <a:off x="7106400" y="306360"/>
                <a:ext cx="344880" cy="49248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39"/>
              <p:cNvSpPr/>
              <p:nvPr/>
            </p:nvSpPr>
            <p:spPr>
              <a:xfrm rot="706800">
                <a:off x="7416720" y="212760"/>
                <a:ext cx="344880" cy="49248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椭圆 24"/>
            <p:cNvSpPr/>
            <p:nvPr/>
          </p:nvSpPr>
          <p:spPr>
            <a:xfrm>
              <a:off x="7361640" y="141444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26"/>
            <p:cNvSpPr/>
            <p:nvPr/>
          </p:nvSpPr>
          <p:spPr>
            <a:xfrm>
              <a:off x="7698600" y="101700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27"/>
            <p:cNvSpPr/>
            <p:nvPr/>
          </p:nvSpPr>
          <p:spPr>
            <a:xfrm>
              <a:off x="7638480" y="126720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28"/>
            <p:cNvSpPr/>
            <p:nvPr/>
          </p:nvSpPr>
          <p:spPr>
            <a:xfrm>
              <a:off x="7363440" y="122220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29"/>
            <p:cNvSpPr/>
            <p:nvPr/>
          </p:nvSpPr>
          <p:spPr>
            <a:xfrm>
              <a:off x="7331400" y="78372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0"/>
            <p:cNvSpPr/>
            <p:nvPr/>
          </p:nvSpPr>
          <p:spPr>
            <a:xfrm>
              <a:off x="7412040" y="99756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1"/>
            <p:cNvSpPr/>
            <p:nvPr/>
          </p:nvSpPr>
          <p:spPr>
            <a:xfrm>
              <a:off x="7660800" y="78372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32"/>
            <p:cNvSpPr/>
            <p:nvPr/>
          </p:nvSpPr>
          <p:spPr>
            <a:xfrm>
              <a:off x="7167240" y="99252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33"/>
            <p:cNvSpPr/>
            <p:nvPr/>
          </p:nvSpPr>
          <p:spPr>
            <a:xfrm>
              <a:off x="7646760" y="150516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34"/>
            <p:cNvSpPr/>
            <p:nvPr/>
          </p:nvSpPr>
          <p:spPr>
            <a:xfrm>
              <a:off x="7910640" y="134568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35"/>
            <p:cNvSpPr/>
            <p:nvPr/>
          </p:nvSpPr>
          <p:spPr>
            <a:xfrm>
              <a:off x="7913520" y="107820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7130520" y="121968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fc6e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e95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橘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橘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6778800" y="260280"/>
            <a:ext cx="1468440" cy="1468440"/>
            <a:chOff x="6778800" y="260280"/>
            <a:chExt cx="1468440" cy="1468440"/>
          </a:xfrm>
        </p:grpSpPr>
        <p:sp>
          <p:nvSpPr>
            <p:cNvPr id="146" name="椭圆 8"/>
            <p:cNvSpPr/>
            <p:nvPr/>
          </p:nvSpPr>
          <p:spPr>
            <a:xfrm>
              <a:off x="6778800" y="260280"/>
              <a:ext cx="1468440" cy="1468440"/>
            </a:xfrm>
            <a:prstGeom prst="ellipse">
              <a:avLst/>
            </a:pr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ffc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f6b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8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黄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香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6087960" y="267480"/>
            <a:ext cx="2248200" cy="1899720"/>
            <a:chOff x="6087960" y="267480"/>
            <a:chExt cx="2248200" cy="1899720"/>
          </a:xfrm>
        </p:grpSpPr>
        <p:grpSp>
          <p:nvGrpSpPr>
            <p:cNvPr id="155" name="Group 10"/>
            <p:cNvGrpSpPr/>
            <p:nvPr/>
          </p:nvGrpSpPr>
          <p:grpSpPr>
            <a:xfrm>
              <a:off x="6087960" y="324720"/>
              <a:ext cx="2248200" cy="1842480"/>
              <a:chOff x="6087960" y="324720"/>
              <a:chExt cx="2248200" cy="1842480"/>
            </a:xfrm>
          </p:grpSpPr>
          <p:sp>
            <p:nvSpPr>
              <p:cNvPr id="156" name="新月形 1"/>
              <p:cNvSpPr/>
              <p:nvPr/>
            </p:nvSpPr>
            <p:spPr>
              <a:xfrm rot="18068400">
                <a:off x="6706800" y="412560"/>
                <a:ext cx="768240" cy="1879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新月形 11"/>
              <p:cNvSpPr/>
              <p:nvPr/>
            </p:nvSpPr>
            <p:spPr>
              <a:xfrm rot="18068400">
                <a:off x="6813720" y="253080"/>
                <a:ext cx="817200" cy="1998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6b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新月形 12"/>
              <p:cNvSpPr/>
              <p:nvPr/>
            </p:nvSpPr>
            <p:spPr>
              <a:xfrm rot="18068400">
                <a:off x="6854040" y="191160"/>
                <a:ext cx="820800" cy="20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4"/>
            <p:cNvGrpSpPr/>
            <p:nvPr/>
          </p:nvGrpSpPr>
          <p:grpSpPr>
            <a:xfrm>
              <a:off x="6243120" y="267480"/>
              <a:ext cx="637920" cy="329760"/>
              <a:chOff x="6243120" y="267480"/>
              <a:chExt cx="637920" cy="329760"/>
            </a:xfrm>
          </p:grpSpPr>
          <p:sp>
            <p:nvSpPr>
              <p:cNvPr id="160" name="矩形 4"/>
              <p:cNvSpPr/>
              <p:nvPr/>
            </p:nvSpPr>
            <p:spPr>
              <a:xfrm rot="20616600">
                <a:off x="6256440" y="343440"/>
                <a:ext cx="566640" cy="177120"/>
              </a:xfrm>
              <a:prstGeom prst="rect">
                <a:avLst/>
              </a:prstGeom>
              <a:solidFill>
                <a:srgbClr val="f6b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17"/>
              <p:cNvSpPr/>
              <p:nvPr/>
            </p:nvSpPr>
            <p:spPr>
              <a:xfrm rot="20616600">
                <a:off x="6305040" y="346680"/>
                <a:ext cx="563400" cy="168840"/>
              </a:xfrm>
              <a:prstGeom prst="rect">
                <a:avLst/>
              </a:pr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a0d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8cc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涩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苹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流程图: 联系 2"/>
          <p:cNvSpPr/>
          <p:nvPr/>
        </p:nvSpPr>
        <p:spPr>
          <a:xfrm>
            <a:off x="6792840" y="558720"/>
            <a:ext cx="1206720" cy="1149480"/>
          </a:xfrm>
          <a:prstGeom prst="flowChartConnector">
            <a:avLst/>
          </a:prstGeom>
          <a:solidFill>
            <a:srgbClr val="8cc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流程图: 联系 12"/>
          <p:cNvSpPr/>
          <p:nvPr/>
        </p:nvSpPr>
        <p:spPr>
          <a:xfrm>
            <a:off x="6805440" y="563400"/>
            <a:ext cx="1138320" cy="1084320"/>
          </a:xfrm>
          <a:prstGeom prst="flowChartConnector">
            <a:avLst/>
          </a:prstGeom>
          <a:solidFill>
            <a:srgbClr val="a0d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19"/>
          <p:cNvSpPr/>
          <p:nvPr/>
        </p:nvSpPr>
        <p:spPr>
          <a:xfrm rot="4792200">
            <a:off x="6318720" y="633960"/>
            <a:ext cx="264960" cy="546120"/>
          </a:xfrm>
          <a:custGeom>
            <a:avLst/>
            <a:gdLst>
              <a:gd name="textAreaLeft" fmla="*/ 0 w 264960"/>
              <a:gd name="textAreaRight" fmla="*/ 265320 w 2649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517983" h="1050925">
                <a:moveTo>
                  <a:pt x="91852" y="0"/>
                </a:moveTo>
                <a:cubicBezTo>
                  <a:pt x="327198" y="0"/>
                  <a:pt x="517983" y="296141"/>
                  <a:pt x="517983" y="661449"/>
                </a:cubicBezTo>
                <a:cubicBezTo>
                  <a:pt x="517983" y="798440"/>
                  <a:pt x="491154" y="925703"/>
                  <a:pt x="445207" y="1031271"/>
                </a:cubicBezTo>
                <a:lnTo>
                  <a:pt x="435543" y="1049452"/>
                </a:lnTo>
                <a:lnTo>
                  <a:pt x="426131" y="1050925"/>
                </a:lnTo>
                <a:cubicBezTo>
                  <a:pt x="190785" y="1050925"/>
                  <a:pt x="0" y="754784"/>
                  <a:pt x="0" y="389476"/>
                </a:cubicBezTo>
                <a:cubicBezTo>
                  <a:pt x="0" y="252486"/>
                  <a:pt x="26829" y="125222"/>
                  <a:pt x="72777" y="19654"/>
                </a:cubicBezTo>
                <a:lnTo>
                  <a:pt x="82441" y="1473"/>
                </a:lnTo>
                <a:lnTo>
                  <a:pt x="91852" y="0"/>
                </a:lnTo>
                <a:close/>
              </a:path>
            </a:pathLst>
          </a:custGeom>
          <a:solidFill>
            <a:srgbClr val="548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48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37bc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绿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薄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6690240" y="439920"/>
            <a:ext cx="1566000" cy="1312920"/>
            <a:chOff x="6690240" y="439920"/>
            <a:chExt cx="1566000" cy="1312920"/>
          </a:xfrm>
        </p:grpSpPr>
        <p:sp>
          <p:nvSpPr>
            <p:cNvPr id="180" name="任意多边形 38"/>
            <p:cNvSpPr/>
            <p:nvPr/>
          </p:nvSpPr>
          <p:spPr>
            <a:xfrm rot="18436800">
              <a:off x="6860160" y="622800"/>
              <a:ext cx="485280" cy="66816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32"/>
            <p:cNvSpPr/>
            <p:nvPr/>
          </p:nvSpPr>
          <p:spPr>
            <a:xfrm rot="4792200">
              <a:off x="7630560" y="506160"/>
              <a:ext cx="494280" cy="6807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3"/>
            <p:cNvSpPr/>
            <p:nvPr/>
          </p:nvSpPr>
          <p:spPr>
            <a:xfrm rot="21436200">
              <a:off x="7186680" y="450360"/>
              <a:ext cx="469080" cy="646200"/>
            </a:xfrm>
            <a:custGeom>
              <a:avLst/>
              <a:gdLst>
                <a:gd name="textAreaLeft" fmla="*/ 0 w 469080"/>
                <a:gd name="textAreaRight" fmla="*/ 469440 w 46908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34"/>
            <p:cNvSpPr/>
            <p:nvPr/>
          </p:nvSpPr>
          <p:spPr>
            <a:xfrm rot="15546000">
              <a:off x="7108920" y="973440"/>
              <a:ext cx="441720" cy="60840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35"/>
            <p:cNvSpPr/>
            <p:nvPr/>
          </p:nvSpPr>
          <p:spPr>
            <a:xfrm rot="10017600">
              <a:off x="7588800" y="1010520"/>
              <a:ext cx="503640" cy="69408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36"/>
            <p:cNvSpPr/>
            <p:nvPr/>
          </p:nvSpPr>
          <p:spPr>
            <a:xfrm rot="10017600">
              <a:off x="7554960" y="1010160"/>
              <a:ext cx="308520" cy="42516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37"/>
            <p:cNvSpPr/>
            <p:nvPr/>
          </p:nvSpPr>
          <p:spPr>
            <a:xfrm rot="4792200">
              <a:off x="7582680" y="682920"/>
              <a:ext cx="295560" cy="4071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407160"/>
                <a:gd name="textAreaBottom" fmla="*/ 407520 h 40716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4f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3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水绿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河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5355360" y="817920"/>
            <a:ext cx="3215880" cy="886320"/>
            <a:chOff x="5355360" y="817920"/>
            <a:chExt cx="3215880" cy="886320"/>
          </a:xfrm>
        </p:grpSpPr>
        <p:sp>
          <p:nvSpPr>
            <p:cNvPr id="195" name="任意多边形 32"/>
            <p:cNvSpPr/>
            <p:nvPr/>
          </p:nvSpPr>
          <p:spPr>
            <a:xfrm rot="5376600">
              <a:off x="6948000" y="-565560"/>
              <a:ext cx="228240" cy="30168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16800"/>
                <a:gd name="textAreaBottom" fmla="*/ 3017160 h 3016800"/>
              </a:gdLst>
              <a:ahLst/>
              <a:rect l="textAreaLeft" t="textAreaTop" r="textAreaRight" b="textAreaBottom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33"/>
            <p:cNvSpPr/>
            <p:nvPr/>
          </p:nvSpPr>
          <p:spPr>
            <a:xfrm rot="5376600">
              <a:off x="6856200" y="-363960"/>
              <a:ext cx="228240" cy="30168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16800"/>
                <a:gd name="textAreaBottom" fmla="*/ 3017160 h 3016800"/>
              </a:gdLst>
              <a:ahLst/>
              <a:rect l="textAreaLeft" t="textAreaTop" r="textAreaRight" b="textAreaBottom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36"/>
            <p:cNvSpPr/>
            <p:nvPr/>
          </p:nvSpPr>
          <p:spPr>
            <a:xfrm rot="5376600">
              <a:off x="6762240" y="-156960"/>
              <a:ext cx="228240" cy="30168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16800"/>
                <a:gd name="textAreaBottom" fmla="*/ 3017160 h 3016800"/>
              </a:gdLst>
              <a:ahLst/>
              <a:rect l="textAreaLeft" t="textAreaTop" r="textAreaRight" b="textAreaBottom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37"/>
            <p:cNvSpPr/>
            <p:nvPr/>
          </p:nvSpPr>
          <p:spPr>
            <a:xfrm rot="5376600">
              <a:off x="6750360" y="71280"/>
              <a:ext cx="228240" cy="30168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16800"/>
                <a:gd name="textAreaBottom" fmla="*/ 3017160 h 3016800"/>
              </a:gdLst>
              <a:ahLst/>
              <a:rect l="textAreaLeft" t="textAreaTop" r="textAreaRight" b="textAreaBottom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5d9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4a8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蓝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海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5973840" y="792000"/>
            <a:ext cx="2431800" cy="1555560"/>
            <a:chOff x="5973840" y="792000"/>
            <a:chExt cx="2431800" cy="1555560"/>
          </a:xfrm>
        </p:grpSpPr>
        <p:grpSp>
          <p:nvGrpSpPr>
            <p:cNvPr id="207" name="Group 10"/>
            <p:cNvGrpSpPr/>
            <p:nvPr/>
          </p:nvGrpSpPr>
          <p:grpSpPr>
            <a:xfrm>
              <a:off x="6805080" y="1010880"/>
              <a:ext cx="1600560" cy="1336680"/>
              <a:chOff x="6805080" y="1010880"/>
              <a:chExt cx="1600560" cy="1336680"/>
            </a:xfrm>
          </p:grpSpPr>
          <p:sp>
            <p:nvSpPr>
              <p:cNvPr id="208" name="任意多边形 3"/>
              <p:cNvSpPr/>
              <p:nvPr/>
            </p:nvSpPr>
            <p:spPr>
              <a:xfrm>
                <a:off x="7099560" y="101088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任意多边形 17"/>
              <p:cNvSpPr/>
              <p:nvPr/>
            </p:nvSpPr>
            <p:spPr>
              <a:xfrm>
                <a:off x="7099560" y="123336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任意多边形 18"/>
              <p:cNvSpPr/>
              <p:nvPr/>
            </p:nvSpPr>
            <p:spPr>
              <a:xfrm rot="21148200">
                <a:off x="6954120" y="135900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任意多边形 22"/>
              <p:cNvSpPr/>
              <p:nvPr/>
            </p:nvSpPr>
            <p:spPr>
              <a:xfrm>
                <a:off x="7002360" y="123336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23"/>
              <p:cNvSpPr/>
              <p:nvPr/>
            </p:nvSpPr>
            <p:spPr>
              <a:xfrm rot="21148200">
                <a:off x="6853320" y="143892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云形标注 1"/>
            <p:cNvSpPr/>
            <p:nvPr/>
          </p:nvSpPr>
          <p:spPr>
            <a:xfrm>
              <a:off x="5973840" y="792000"/>
              <a:ext cx="1214280" cy="948960"/>
            </a:xfrm>
            <a:prstGeom prst="cloudCallout">
              <a:avLst>
                <a:gd name="adj1" fmla="val 84106"/>
                <a:gd name="adj2" fmla="val -62282"/>
              </a:avLst>
            </a:prstGeom>
            <a:solidFill>
              <a:srgbClr val="ffffff"/>
            </a:solidFill>
            <a:ln w="38160">
              <a:solidFill>
                <a:srgbClr val="4a89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ac9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967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紫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薰衣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6600600" y="241200"/>
            <a:ext cx="1829160" cy="1416240"/>
            <a:chOff x="6600600" y="241200"/>
            <a:chExt cx="1829160" cy="1416240"/>
          </a:xfrm>
        </p:grpSpPr>
        <p:sp>
          <p:nvSpPr>
            <p:cNvPr id="222" name="任意多边形 4"/>
            <p:cNvSpPr/>
            <p:nvPr/>
          </p:nvSpPr>
          <p:spPr>
            <a:xfrm>
              <a:off x="6936840" y="1090800"/>
              <a:ext cx="121680" cy="56664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92891" h="514350">
                  <a:moveTo>
                    <a:pt x="0" y="0"/>
                  </a:moveTo>
                  <a:cubicBezTo>
                    <a:pt x="33866" y="112712"/>
                    <a:pt x="67733" y="225425"/>
                    <a:pt x="82550" y="311150"/>
                  </a:cubicBezTo>
                  <a:cubicBezTo>
                    <a:pt x="97367" y="396875"/>
                    <a:pt x="93133" y="455612"/>
                    <a:pt x="88900" y="51435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5"/>
            <p:cNvSpPr/>
            <p:nvPr/>
          </p:nvSpPr>
          <p:spPr>
            <a:xfrm>
              <a:off x="7264440" y="1041840"/>
              <a:ext cx="44280" cy="615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44450" h="615950">
                  <a:moveTo>
                    <a:pt x="0" y="0"/>
                  </a:moveTo>
                  <a:cubicBezTo>
                    <a:pt x="22225" y="145521"/>
                    <a:pt x="44450" y="291042"/>
                    <a:pt x="44450" y="393700"/>
                  </a:cubicBezTo>
                  <a:cubicBezTo>
                    <a:pt x="44450" y="496358"/>
                    <a:pt x="22225" y="556154"/>
                    <a:pt x="0" y="61595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4"/>
            <p:cNvSpPr/>
            <p:nvPr/>
          </p:nvSpPr>
          <p:spPr>
            <a:xfrm>
              <a:off x="7158600" y="1019880"/>
              <a:ext cx="441360" cy="6314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431800" h="622300">
                  <a:moveTo>
                    <a:pt x="431800" y="0"/>
                  </a:moveTo>
                  <a:cubicBezTo>
                    <a:pt x="289983" y="91016"/>
                    <a:pt x="148167" y="182033"/>
                    <a:pt x="76200" y="285750"/>
                  </a:cubicBezTo>
                  <a:cubicBezTo>
                    <a:pt x="4233" y="389467"/>
                    <a:pt x="2116" y="505883"/>
                    <a:pt x="0" y="62230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13"/>
            <p:cNvGrpSpPr/>
            <p:nvPr/>
          </p:nvGrpSpPr>
          <p:grpSpPr>
            <a:xfrm>
              <a:off x="6600600" y="317160"/>
              <a:ext cx="482760" cy="867960"/>
              <a:chOff x="6600600" y="317160"/>
              <a:chExt cx="482760" cy="867960"/>
            </a:xfrm>
          </p:grpSpPr>
          <p:sp>
            <p:nvSpPr>
              <p:cNvPr id="226" name="等腰三角形 1"/>
              <p:cNvSpPr/>
              <p:nvPr/>
            </p:nvSpPr>
            <p:spPr>
              <a:xfrm rot="9725400">
                <a:off x="6777720" y="9482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等腰三角形 8"/>
              <p:cNvSpPr/>
              <p:nvPr/>
            </p:nvSpPr>
            <p:spPr>
              <a:xfrm rot="9725400">
                <a:off x="6747120" y="85392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等腰三角形 9"/>
              <p:cNvSpPr/>
              <p:nvPr/>
            </p:nvSpPr>
            <p:spPr>
              <a:xfrm rot="9725400">
                <a:off x="6712560" y="7466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等腰三角形 11"/>
              <p:cNvSpPr/>
              <p:nvPr/>
            </p:nvSpPr>
            <p:spPr>
              <a:xfrm rot="9725400">
                <a:off x="6686280" y="6656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等腰三角形 12"/>
              <p:cNvSpPr/>
              <p:nvPr/>
            </p:nvSpPr>
            <p:spPr>
              <a:xfrm rot="9725400">
                <a:off x="6650280" y="5540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等腰三角形 13"/>
              <p:cNvSpPr/>
              <p:nvPr/>
            </p:nvSpPr>
            <p:spPr>
              <a:xfrm rot="9725400">
                <a:off x="6624000" y="47232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等腰三角形 15"/>
              <p:cNvSpPr/>
              <p:nvPr/>
            </p:nvSpPr>
            <p:spPr>
              <a:xfrm rot="20526000">
                <a:off x="6627600" y="341640"/>
                <a:ext cx="19044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1"/>
            <p:cNvGrpSpPr/>
            <p:nvPr/>
          </p:nvGrpSpPr>
          <p:grpSpPr>
            <a:xfrm>
              <a:off x="7122600" y="241200"/>
              <a:ext cx="237600" cy="822960"/>
              <a:chOff x="7122600" y="241200"/>
              <a:chExt cx="237600" cy="822960"/>
            </a:xfrm>
          </p:grpSpPr>
          <p:sp>
            <p:nvSpPr>
              <p:cNvPr id="234" name="等腰三角形 18"/>
              <p:cNvSpPr/>
              <p:nvPr/>
            </p:nvSpPr>
            <p:spPr>
              <a:xfrm rot="10566000">
                <a:off x="7161840" y="86472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等腰三角形 19"/>
              <p:cNvSpPr/>
              <p:nvPr/>
            </p:nvSpPr>
            <p:spPr>
              <a:xfrm rot="10566000">
                <a:off x="7155360" y="7686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等腰三角形 20"/>
              <p:cNvSpPr/>
              <p:nvPr/>
            </p:nvSpPr>
            <p:spPr>
              <a:xfrm rot="10566000">
                <a:off x="7147800" y="6588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等腰三角形 22"/>
              <p:cNvSpPr/>
              <p:nvPr/>
            </p:nvSpPr>
            <p:spPr>
              <a:xfrm rot="10566000">
                <a:off x="7142400" y="5760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等腰三角形 23"/>
              <p:cNvSpPr/>
              <p:nvPr/>
            </p:nvSpPr>
            <p:spPr>
              <a:xfrm rot="10566000">
                <a:off x="7134480" y="46188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等腰三角形 24"/>
              <p:cNvSpPr/>
              <p:nvPr/>
            </p:nvSpPr>
            <p:spPr>
              <a:xfrm rot="10566000">
                <a:off x="7128720" y="3783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等腰三角形 25"/>
              <p:cNvSpPr/>
              <p:nvPr/>
            </p:nvSpPr>
            <p:spPr>
              <a:xfrm rot="21366600">
                <a:off x="7150680" y="245160"/>
                <a:ext cx="12960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9"/>
            <p:cNvGrpSpPr/>
            <p:nvPr/>
          </p:nvGrpSpPr>
          <p:grpSpPr>
            <a:xfrm>
              <a:off x="7543800" y="858600"/>
              <a:ext cx="885960" cy="333720"/>
              <a:chOff x="7543800" y="858600"/>
              <a:chExt cx="885960" cy="333720"/>
            </a:xfrm>
          </p:grpSpPr>
          <p:sp>
            <p:nvSpPr>
              <p:cNvPr id="242" name="等腰三角形 27"/>
              <p:cNvSpPr/>
              <p:nvPr/>
            </p:nvSpPr>
            <p:spPr>
              <a:xfrm rot="15203400">
                <a:off x="7567560" y="9126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等腰三角形 28"/>
              <p:cNvSpPr/>
              <p:nvPr/>
            </p:nvSpPr>
            <p:spPr>
              <a:xfrm rot="15736800">
                <a:off x="7653960" y="8697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等腰三角形 29"/>
              <p:cNvSpPr/>
              <p:nvPr/>
            </p:nvSpPr>
            <p:spPr>
              <a:xfrm rot="16199400">
                <a:off x="7764120" y="86508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等腰三角形 30"/>
              <p:cNvSpPr/>
              <p:nvPr/>
            </p:nvSpPr>
            <p:spPr>
              <a:xfrm rot="16567200">
                <a:off x="7860240" y="8805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等腰三角形 31"/>
              <p:cNvSpPr/>
              <p:nvPr/>
            </p:nvSpPr>
            <p:spPr>
              <a:xfrm rot="17085000">
                <a:off x="7961760" y="8841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等腰三角形 32"/>
              <p:cNvSpPr/>
              <p:nvPr/>
            </p:nvSpPr>
            <p:spPr>
              <a:xfrm rot="17431800">
                <a:off x="8064000" y="92664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等腰三角形 33"/>
              <p:cNvSpPr/>
              <p:nvPr/>
            </p:nvSpPr>
            <p:spPr>
              <a:xfrm rot="6958800">
                <a:off x="8249760" y="995040"/>
                <a:ext cx="12960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21:35:00Z</dcterms:created>
  <dc:creator>Eric Zeg</dc:creator>
  <dc:description/>
  <dc:language>en-US</dc:language>
  <cp:lastModifiedBy>a</cp:lastModifiedBy>
  <dcterms:modified xsi:type="dcterms:W3CDTF">2015-01-15T03:07:51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