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2C9-804E-4658-9099-EB2E7276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0F7-8F67-4860-A4C3-913D8AD0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A50-797C-4C3F-AD3B-EE108F39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83A-AB49-47EA-B635-1857CD37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CA7F-D1A3-4710-8C46-114CE458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FF59-73FF-4431-9B6B-F6100972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2185-04FE-49F6-A8DB-44189CCA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0FF9-FF37-416E-B552-39929765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72B4-C694-4203-843C-C066EDC7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C2D9-54C2-437A-BB5D-FEA6565F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F7FF-468C-43CF-B323-82B9A2A4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916-0274-4400-8AE6-16CE9585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6C97-E004-4665-83A4-56707779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9ECA-22AA-4B20-B60A-B791EDD4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D748-82AA-4EA5-8A3F-6382574C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38AD-ADC9-4346-BF70-64A55304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C16B-F6CE-4AE4-84CD-9B15D66A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868-AA76-48A9-A5A5-CD1641EF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D51-A935-46A9-9167-A94F850A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6EB5-77F7-4DE9-B3F2-032C47E1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F3C-DD0B-40A5-BCEF-24BBBC97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E172-3C71-4C76-A557-47955137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D0A-2682-48D4-8012-A6951F10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D9C-3408-4697-94AF-CB6996BA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8C70-8CBC-4280-B531-B86402CC836B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73DC-D327-481E-A65F-CF4574DBF49A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200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4928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A3E2-7CB5-4165-BFC7-7D3815E9AA2E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5240"/>
            <a:ext cx="28494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95CA-5551-4F0B-95B5-371866879D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wg_blurred_backgrounds_6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丰收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wg_blurred_backgrounds_6"/>
          <p:cNvPicPr/>
          <p:nvPr/>
        </p:nvPicPr>
        <p:blipFill>
          <a:blip r:embed="rId1"/>
          <a:srcRect l="0" t="0" r="0" b="79850"/>
          <a:stretch/>
        </p:blipFill>
        <p:spPr>
          <a:xfrm>
            <a:off x="0" y="4803840"/>
            <a:ext cx="9001080" cy="1209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0360" y="1402920"/>
            <a:ext cx="8099640" cy="32590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7640" y="240840"/>
            <a:ext cx="664236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7640" y="1403280"/>
            <a:ext cx="664236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wg_blurred_backgrounds_6"/>
          <p:cNvPicPr/>
          <p:nvPr/>
        </p:nvPicPr>
        <p:blipFill>
          <a:blip r:embed="rId1"/>
          <a:srcRect l="51769" t="0" r="29439" b="0"/>
          <a:stretch/>
        </p:blipFill>
        <p:spPr>
          <a:xfrm>
            <a:off x="0" y="6480"/>
            <a:ext cx="16923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2811600" y="1112760"/>
            <a:ext cx="3387600" cy="3386160"/>
          </a:xfrm>
          <a:custGeom>
            <a:avLst/>
            <a:gdLst>
              <a:gd name="textAreaLeft" fmla="*/ 496080 w 3387600"/>
              <a:gd name="textAreaRight" fmla="*/ 2891520 w 3387600"/>
              <a:gd name="textAreaTop" fmla="*/ 495720 h 3386160"/>
              <a:gd name="textAreaBottom" fmla="*/ 2890440 h 3386160"/>
            </a:gdLst>
            <a:ahLst/>
            <a:rect l="textAreaLeft" t="textAreaTop" r="textAreaRight" b="textAreaBottom"/>
            <a:pathLst>
              <a:path w="21600" h="21600">
                <a:moveTo>
                  <a:pt x="4554" y="3505"/>
                </a:moveTo>
                <a:cubicBezTo>
                  <a:pt x="2423" y="5330"/>
                  <a:pt x="1197" y="7994"/>
                  <a:pt x="1197" y="10800"/>
                </a:cubicBezTo>
                <a:cubicBezTo>
                  <a:pt x="1197" y="16103"/>
                  <a:pt x="5496" y="20403"/>
                  <a:pt x="10800" y="20403"/>
                </a:cubicBezTo>
                <a:cubicBezTo>
                  <a:pt x="16103" y="20403"/>
                  <a:pt x="20403" y="16103"/>
                  <a:pt x="20403" y="10800"/>
                </a:cubicBezTo>
                <a:cubicBezTo>
                  <a:pt x="20403" y="6754"/>
                  <a:pt x="17868" y="3143"/>
                  <a:pt x="14063" y="1768"/>
                </a:cubicBezTo>
                <a:lnTo>
                  <a:pt x="14470" y="642"/>
                </a:lnTo>
                <a:cubicBezTo>
                  <a:pt x="18749" y="2189"/>
                  <a:pt x="21600" y="6250"/>
                  <a:pt x="21600" y="10799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7645"/>
                  <a:pt x="1379" y="4648"/>
                  <a:pt x="3775" y="2596"/>
                </a:cubicBezTo>
                <a:lnTo>
                  <a:pt x="2019" y="545"/>
                </a:lnTo>
                <a:lnTo>
                  <a:pt x="6670" y="904"/>
                </a:lnTo>
                <a:lnTo>
                  <a:pt x="6310" y="5556"/>
                </a:lnTo>
                <a:lnTo>
                  <a:pt x="4554" y="3505"/>
                </a:lnTo>
                <a:close/>
              </a:path>
            </a:pathLst>
          </a:custGeom>
          <a:solidFill>
            <a:srgbClr val="daa0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3708360" y="1133640"/>
            <a:ext cx="1593720" cy="796680"/>
          </a:xfrm>
          <a:prstGeom prst="roundRect">
            <a:avLst>
              <a:gd name="adj" fmla="val 16667"/>
            </a:avLst>
          </a:prstGeom>
          <a:solidFill>
            <a:srgbClr val="ecbd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746520" y="1173240"/>
            <a:ext cx="15159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160200" bIns="160200" anchor="ctr">
            <a:noAutofit/>
          </a:bodyPr>
          <a:p>
            <a:pPr algn="ctr">
              <a:lnSpc>
                <a:spcPct val="90000"/>
              </a:lnSpc>
              <a:spcAft>
                <a:spcPts val="16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5081760" y="2131920"/>
            <a:ext cx="1593720" cy="797040"/>
          </a:xfrm>
          <a:prstGeom prst="roundRect">
            <a:avLst>
              <a:gd name="adj" fmla="val 16667"/>
            </a:avLst>
          </a:prstGeom>
          <a:solidFill>
            <a:srgbClr val="ecbd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121360" y="2171880"/>
            <a:ext cx="15145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160200" bIns="160200" anchor="ctr">
            <a:noAutofit/>
          </a:bodyPr>
          <a:p>
            <a:pPr algn="ctr">
              <a:lnSpc>
                <a:spcPct val="90000"/>
              </a:lnSpc>
              <a:spcAft>
                <a:spcPts val="16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4557600" y="3746520"/>
            <a:ext cx="1592280" cy="797040"/>
          </a:xfrm>
          <a:prstGeom prst="roundRect">
            <a:avLst>
              <a:gd name="adj" fmla="val 16667"/>
            </a:avLst>
          </a:prstGeom>
          <a:solidFill>
            <a:srgbClr val="ecbd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95760" y="3786120"/>
            <a:ext cx="15159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160200" bIns="160200" anchor="ctr">
            <a:noAutofit/>
          </a:bodyPr>
          <a:p>
            <a:pPr algn="ctr">
              <a:lnSpc>
                <a:spcPct val="90000"/>
              </a:lnSpc>
              <a:spcAft>
                <a:spcPts val="16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2859120" y="3746520"/>
            <a:ext cx="1593720" cy="797040"/>
          </a:xfrm>
          <a:prstGeom prst="roundRect">
            <a:avLst>
              <a:gd name="adj" fmla="val 16667"/>
            </a:avLst>
          </a:prstGeom>
          <a:solidFill>
            <a:srgbClr val="ecbd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2898720" y="3786120"/>
            <a:ext cx="1514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160200" bIns="160200" anchor="ctr">
            <a:noAutofit/>
          </a:bodyPr>
          <a:p>
            <a:pPr algn="ctr">
              <a:lnSpc>
                <a:spcPct val="90000"/>
              </a:lnSpc>
              <a:spcAft>
                <a:spcPts val="16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2335320" y="2131920"/>
            <a:ext cx="1592280" cy="797040"/>
          </a:xfrm>
          <a:prstGeom prst="roundRect">
            <a:avLst>
              <a:gd name="adj" fmla="val 16667"/>
            </a:avLst>
          </a:prstGeom>
          <a:solidFill>
            <a:srgbClr val="ecbd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2373480" y="2171880"/>
            <a:ext cx="1515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160200" bIns="160200" anchor="ctr">
            <a:noAutofit/>
          </a:bodyPr>
          <a:p>
            <a:pPr algn="ctr">
              <a:lnSpc>
                <a:spcPct val="90000"/>
              </a:lnSpc>
              <a:spcAft>
                <a:spcPts val="16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1263600" y="3313080"/>
            <a:ext cx="1955880" cy="627120"/>
          </a:xfrm>
          <a:prstGeom prst="rect">
            <a:avLst/>
          </a:prstGeom>
          <a:solidFill>
            <a:srgbClr val="ecbd00"/>
          </a:solidFill>
          <a:ln w="25560">
            <a:solidFill>
              <a:srgbClr val="daa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263600" y="3313080"/>
            <a:ext cx="1378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0" rIns="64800" tIns="0" bIns="0" anchor="ctr">
            <a:noAutofit/>
          </a:bodyPr>
          <a:p>
            <a:pPr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2695680" y="3413160"/>
            <a:ext cx="685800" cy="684000"/>
          </a:xfrm>
          <a:prstGeom prst="ellipse">
            <a:avLst/>
          </a:prstGeom>
          <a:solidFill>
            <a:srgbClr val="daa04f">
              <a:alpha val="69000"/>
            </a:srgbClr>
          </a:solidFill>
          <a:ln w="25560">
            <a:solidFill>
              <a:srgbClr val="daa04f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549600" y="3313080"/>
            <a:ext cx="1955880" cy="627120"/>
          </a:xfrm>
          <a:prstGeom prst="rect">
            <a:avLst/>
          </a:prstGeom>
          <a:solidFill>
            <a:srgbClr val="ecbd00"/>
          </a:solidFill>
          <a:ln w="25560">
            <a:solidFill>
              <a:srgbClr val="daa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549600" y="3313080"/>
            <a:ext cx="1378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0" rIns="64800" tIns="0" bIns="0" anchor="ctr">
            <a:noAutofit/>
          </a:bodyPr>
          <a:p>
            <a:pPr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4981680" y="3413160"/>
            <a:ext cx="684000" cy="684000"/>
          </a:xfrm>
          <a:prstGeom prst="ellipse">
            <a:avLst/>
          </a:prstGeom>
          <a:solidFill>
            <a:srgbClr val="daa04f">
              <a:alpha val="69000"/>
            </a:srgbClr>
          </a:solidFill>
          <a:ln w="25560">
            <a:solidFill>
              <a:srgbClr val="daa04f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5835600" y="3313080"/>
            <a:ext cx="1955880" cy="627120"/>
          </a:xfrm>
          <a:prstGeom prst="rect">
            <a:avLst/>
          </a:prstGeom>
          <a:solidFill>
            <a:srgbClr val="ecbd00"/>
          </a:solidFill>
          <a:ln w="25560">
            <a:solidFill>
              <a:srgbClr val="daa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5835600" y="3313080"/>
            <a:ext cx="1378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0" rIns="64800" tIns="0" bIns="0" anchor="ctr">
            <a:noAutofit/>
          </a:bodyPr>
          <a:p>
            <a:pPr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7267680" y="3413160"/>
            <a:ext cx="684000" cy="684000"/>
          </a:xfrm>
          <a:prstGeom prst="ellipse">
            <a:avLst/>
          </a:prstGeom>
          <a:solidFill>
            <a:srgbClr val="daa04f">
              <a:alpha val="80000"/>
            </a:srgbClr>
          </a:solidFill>
          <a:ln w="25560">
            <a:solidFill>
              <a:srgbClr val="daa04f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wg_blurred_backgrounds_6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4280" y="2149560"/>
            <a:ext cx="7650360" cy="12888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492120" y="0"/>
            <a:ext cx="7421400" cy="6012000"/>
            <a:chOff x="492120" y="0"/>
            <a:chExt cx="7421400" cy="6012000"/>
          </a:xfrm>
        </p:grpSpPr>
        <p:sp>
          <p:nvSpPr>
            <p:cNvPr id="114" name="矩形 4"/>
            <p:cNvSpPr/>
            <p:nvPr/>
          </p:nvSpPr>
          <p:spPr>
            <a:xfrm>
              <a:off x="1030680" y="0"/>
              <a:ext cx="5930640" cy="627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92120" y="1503000"/>
              <a:ext cx="7421400" cy="45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7"/>
            <p:cNvSpPr/>
            <p:nvPr/>
          </p:nvSpPr>
          <p:spPr>
            <a:xfrm rot="20926800">
              <a:off x="2163600" y="3123000"/>
              <a:ext cx="409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8-13T01:42:02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