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4374-73E7-48AB-8E32-5B71817E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5E55-062A-4C98-8939-720FB470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A06DB-B573-4879-A980-E193449B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0EED0-4057-4D3F-A512-8E17CBBD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25400-0EFD-4E03-8305-F242DC3D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68D1C-907B-44EB-990D-245EABEC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E4171-3D07-4BA8-B60B-518F9C73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E13D2-9E6D-4D5C-ABC6-97045674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82B4B-C796-40C1-839B-25A305CE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FB07F-D582-4A38-8DEF-B1433610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AE8BF-64CA-449D-98BE-563C8E40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2FFC8-A9B4-4F76-A158-C5C54CF8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643C-C45E-49B1-9764-3D211241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1D2AD-BCA4-434E-B840-4DD13516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75B49-F255-43FC-9189-1B5D2184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1575B-114E-4AAA-9624-8E645C19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424C9-E46A-4C7C-8E3F-5A809C1B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B451A-88A7-4AAC-A9C4-21EDDCAC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5AFB8-5F05-43AD-9FAE-6C3F0AA2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A3037-FB2A-4DB5-82B0-9247FCA5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DA9CB-726D-465E-AF9E-4E1580DE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39017-7560-47AA-88C6-84966B72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53E5D-0CF4-4C10-80B6-4FAC5CCD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3297-A440-4E7A-A38B-B525BCB5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A7AB5-97DF-424A-BD59-97CC7E36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2C473-9D45-43F8-877A-310EE98D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2D289-B18A-4053-86F4-98C6B2C4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D5FD8-8F62-4083-BAE2-8F52698A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0C6C7-600A-4C4F-8D4A-6C887969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C43F7-8F44-4085-B3C7-8EDA59F4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61AD9-8263-44E6-9A9A-9540EACC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BA8F4-4BE4-44FE-BF52-97B5B741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D2552-7BDD-4707-B8A3-87FB950F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EE3E1-8542-46EF-89FE-8E51C234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D2A7-322F-405B-BA73-4D843635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7709D-0F98-43BD-B9A5-2416FB7C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64747-B0DA-4E59-BAAB-5C1CBA17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02903-318D-4DD0-B5CE-A998B4D4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E2739-1855-4EE8-9E72-315A9DB9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E3D06-CBAA-43EC-A811-838D290F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BB5FD-DC0D-4407-A417-DA9954DE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CF69E-A3C7-4C2B-A8D1-3C22E232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01BEA-11BD-4F25-BB87-A5C7956C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7ED78-1600-4386-9088-C76C65FE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A75DD-CA9D-4F24-BFF2-A210B8FC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37C3-FC05-4D5D-AD46-06ABE6C4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5107C-E0C0-4528-B150-BA759C46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22C36-A25B-461B-B927-365205D1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DB6E1-4DC9-48A4-9367-C52A9C8A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DE969-03ED-4E7A-8D69-18943A60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EF32F-23FA-4E18-9ADF-1784643C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B813F-4DBD-4996-9C63-7012EF8D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BA46FD-26E9-4E1C-AD53-AFA4E17A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6C777A-FE2E-4548-BF22-F3853A0A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FE7CA3-50DB-4128-9989-9838D6B1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06423-3A0A-4C6D-AF10-B9B22F65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24BE-EBC7-4692-B594-3C273127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CBB873-BFBA-4EA9-9386-7D276F17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CD7333-BCBD-4178-9001-B05BFD8C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4D66F9-5801-43D4-81B4-F5CB7207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05C9E-3943-4BE8-9C48-AC79BBC8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84F9AA-2B79-4350-AD53-D14E54FD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D598B7-838A-49DF-BA8F-053F1F5E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32C361-2DDD-4287-92EB-4EA94B33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B0F0-AFBF-4C57-BB3C-B00E5971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CE08-3E58-41DE-A4A3-25C6E737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56B9-4192-4CAF-B45E-C1116CBC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F8F8-6F24-44DA-B32B-FEB2D9F9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4582-7157-498E-BD97-90212B0A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E025-89D8-4D2B-8CBA-805DE7BD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90D6-1573-4FD9-A122-5E9F9769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5C6A-DF46-409F-BBEF-FE618AD2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44FD-51AD-4501-926F-BC7CA76E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7512-3EA0-440D-90C7-347C90E1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BCD47-9875-40BF-84DB-E39A3832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BB0B9-982E-4A0C-AE2F-2F0661FE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73F3B-8C8A-48AB-B63A-50516711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8F5F4-86D9-4388-8F1F-F45F9447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B3A78-E98E-460D-BECB-77DAB841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37A5-8E47-45ED-AE16-0921F288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70259-83E6-491C-B685-225512C5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A7366-5E91-4360-9B73-7BCE7770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4CABD-5C53-4DC3-A15B-2BD009E9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1C4BA-26A1-43FA-8000-87D58861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3E6FB-C12B-4A78-BCBD-01957D8D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5F736-8A29-406F-8D97-7263ABDE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04E34-FB4B-45E4-A5B0-92547638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5A400-7120-408C-B119-C3614CE2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1E51A-7ED9-4935-82EA-74157403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AB889-2115-4CE2-A536-44904E2D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676A-E973-47FD-881B-95715193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0D7E7-E56E-4CC4-BEA9-20023AF1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A29D5-EC55-4702-9036-A11B4EC9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345EF-0F57-46F2-B28B-4C9C97B6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D528A-BB3C-4319-835D-0579A357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07A21-C618-45E0-9084-5E3EDAC2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48E6D-73F6-48AB-95A4-63E07675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558F5-2044-4457-935D-2B2D3782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5F710-6029-4229-91D1-24D585D8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5EFAC-7FF3-4E04-B543-BAD03978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6755C-9ECA-465F-8386-AE50856E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4CD1-EDC9-4C03-9EE8-F303F49A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61130-BBE7-4CF3-A7BC-FBDE6DD7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E525F-8650-4071-AA17-18B06A86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94FBA-1BA1-47CA-BA7C-0C86F36B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30139-428C-497D-8D1F-3EB87A45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D07C3-4384-4F3C-804D-AC2045A3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9BA10-ED6F-43F3-93C7-666F3F8F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DB79C-4204-4FF6-BED3-2F761334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79FE9-D591-4036-AC6A-CD5756A1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18D33-BB0F-4CF7-8F70-0E08399C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F1E57-7E97-49D7-B8C5-CC37089D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735A-AE80-4973-B808-A43852BC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D3F31-716B-431A-AE5B-E57E0A0F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32E4E-E90C-4C55-8030-FAA63D2B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F4D34-2746-4279-AF6E-5A872BF6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AAE8B-E822-4DD4-82D7-2AE77C0E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F004A-2287-4A86-BDC1-B3884900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AAD65-BD89-4DDD-BEA2-2920CF85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981D1-2588-4C8D-A7BE-3DA73DDD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EFD9D-AA90-4C87-A102-71553F52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1F78D-758E-44BA-8234-EC185CF4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28513-01A9-4492-8927-2FA368E8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8CD1-B5C8-4215-ACF2-4DF92380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69B5D-C38B-46C8-855F-E7C38F54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8141C-F333-4D9D-8807-F4C35212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0376E-067A-49BB-ADDC-D898DA0C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155B5-7E55-4CFE-A25A-3F341C7D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EADF0-28E6-4D7D-8511-F8F1EFA1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3DAB1-C6A6-46B3-A968-A851E4BD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6BDB0-6C1E-46AE-A198-FE7215A6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EC0FE-D78B-41AB-AFE5-5C0FA8B4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F2D2F-55CF-47FE-8E98-1C4D7B80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3DCCD-A961-4E39-82A7-3C5F1804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E9B9-0B55-4150-95EF-37C55DF9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1AF3D-1DAE-4BE5-A27C-60EAA43D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5ACAD-6D48-4CD3-BCAE-A34D0B0E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E4CA7-3AE6-48F9-AB2F-8601283D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03965-945C-469B-8C59-BDCDD39E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91B02-D173-49AF-8633-9899CAC4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A8523-779E-4F56-90D7-B5207B48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53683-AB32-4118-A13B-A43D40EE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2AD33-3511-44A7-938C-FE603CEF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AE74F-F1E6-46E6-A0B3-6B1C82FE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27595-FB8A-4914-8CD9-22914A91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4CB-DFA7-41F1-84D9-F0F845B5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9ECDE-68F2-4032-9FE3-7970D878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0F071-A071-4A89-932A-A7770C80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9C4CC-1AE1-4943-BAC4-4D74ABAB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44F24-0991-4EE2-BEC3-4890807E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8806A-F344-47F3-8283-A4121B2C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C6E14-5D29-4F0F-BC58-87DE9A4C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6006A-10B2-45BA-93AC-123B6E40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D46C7-A2D9-4883-B0EF-63B159BA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1006C-6C0C-4C74-A97B-A0E29F1B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2AE9B-A653-438A-A8ED-CF5FCE6C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6792-11A8-4020-9832-48534F9597C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2793-B146-4E3E-B533-9983AD0DFB3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67E5-C7B9-4B95-9921-653BBDB2B664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950F-BAE5-40F5-92FB-9E3EAF5FE2F0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83EB-98EF-4F2B-8330-3B867F1B5AC7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5F1A-6D4B-4D27-B453-72A4791E43E2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EA96-BDE0-4DCA-8460-2460393019BF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716B-FA5C-4920-ABC2-52F02A9A332F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B96D-7A9C-4C1A-A53F-64E84378B404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CB54-EE3D-4CD3-8E51-CE15A4099384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4BC2-9DDA-462B-B583-75CBF11EF73C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E590-B6B2-46EC-930D-4D4A6DB97C09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3769-1E22-44A6-8853-9BB1CD38ABF8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E44E-9913-4F12-83C2-31E4F6DAC912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219E-ABAD-4637-9131-ECCEE513ED6F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ADF2-13ED-42D9-87A8-9133DE5F5CB8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8535-CE50-4122-84A2-8D9566891EFE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0B2F-93CC-42E0-A76D-CD9E1C55C2F6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E123-9B80-482D-9346-6F0A9058D774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4F6A-4661-484A-A34F-E6F8AEEBDB1E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2C4F-F677-43FB-9FB4-CC92DB612065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75B0-34F7-4F98-B7F4-21614C05C556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23B4-4895-4011-8CCF-2818582B6D01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0BAF-0DBB-46F2-8F6F-695CB1D04AA3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10D7-68A4-4468-9F24-A3B937EB35B1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4757-173C-4D8B-9738-C5B36A3A84DE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3"/>
          <p:cNvSpPr/>
          <p:nvPr/>
        </p:nvSpPr>
        <p:spPr>
          <a:xfrm>
            <a:off x="1440" y="6480"/>
            <a:ext cx="9144000" cy="3278160"/>
          </a:xfrm>
          <a:prstGeom prst="rect">
            <a:avLst/>
          </a:prstGeom>
          <a:solidFill>
            <a:srgbClr val="cc00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511280" y="2062080"/>
            <a:ext cx="418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简约就是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3617280" y="344808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粉色简约范儿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7869240" y="508644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Blackadder ITC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矩形 1"/>
          <p:cNvSpPr/>
          <p:nvPr/>
        </p:nvSpPr>
        <p:spPr>
          <a:xfrm>
            <a:off x="0" y="0"/>
            <a:ext cx="9144000" cy="617400"/>
          </a:xfrm>
          <a:prstGeom prst="rect">
            <a:avLst/>
          </a:prstGeom>
          <a:solidFill>
            <a:srgbClr val="cc00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直角三角形 3"/>
          <p:cNvSpPr/>
          <p:nvPr/>
        </p:nvSpPr>
        <p:spPr>
          <a:xfrm flipV="1">
            <a:off x="0" y="0"/>
            <a:ext cx="395280" cy="457200"/>
          </a:xfrm>
          <a:prstGeom prst="rtTriangle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6"/>
          <p:cNvSpPr/>
          <p:nvPr/>
        </p:nvSpPr>
        <p:spPr>
          <a:xfrm>
            <a:off x="466560" y="889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5"/>
          <p:cNvGrpSpPr/>
          <p:nvPr/>
        </p:nvGrpSpPr>
        <p:grpSpPr>
          <a:xfrm>
            <a:off x="1740960" y="450720"/>
            <a:ext cx="5134680" cy="1501560"/>
            <a:chOff x="1740960" y="450720"/>
            <a:chExt cx="5134680" cy="1501560"/>
          </a:xfrm>
        </p:grpSpPr>
        <p:sp>
          <p:nvSpPr>
            <p:cNvPr id="541" name="TextBox 7"/>
            <p:cNvSpPr/>
            <p:nvPr/>
          </p:nvSpPr>
          <p:spPr>
            <a:xfrm>
              <a:off x="1740960" y="450720"/>
              <a:ext cx="802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800" spc="-1" strike="noStrike">
                  <a:solidFill>
                    <a:srgbClr val="cc0066"/>
                  </a:solidFill>
                  <a:latin typeface="Arial"/>
                  <a:ea typeface="微软雅黑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19"/>
            <p:cNvSpPr/>
            <p:nvPr/>
          </p:nvSpPr>
          <p:spPr>
            <a:xfrm>
              <a:off x="2483640" y="1127880"/>
              <a:ext cx="4392000" cy="617040"/>
            </a:xfrm>
            <a:prstGeom prst="rect">
              <a:avLst/>
            </a:prstGeom>
            <a:solidFill>
              <a:srgbClr val="94949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何为简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" name="Group 8"/>
            <p:cNvGrpSpPr/>
            <p:nvPr/>
          </p:nvGrpSpPr>
          <p:grpSpPr>
            <a:xfrm>
              <a:off x="2336400" y="941400"/>
              <a:ext cx="532080" cy="1010880"/>
              <a:chOff x="2336400" y="941400"/>
              <a:chExt cx="532080" cy="1010880"/>
            </a:xfrm>
          </p:grpSpPr>
          <p:sp>
            <p:nvSpPr>
              <p:cNvPr id="544" name="直角三角形 20"/>
              <p:cNvSpPr/>
              <p:nvPr/>
            </p:nvSpPr>
            <p:spPr>
              <a:xfrm flipV="1">
                <a:off x="2483280" y="1072440"/>
                <a:ext cx="338400" cy="607680"/>
              </a:xfrm>
              <a:prstGeom prst="rtTriangle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直接连接符 10"/>
              <p:cNvSpPr/>
              <p:nvPr/>
            </p:nvSpPr>
            <p:spPr>
              <a:xfrm flipH="1">
                <a:off x="2336400" y="941400"/>
                <a:ext cx="532080" cy="101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6" name="Group 11"/>
          <p:cNvGrpSpPr/>
          <p:nvPr/>
        </p:nvGrpSpPr>
        <p:grpSpPr>
          <a:xfrm>
            <a:off x="1740960" y="2138400"/>
            <a:ext cx="5134680" cy="1501560"/>
            <a:chOff x="1740960" y="2138400"/>
            <a:chExt cx="5134680" cy="1501560"/>
          </a:xfrm>
        </p:grpSpPr>
        <p:sp>
          <p:nvSpPr>
            <p:cNvPr id="547" name="TextBox 28"/>
            <p:cNvSpPr/>
            <p:nvPr/>
          </p:nvSpPr>
          <p:spPr>
            <a:xfrm>
              <a:off x="1740960" y="2138400"/>
              <a:ext cx="802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800" spc="-1" strike="noStrike">
                  <a:solidFill>
                    <a:srgbClr val="cc0066"/>
                  </a:solidFill>
                  <a:latin typeface="Arial"/>
                  <a:ea typeface="微软雅黑"/>
                </a:rPr>
                <a:t>2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29"/>
            <p:cNvSpPr/>
            <p:nvPr/>
          </p:nvSpPr>
          <p:spPr>
            <a:xfrm>
              <a:off x="2483640" y="2815560"/>
              <a:ext cx="4392000" cy="617040"/>
            </a:xfrm>
            <a:prstGeom prst="rect">
              <a:avLst/>
            </a:prstGeom>
            <a:solidFill>
              <a:srgbClr val="94949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何为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Group 14"/>
            <p:cNvGrpSpPr/>
            <p:nvPr/>
          </p:nvGrpSpPr>
          <p:grpSpPr>
            <a:xfrm>
              <a:off x="2336400" y="2629080"/>
              <a:ext cx="532080" cy="1010880"/>
              <a:chOff x="2336400" y="2629080"/>
              <a:chExt cx="532080" cy="1010880"/>
            </a:xfrm>
          </p:grpSpPr>
          <p:sp>
            <p:nvSpPr>
              <p:cNvPr id="550" name="直角三角形 31"/>
              <p:cNvSpPr/>
              <p:nvPr/>
            </p:nvSpPr>
            <p:spPr>
              <a:xfrm flipV="1">
                <a:off x="2483280" y="2760120"/>
                <a:ext cx="338400" cy="607680"/>
              </a:xfrm>
              <a:prstGeom prst="rtTriangle">
                <a:avLst/>
              </a:prstGeom>
              <a:solidFill>
                <a:srgbClr val="d6d6d6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直接连接符 32"/>
              <p:cNvSpPr/>
              <p:nvPr/>
            </p:nvSpPr>
            <p:spPr>
              <a:xfrm flipH="1">
                <a:off x="2336400" y="2629080"/>
                <a:ext cx="532080" cy="101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2" name="Group 17"/>
          <p:cNvGrpSpPr/>
          <p:nvPr/>
        </p:nvGrpSpPr>
        <p:grpSpPr>
          <a:xfrm>
            <a:off x="1812600" y="3803760"/>
            <a:ext cx="5064480" cy="1503360"/>
            <a:chOff x="1812600" y="3803760"/>
            <a:chExt cx="5064480" cy="1503360"/>
          </a:xfrm>
        </p:grpSpPr>
        <p:sp>
          <p:nvSpPr>
            <p:cNvPr id="553" name="TextBox 34"/>
            <p:cNvSpPr/>
            <p:nvPr/>
          </p:nvSpPr>
          <p:spPr>
            <a:xfrm>
              <a:off x="1812600" y="3803760"/>
              <a:ext cx="802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cc0066"/>
                  </a:solidFill>
                  <a:latin typeface="Arial"/>
                  <a:ea typeface="微软雅黑"/>
                </a:rPr>
                <a:t>3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35"/>
            <p:cNvSpPr/>
            <p:nvPr/>
          </p:nvSpPr>
          <p:spPr>
            <a:xfrm>
              <a:off x="2483280" y="4481640"/>
              <a:ext cx="4393800" cy="617400"/>
            </a:xfrm>
            <a:prstGeom prst="rect">
              <a:avLst/>
            </a:prstGeom>
            <a:solidFill>
              <a:srgbClr val="94949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简约与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20"/>
            <p:cNvGrpSpPr/>
            <p:nvPr/>
          </p:nvGrpSpPr>
          <p:grpSpPr>
            <a:xfrm>
              <a:off x="2336040" y="4295160"/>
              <a:ext cx="532440" cy="1011960"/>
              <a:chOff x="2336040" y="4295160"/>
              <a:chExt cx="532440" cy="1011960"/>
            </a:xfrm>
          </p:grpSpPr>
          <p:sp>
            <p:nvSpPr>
              <p:cNvPr id="556" name="直角三角形 37"/>
              <p:cNvSpPr/>
              <p:nvPr/>
            </p:nvSpPr>
            <p:spPr>
              <a:xfrm flipV="1">
                <a:off x="2483280" y="4426200"/>
                <a:ext cx="338760" cy="608400"/>
              </a:xfrm>
              <a:prstGeom prst="rtTriangle">
                <a:avLst/>
              </a:prstGeom>
              <a:solidFill>
                <a:srgbClr val="d6d6d6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直接连接符 38"/>
              <p:cNvSpPr/>
              <p:nvPr/>
            </p:nvSpPr>
            <p:spPr>
              <a:xfrm flipH="1">
                <a:off x="2336040" y="4295160"/>
                <a:ext cx="532440" cy="101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矩形 1"/>
          <p:cNvSpPr/>
          <p:nvPr/>
        </p:nvSpPr>
        <p:spPr>
          <a:xfrm>
            <a:off x="0" y="0"/>
            <a:ext cx="9144000" cy="617400"/>
          </a:xfrm>
          <a:prstGeom prst="rect">
            <a:avLst/>
          </a:prstGeom>
          <a:solidFill>
            <a:srgbClr val="cc00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直角三角形 3"/>
          <p:cNvSpPr/>
          <p:nvPr/>
        </p:nvSpPr>
        <p:spPr>
          <a:xfrm flipV="1">
            <a:off x="0" y="0"/>
            <a:ext cx="395280" cy="457200"/>
          </a:xfrm>
          <a:prstGeom prst="rtTriangle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6"/>
          <p:cNvSpPr/>
          <p:nvPr/>
        </p:nvSpPr>
        <p:spPr>
          <a:xfrm>
            <a:off x="466560" y="889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5"/>
          <p:cNvGrpSpPr/>
          <p:nvPr/>
        </p:nvGrpSpPr>
        <p:grpSpPr>
          <a:xfrm>
            <a:off x="1885320" y="2104920"/>
            <a:ext cx="5134680" cy="1501560"/>
            <a:chOff x="1885320" y="2104920"/>
            <a:chExt cx="5134680" cy="1501560"/>
          </a:xfrm>
        </p:grpSpPr>
        <p:sp>
          <p:nvSpPr>
            <p:cNvPr id="562" name="TextBox 7"/>
            <p:cNvSpPr/>
            <p:nvPr/>
          </p:nvSpPr>
          <p:spPr>
            <a:xfrm>
              <a:off x="1885320" y="2104920"/>
              <a:ext cx="802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800" spc="-1" strike="noStrike">
                  <a:solidFill>
                    <a:srgbClr val="a0d400"/>
                  </a:solidFill>
                  <a:latin typeface="Arial"/>
                  <a:ea typeface="微软雅黑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矩形 19"/>
            <p:cNvSpPr/>
            <p:nvPr/>
          </p:nvSpPr>
          <p:spPr>
            <a:xfrm>
              <a:off x="2628000" y="2782080"/>
              <a:ext cx="4392000" cy="617040"/>
            </a:xfrm>
            <a:prstGeom prst="rect">
              <a:avLst/>
            </a:prstGeom>
            <a:solidFill>
              <a:srgbClr val="94949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何为简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8"/>
            <p:cNvGrpSpPr/>
            <p:nvPr/>
          </p:nvGrpSpPr>
          <p:grpSpPr>
            <a:xfrm>
              <a:off x="2480760" y="2595600"/>
              <a:ext cx="532080" cy="1010880"/>
              <a:chOff x="2480760" y="2595600"/>
              <a:chExt cx="532080" cy="1010880"/>
            </a:xfrm>
          </p:grpSpPr>
          <p:sp>
            <p:nvSpPr>
              <p:cNvPr id="565" name="直角三角形 20"/>
              <p:cNvSpPr/>
              <p:nvPr/>
            </p:nvSpPr>
            <p:spPr>
              <a:xfrm flipV="1">
                <a:off x="2627640" y="2726640"/>
                <a:ext cx="338400" cy="607680"/>
              </a:xfrm>
              <a:prstGeom prst="rtTriangle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直接连接符 10"/>
              <p:cNvSpPr/>
              <p:nvPr/>
            </p:nvSpPr>
            <p:spPr>
              <a:xfrm flipH="1">
                <a:off x="2480760" y="2595600"/>
                <a:ext cx="532080" cy="101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矩形 1"/>
          <p:cNvSpPr/>
          <p:nvPr/>
        </p:nvSpPr>
        <p:spPr>
          <a:xfrm>
            <a:off x="0" y="0"/>
            <a:ext cx="9144000" cy="617400"/>
          </a:xfrm>
          <a:prstGeom prst="rect">
            <a:avLst/>
          </a:prstGeom>
          <a:solidFill>
            <a:srgbClr val="cc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直角三角形 3"/>
          <p:cNvSpPr/>
          <p:nvPr/>
        </p:nvSpPr>
        <p:spPr>
          <a:xfrm flipV="1">
            <a:off x="0" y="0"/>
            <a:ext cx="395280" cy="457200"/>
          </a:xfrm>
          <a:prstGeom prst="rtTriangle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6"/>
          <p:cNvSpPr/>
          <p:nvPr/>
        </p:nvSpPr>
        <p:spPr>
          <a:xfrm>
            <a:off x="466560" y="889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简约的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2"/>
          <p:cNvSpPr/>
          <p:nvPr/>
        </p:nvSpPr>
        <p:spPr>
          <a:xfrm>
            <a:off x="539640" y="60948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矩形 3"/>
          <p:cNvSpPr/>
          <p:nvPr/>
        </p:nvSpPr>
        <p:spPr>
          <a:xfrm>
            <a:off x="0" y="-28440"/>
            <a:ext cx="9144000" cy="5729040"/>
          </a:xfrm>
          <a:prstGeom prst="rect">
            <a:avLst/>
          </a:prstGeom>
          <a:solidFill>
            <a:srgbClr val="cc00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"/>
          <p:cNvSpPr/>
          <p:nvPr/>
        </p:nvSpPr>
        <p:spPr>
          <a:xfrm>
            <a:off x="519120" y="1336680"/>
            <a:ext cx="706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聆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"/>
          <p:cNvSpPr/>
          <p:nvPr/>
        </p:nvSpPr>
        <p:spPr>
          <a:xfrm>
            <a:off x="0" y="3576600"/>
            <a:ext cx="9144000" cy="2138400"/>
          </a:xfrm>
          <a:prstGeom prst="rect">
            <a:avLst/>
          </a:prstGeom>
          <a:gradFill rotWithShape="0">
            <a:gsLst>
              <a:gs pos="0">
                <a:srgbClr val="d5d5d5"/>
              </a:gs>
              <a:gs pos="100000">
                <a:srgbClr val="d3d3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5"/>
          <p:cNvSpPr/>
          <p:nvPr/>
        </p:nvSpPr>
        <p:spPr>
          <a:xfrm>
            <a:off x="519120" y="234648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for your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</a:rPr>
              <a:t>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61080" y="4946760"/>
            <a:ext cx="237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762120" y="0"/>
            <a:ext cx="7056360" cy="5714640"/>
            <a:chOff x="762120" y="0"/>
            <a:chExt cx="7056360" cy="5714640"/>
          </a:xfrm>
        </p:grpSpPr>
        <p:sp>
          <p:nvSpPr>
            <p:cNvPr id="577" name="矩形 4"/>
            <p:cNvSpPr/>
            <p:nvPr/>
          </p:nvSpPr>
          <p:spPr>
            <a:xfrm>
              <a:off x="1302480" y="0"/>
              <a:ext cx="5599800" cy="5965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428480"/>
              <a:ext cx="70563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TextBox 7"/>
            <p:cNvSpPr/>
            <p:nvPr/>
          </p:nvSpPr>
          <p:spPr>
            <a:xfrm rot="20926800">
              <a:off x="2360160" y="2964960"/>
              <a:ext cx="388980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8:02:13Z</dcterms:created>
  <dc:creator>yellownancy</dc:creator>
  <dc:description/>
  <dc:language>en-US</dc:language>
  <cp:lastModifiedBy>a</cp:lastModifiedBy>
  <dcterms:modified xsi:type="dcterms:W3CDTF">2015-01-15T03:08:2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