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DE4-F680-4189-8349-B77C8315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858-1460-42D8-ADD9-4DA949A2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C7C-6D53-4C14-8C57-79271089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1DF-6F29-4F1C-9CE4-403914E3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523-99E8-447D-B9AD-09A157F0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7E7-1BAA-4CDA-87DE-62B9C398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038-75B0-456A-A106-F14D231C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A423-8400-4531-B19D-802A4E9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DBEA-14F9-4E19-8F31-42EB6DFF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BC4E-9A52-4D15-B5E9-E86FCAE8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9DD-D993-421D-BE61-3676752F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C49-75E7-4E0E-8D75-99F7B43C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96F9-F9D4-403B-B521-4DA454F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282-12E7-4376-8D30-060F10E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F3E7-6895-43BC-AADF-3826075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42E3-6B36-4968-80B4-6AC7782A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9BC-3FAF-467F-BA0F-FE91BC83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8DF-0DF9-4CC6-9DC0-BF23E8F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76C-DC31-4796-8955-28A95DD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45E-E596-44C6-BFD8-0BF873D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3B9-8369-4C5B-9BAE-54936F3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786-F05E-47E3-87DB-5A73145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DDA-9C9D-4B8E-9B4F-17F7442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71C-9605-44D8-9B67-97A4D9F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4732"/>
                </a:solidFill>
                <a:latin typeface="Adobe Caslon Pro Bold"/>
              </a:rPr>
              <a:t>Click to edit the title text format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2655-F24B-44DE-933F-E7EB1B81E4F0}" type="datetime">
              <a:rPr b="0" lang="en-US" sz="1200" spc="-1" strike="noStrike">
                <a:solidFill>
                  <a:srgbClr val="8b8b8b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7B51-20D7-4007-B0E8-B41BD3DA32C2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rcRect l="0" t="25780" r="21366" b="0"/>
          <a:stretch/>
        </p:blipFill>
        <p:spPr>
          <a:xfrm>
            <a:off x="7812000" y="0"/>
            <a:ext cx="1332000" cy="90792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C0F7-BC59-4792-9EA7-B16BC7618A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674-F288-4F73-8A68-06B549C39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7067520" y="0"/>
            <a:ext cx="2077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2924280"/>
            <a:ext cx="6119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4732"/>
                </a:solidFill>
                <a:latin typeface="Adobe Caslon Pro Bold"/>
              </a:rPr>
              <a:t>PowerPoint</a:t>
            </a:r>
            <a:r>
              <a:rPr b="0" lang="zh-CN" sz="4000" spc="-1" strike="noStrike">
                <a:solidFill>
                  <a:srgbClr val="8e4732"/>
                </a:solidFill>
                <a:latin typeface="Adobe Caslon Pro Bold"/>
              </a:rPr>
              <a:t>模板</a:t>
            </a:r>
            <a:endParaRPr b="0" lang="en-US" sz="40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1214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7"/>
          <p:cNvSpPr/>
          <p:nvPr/>
        </p:nvSpPr>
        <p:spPr>
          <a:xfrm>
            <a:off x="2195640" y="3429000"/>
            <a:ext cx="4752720" cy="0"/>
          </a:xfrm>
          <a:prstGeom prst="line">
            <a:avLst/>
          </a:prstGeom>
          <a:ln w="76320">
            <a:solidFill>
              <a:srgbClr val="8e4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89" name="图片 8" descr=""/>
          <p:cNvPicPr/>
          <p:nvPr/>
        </p:nvPicPr>
        <p:blipFill>
          <a:blip r:embed="rId1"/>
          <a:srcRect l="-3006" t="0" r="0" b="-4560"/>
          <a:stretch/>
        </p:blipFill>
        <p:spPr>
          <a:xfrm>
            <a:off x="1892160" y="2227320"/>
            <a:ext cx="1743120" cy="1238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360" y="2773080"/>
            <a:ext cx="439128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4732"/>
                </a:solidFill>
                <a:latin typeface="Adobe Caslon Pro Bold"/>
              </a:rPr>
              <a:t>您的章节标题</a:t>
            </a:r>
            <a:endParaRPr b="0" lang="en-US" sz="36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3499920"/>
            <a:ext cx="5329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4732"/>
                </a:solidFill>
                <a:latin typeface="Adobe Caslon Pro"/>
              </a:rPr>
              <a:t>章节副标题章节副标题章节副标题章节副标题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B7E-7B7C-4357-93A7-2465FD2F3A2F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117000"/>
            <a:ext cx="5770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e4732"/>
                </a:solidFill>
                <a:latin typeface="Adobe Caslon Pro Bold"/>
              </a:rPr>
              <a:t>单击此处添加标题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5T01:47:41Z</dcterms:modified>
  <cp:revision>2</cp:revision>
  <dc:subject/>
  <dc:title>PowerPoint模板</dc:title>
</cp:coreProperties>
</file>