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782-1E3D-4F04-A5E4-96DBE734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296-6CDA-4D2E-9B13-67DD9D2C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1D05-7CF5-4372-8A7D-301F6C1D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8DEE-3CD2-4565-83C8-989B183E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C7C3-04A3-460C-8280-509EF969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3325-FBFC-4365-B0B8-621B9B52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05FA-309D-4658-AE15-C92CC85C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251D-7398-4283-A5B4-8BF0ECE0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9D4B-F6C5-4CF3-B42C-92C0619D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AFD4-C815-4B19-9CBF-2A14370D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568B-0C36-49EB-83FD-4CB8155F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284-7985-4114-8670-BE4D9B96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B6D6-0AEC-4E5D-88A1-93D1461F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1D76-1AD2-416E-B58B-36944E6C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B910-D061-4739-B495-ECCFD98C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EA6E-848B-418C-9BE7-BE4D7DF7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C6A2-C8AD-4088-9844-0FC1B3DE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87718-53CE-4EE9-8878-E64C6045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63304-EAED-414D-9865-CE57E6AB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234B7-7C9B-4491-8F32-0D551C92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17B23-11EB-4580-A6F0-551EEA2B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E9245-431C-4AEF-A7E1-E3F1043A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743-009A-425B-8CAE-62A925FA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A4CCF-23A6-448A-A32D-6038EAA9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D9930-B430-46EF-9B16-9AF2C5E5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9CF9-A616-4BAF-B492-74E62A3B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A61BA-3219-4603-890D-5746B9F2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9A5AB-C11D-43DC-A9B8-3F82D7BD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3A28D-6448-4D32-90CD-1E407B54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75F2-E6C5-4081-A444-E13ADB5A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423CB-6B96-4698-A763-04A372D2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3F99E-9191-4B2A-B265-B1626F2B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9F720-C316-43BC-A748-9993A9DB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8BB-DDEC-4ED5-A4D0-42BF3B2C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DF94-69ED-4FD1-9904-313EB983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9F7DF-3181-45D7-96A5-016BCEFD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0E90E-28F3-4E75-BFAC-D0F59681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30501-DE9B-49E6-BD92-A8AEA889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909FA-F529-42E1-AED8-C778FDB6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F02C9-72E6-4389-97AA-6356A62F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A4B08-99F2-440C-8229-CD5582B0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0E9BD-5E4E-449C-A2E7-A6CACCB2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08FEC-C6D1-4350-A042-3E8F2A19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9B4-1832-45D5-B6EB-E68616F1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576-961B-467C-B939-47246483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660-9E9D-4BF9-B241-A01703FC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8B9-4842-4D38-BDCE-DAA24089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5FB-1326-4041-91DD-4D10BFAB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815B-4968-4E01-8D33-3C336D0B632C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99AC-B076-46A6-82DB-67572ABAF9FE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D07E-4E67-4DBD-9140-4E263A5259AE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20DA-6088-4612-A8C8-993761448D2E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4928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37F2-6BB7-492F-9C68-B19FEEBB7485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74760" y="5475240"/>
            <a:ext cx="28494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012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EA94-EFAD-4DD0-850E-F0931C5E39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AA0B-0E92-4A6A-970E-093E71FB6DE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A285-07F0-452C-A073-D7C288E759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wg_blurred_backgrounds_10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贵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259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wg_blurred_backgrounds_10"/>
          <p:cNvPicPr/>
          <p:nvPr/>
        </p:nvPicPr>
        <p:blipFill>
          <a:blip r:embed="rId1"/>
          <a:srcRect l="0" t="0" r="0" b="79280"/>
          <a:stretch/>
        </p:blipFill>
        <p:spPr>
          <a:xfrm>
            <a:off x="0" y="4757760"/>
            <a:ext cx="8999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36360" y="240840"/>
            <a:ext cx="6713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836360" y="1403280"/>
            <a:ext cx="6713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wg_blurred_backgrounds_10"/>
          <p:cNvPicPr/>
          <p:nvPr/>
        </p:nvPicPr>
        <p:blipFill>
          <a:blip r:embed="rId1"/>
          <a:srcRect l="51729" t="0" r="30183" b="0"/>
          <a:stretch/>
        </p:blipFill>
        <p:spPr>
          <a:xfrm>
            <a:off x="0" y="6480"/>
            <a:ext cx="162864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 rot="10800000">
            <a:off x="2590920" y="1364760"/>
            <a:ext cx="3836880" cy="882720"/>
          </a:xfrm>
          <a:custGeom>
            <a:avLst/>
            <a:gdLst>
              <a:gd name="textAreaLeft" fmla="*/ 0 w 3836880"/>
              <a:gd name="textAreaRight" fmla="*/ 3837240 w 383688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811600" y="1366920"/>
            <a:ext cx="36162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0" rIns="3913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2149560" y="1366920"/>
            <a:ext cx="882720" cy="880920"/>
          </a:xfrm>
          <a:prstGeom prst="ellipse">
            <a:avLst/>
          </a:prstGeom>
          <a:solidFill>
            <a:srgbClr val="b07210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 rot="10800000">
            <a:off x="2590920" y="2511360"/>
            <a:ext cx="3836880" cy="881280"/>
          </a:xfrm>
          <a:custGeom>
            <a:avLst/>
            <a:gdLst>
              <a:gd name="textAreaLeft" fmla="*/ 0 w 3836880"/>
              <a:gd name="textAreaRight" fmla="*/ 3837240 w 383688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811600" y="2511360"/>
            <a:ext cx="36162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0" rIns="3913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2149560" y="2511360"/>
            <a:ext cx="882720" cy="882720"/>
          </a:xfrm>
          <a:prstGeom prst="ellipse">
            <a:avLst/>
          </a:prstGeom>
          <a:solidFill>
            <a:srgbClr val="b07210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 rot="10800000">
            <a:off x="2590920" y="3655800"/>
            <a:ext cx="3836880" cy="880920"/>
          </a:xfrm>
          <a:custGeom>
            <a:avLst/>
            <a:gdLst>
              <a:gd name="textAreaLeft" fmla="*/ 0 w 3836880"/>
              <a:gd name="textAreaRight" fmla="*/ 3837240 w 383688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2811600" y="3656160"/>
            <a:ext cx="361620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0" rIns="3913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2149560" y="3656160"/>
            <a:ext cx="882720" cy="882360"/>
          </a:xfrm>
          <a:prstGeom prst="ellipse">
            <a:avLst/>
          </a:prstGeom>
          <a:solidFill>
            <a:srgbClr val="b07210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5106960" y="950760"/>
            <a:ext cx="1119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5313240" y="1057320"/>
            <a:ext cx="11192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rm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2471760" y="919080"/>
            <a:ext cx="4199040" cy="4199040"/>
          </a:xfrm>
          <a:custGeom>
            <a:avLst/>
            <a:gdLst>
              <a:gd name="textAreaLeft" fmla="*/ 614880 w 4199040"/>
              <a:gd name="textAreaRight" fmla="*/ 3584160 w 4199040"/>
              <a:gd name="textAreaTop" fmla="*/ 614880 h 4199040"/>
              <a:gd name="textAreaBottom" fmla="*/ 3584160 h 4199040"/>
            </a:gdLst>
            <a:ahLst/>
            <a:rect l="textAreaLeft" t="textAreaTop" r="textAreaRight" b="textAreaBottom"/>
            <a:pathLst>
              <a:path w="21600" h="21600">
                <a:moveTo>
                  <a:pt x="20439" y="9939"/>
                </a:moveTo>
                <a:cubicBezTo>
                  <a:pt x="20311" y="8505"/>
                  <a:pt x="19865" y="7117"/>
                  <a:pt x="19132" y="5877"/>
                </a:cubicBezTo>
                <a:lnTo>
                  <a:pt x="20098" y="5306"/>
                </a:lnTo>
                <a:cubicBezTo>
                  <a:pt x="20916" y="6690"/>
                  <a:pt x="21414" y="8239"/>
                  <a:pt x="21557" y="9840"/>
                </a:cubicBezTo>
                <a:lnTo>
                  <a:pt x="24246" y="9600"/>
                </a:lnTo>
                <a:lnTo>
                  <a:pt x="21288" y="13137"/>
                </a:lnTo>
                <a:lnTo>
                  <a:pt x="17750" y="10179"/>
                </a:lnTo>
                <a:lnTo>
                  <a:pt x="20439" y="9939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5783400" y="3033720"/>
            <a:ext cx="11188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5807160" y="3171960"/>
            <a:ext cx="111924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rm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2471760" y="919080"/>
            <a:ext cx="4199040" cy="4199040"/>
          </a:xfrm>
          <a:custGeom>
            <a:avLst/>
            <a:gdLst>
              <a:gd name="textAreaLeft" fmla="*/ 614880 w 4199040"/>
              <a:gd name="textAreaRight" fmla="*/ 3584160 w 4199040"/>
              <a:gd name="textAreaTop" fmla="*/ 614880 h 4199040"/>
              <a:gd name="textAreaBottom" fmla="*/ 3584160 h 4199040"/>
            </a:gdLst>
            <a:ahLst/>
            <a:rect l="textAreaLeft" t="textAreaTop" r="textAreaRight" b="textAreaBottom"/>
            <a:pathLst>
              <a:path w="21600" h="21600">
                <a:moveTo>
                  <a:pt x="14593" y="19703"/>
                </a:moveTo>
                <a:cubicBezTo>
                  <a:pt x="16123" y="19051"/>
                  <a:pt x="17459" y="18016"/>
                  <a:pt x="18473" y="16697"/>
                </a:cubicBezTo>
                <a:lnTo>
                  <a:pt x="19363" y="17381"/>
                </a:lnTo>
                <a:cubicBezTo>
                  <a:pt x="18231" y="18853"/>
                  <a:pt x="16740" y="20008"/>
                  <a:pt x="15032" y="20735"/>
                </a:cubicBezTo>
                <a:lnTo>
                  <a:pt x="16091" y="23219"/>
                </a:lnTo>
                <a:lnTo>
                  <a:pt x="11812" y="21497"/>
                </a:lnTo>
                <a:lnTo>
                  <a:pt x="13534" y="17219"/>
                </a:lnTo>
                <a:lnTo>
                  <a:pt x="14593" y="19703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011480" y="4321080"/>
            <a:ext cx="1119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4011480" y="4321080"/>
            <a:ext cx="1119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rm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2471760" y="919080"/>
            <a:ext cx="4199040" cy="4199040"/>
          </a:xfrm>
          <a:custGeom>
            <a:avLst/>
            <a:gdLst>
              <a:gd name="textAreaLeft" fmla="*/ 614880 w 4199040"/>
              <a:gd name="textAreaRight" fmla="*/ 3584160 w 4199040"/>
              <a:gd name="textAreaTop" fmla="*/ 614880 h 4199040"/>
              <a:gd name="textAreaBottom" fmla="*/ 3584160 h 4199040"/>
            </a:gdLst>
            <a:ahLst/>
            <a:rect l="textAreaLeft" t="textAreaTop" r="textAreaRight" b="textAreaBottom"/>
            <a:pathLst>
              <a:path w="21600" h="21600">
                <a:moveTo>
                  <a:pt x="3738" y="17417"/>
                </a:moveTo>
                <a:cubicBezTo>
                  <a:pt x="4875" y="18631"/>
                  <a:pt x="6306" y="19531"/>
                  <a:pt x="7893" y="20031"/>
                </a:cubicBezTo>
                <a:lnTo>
                  <a:pt x="7556" y="21101"/>
                </a:lnTo>
                <a:cubicBezTo>
                  <a:pt x="5785" y="20543"/>
                  <a:pt x="4188" y="19539"/>
                  <a:pt x="2919" y="18184"/>
                </a:cubicBezTo>
                <a:lnTo>
                  <a:pt x="949" y="20031"/>
                </a:lnTo>
                <a:lnTo>
                  <a:pt x="1098" y="15421"/>
                </a:lnTo>
                <a:lnTo>
                  <a:pt x="5708" y="15571"/>
                </a:lnTo>
                <a:lnTo>
                  <a:pt x="3738" y="17417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2239920" y="3033720"/>
            <a:ext cx="1119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2239920" y="3033720"/>
            <a:ext cx="1119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2471760" y="919080"/>
            <a:ext cx="4199040" cy="4199040"/>
          </a:xfrm>
          <a:custGeom>
            <a:avLst/>
            <a:gdLst>
              <a:gd name="textAreaLeft" fmla="*/ 614880 w 4199040"/>
              <a:gd name="textAreaRight" fmla="*/ 3584160 w 4199040"/>
              <a:gd name="textAreaTop" fmla="*/ 614880 h 4199040"/>
              <a:gd name="textAreaBottom" fmla="*/ 3584160 h 4199040"/>
            </a:gdLst>
            <a:ahLst/>
            <a:rect l="textAreaLeft" t="textAreaTop" r="textAreaRight" b="textAreaBottom"/>
            <a:pathLst>
              <a:path w="21600" h="21600">
                <a:moveTo>
                  <a:pt x="2027" y="6713"/>
                </a:moveTo>
                <a:cubicBezTo>
                  <a:pt x="1430" y="7993"/>
                  <a:pt x="1122" y="9387"/>
                  <a:pt x="1122" y="10800"/>
                </a:cubicBezTo>
                <a:cubicBezTo>
                  <a:pt x="1122" y="10827"/>
                  <a:pt x="1122" y="10855"/>
                  <a:pt x="1122" y="10883"/>
                </a:cubicBezTo>
                <a:lnTo>
                  <a:pt x="0" y="10893"/>
                </a:lnTo>
                <a:cubicBezTo>
                  <a:pt x="0" y="10862"/>
                  <a:pt x="0" y="10831"/>
                  <a:pt x="0" y="10800"/>
                </a:cubicBezTo>
                <a:cubicBezTo>
                  <a:pt x="0" y="9224"/>
                  <a:pt x="344" y="7667"/>
                  <a:pt x="1010" y="6239"/>
                </a:cubicBezTo>
                <a:lnTo>
                  <a:pt x="-1438" y="5099"/>
                </a:lnTo>
                <a:lnTo>
                  <a:pt x="2895" y="3520"/>
                </a:lnTo>
                <a:lnTo>
                  <a:pt x="4474" y="7853"/>
                </a:lnTo>
                <a:lnTo>
                  <a:pt x="2027" y="6713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2917800" y="950760"/>
            <a:ext cx="11178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2917800" y="950760"/>
            <a:ext cx="11178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rm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2471760" y="919080"/>
            <a:ext cx="4199040" cy="4199040"/>
          </a:xfrm>
          <a:custGeom>
            <a:avLst/>
            <a:gdLst>
              <a:gd name="textAreaLeft" fmla="*/ 614880 w 4199040"/>
              <a:gd name="textAreaRight" fmla="*/ 3584160 w 4199040"/>
              <a:gd name="textAreaTop" fmla="*/ 614880 h 4199040"/>
              <a:gd name="textAreaBottom" fmla="*/ 3584160 h 4199040"/>
            </a:gdLst>
            <a:ahLst/>
            <a:rect l="textAreaLeft" t="textAreaTop" r="textAreaRight" b="textAreaBottom"/>
            <a:pathLst>
              <a:path w="21600" h="21600">
                <a:moveTo>
                  <a:pt x="12664" y="1303"/>
                </a:moveTo>
                <a:cubicBezTo>
                  <a:pt x="12050" y="1182"/>
                  <a:pt x="11425" y="1122"/>
                  <a:pt x="10799" y="1122"/>
                </a:cubicBezTo>
                <a:cubicBezTo>
                  <a:pt x="9857" y="1122"/>
                  <a:pt x="8920" y="1259"/>
                  <a:pt x="8018" y="1530"/>
                </a:cubicBezTo>
                <a:lnTo>
                  <a:pt x="7695" y="455"/>
                </a:lnTo>
                <a:cubicBezTo>
                  <a:pt x="8702" y="153"/>
                  <a:pt x="9748" y="0"/>
                  <a:pt x="10799" y="0"/>
                </a:cubicBezTo>
                <a:cubicBezTo>
                  <a:pt x="11498" y="0"/>
                  <a:pt x="12195" y="67"/>
                  <a:pt x="12880" y="202"/>
                </a:cubicBezTo>
                <a:lnTo>
                  <a:pt x="13401" y="-2448"/>
                </a:lnTo>
                <a:lnTo>
                  <a:pt x="15972" y="1380"/>
                </a:lnTo>
                <a:lnTo>
                  <a:pt x="12144" y="3952"/>
                </a:lnTo>
                <a:lnTo>
                  <a:pt x="12664" y="1303"/>
                </a:lnTo>
                <a:close/>
              </a:path>
            </a:pathLst>
          </a:custGeom>
          <a:solidFill>
            <a:srgbClr val="b07210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g_blurred_backgrounds_10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4280" y="2141640"/>
            <a:ext cx="7650360" cy="12888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492120" y="0"/>
            <a:ext cx="7421400" cy="6012000"/>
            <a:chOff x="492120" y="0"/>
            <a:chExt cx="7421400" cy="6012000"/>
          </a:xfrm>
        </p:grpSpPr>
        <p:sp>
          <p:nvSpPr>
            <p:cNvPr id="200" name="矩形 4"/>
            <p:cNvSpPr/>
            <p:nvPr/>
          </p:nvSpPr>
          <p:spPr>
            <a:xfrm>
              <a:off x="103068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492120" y="1503000"/>
              <a:ext cx="7421400" cy="45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7"/>
            <p:cNvSpPr/>
            <p:nvPr/>
          </p:nvSpPr>
          <p:spPr>
            <a:xfrm rot="20926800">
              <a:off x="2163600" y="3123000"/>
              <a:ext cx="409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8-13T01:42:54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