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73FD5-E8C8-4AA0-967A-08D38854F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92C42-AC96-45AB-91EF-FE4028B67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5CFFA-2300-41FA-984C-BEAEA7C80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9D40F-F0AF-41B1-BA0F-90C409967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039F3-8D45-48B0-BF81-8A5F109D9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74E36-C9E1-492C-88D4-119931A2C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9DD30-977A-438E-9B08-BE5372C7A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58564-5FF7-47CE-B57E-DF55F831F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3A36D-0060-46F1-A46F-CF789285C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2CA7B-0D89-47FA-B2F9-12F95B5A6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DF80A-D0C0-4A49-9E11-3A9D1569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80424-770E-4129-9A57-9114C548E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9016A-3D49-4FE7-939B-76B9B37B1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CA997-8E42-4A7C-86ED-3912E3CA5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34CF2-BB56-421E-98AF-D38BE6662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DDED3-238E-4C41-973F-5D552C919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D7854-B5A1-4EDF-99FC-3F5FBD28B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938D48-B42E-4539-B37E-F5604AC64E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8349D-C725-4D1F-83B8-070B416C1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9A798-E339-499B-82D2-402CAB33D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E0E6AC-3A04-4215-B163-FC9E92B1C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A8D23-D53E-429F-AD8F-AB4D97A79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511C-A300-4EDD-9D3F-E39218E1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836AD-05C1-46C7-A623-CAB20DCB1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1F5F8-CBE3-4965-BC7A-6444DAE32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B284C-2442-4FAD-9302-BE3889CE9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CB34D-9FA0-4DA1-A4F7-CCA56E3FD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7BB67-64C6-4D13-89E7-9FC720A8B3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6C714-3B3A-4C8F-AF0C-CB3FA071B8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BE876-615E-4284-8228-4A6405125B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ACBB-0046-4D39-B68D-38DF559EF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D6318-1CCB-424A-8351-4756A7DD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6294-494E-46E5-AE9F-9DFC09C31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098B-F625-4477-BAAA-D57F57C00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2CCEA-FF4C-4E38-921D-B70A0CE4E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7482E-B142-47BA-BD64-A4255CFC8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8D0A-D257-4212-9CBC-8B9C364C7C3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45AE-2D8A-437D-8E54-657B87F1170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947F-D6DA-449D-A6B2-198CD2A2AF46}"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C30C-057C-4A4D-9F74-0FA780B5A2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743200" y="2742840"/>
            <a:ext cx="5029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ea typeface="方正行楷简体"/>
              </a:rPr>
              <a:t>共青团实用知识</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怎样才能确立科技意识 </a:t>
            </a:r>
            <a:endParaRPr b="0" lang="en-US" sz="4400" spc="-1" strike="noStrike">
              <a:solidFill>
                <a:srgbClr val="ffffff"/>
              </a:solidFill>
              <a:latin typeface="Arial"/>
            </a:endParaRPr>
          </a:p>
        </p:txBody>
      </p:sp>
      <p:sp>
        <p:nvSpPr>
          <p:cNvPr id="140" name="PlaceHolder 2"/>
          <p:cNvSpPr>
            <a:spLocks noGrp="1"/>
          </p:cNvSpPr>
          <p:nvPr>
            <p:ph/>
          </p:nvPr>
        </p:nvSpPr>
        <p:spPr>
          <a:xfrm>
            <a:off x="304920" y="1600200"/>
            <a:ext cx="8686800" cy="4952880"/>
          </a:xfrm>
          <a:prstGeom prst="rect">
            <a:avLst/>
          </a:prstGeom>
          <a:noFill/>
          <a:ln w="0">
            <a:noFill/>
          </a:ln>
        </p:spPr>
        <p:txBody>
          <a:bodyPr anchor="t">
            <a:normAutofit/>
          </a:bodyPr>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阅读教材、科学家的传记和一些科普书籍，从科学技术宝库中汲取营养；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收看广播电视节目中的科技专栏，增长科学知识，了解并把握一些科技发展的规律和作用；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参观科技馆和科技展览，关注科技发明的新创造，开拓科技视野；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积极参加科技兴趣小组活动，努力培养科学想象、科学创造、科技实践能力，信守科技活动的道德；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踊跃参与科技竞赛，积极动手参与科技制作和发明活动，亲自体验科学技术的进步作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42" name="PlaceHolder 2"/>
          <p:cNvSpPr>
            <a:spLocks noGrp="1"/>
          </p:cNvSpPr>
          <p:nvPr>
            <p:ph/>
          </p:nvPr>
        </p:nvSpPr>
        <p:spPr>
          <a:xfrm>
            <a:off x="456840" y="1371600"/>
            <a:ext cx="853452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4</a:t>
            </a:r>
            <a:r>
              <a:rPr b="1" lang="zh-CN" sz="3200" spc="-1" strike="noStrike">
                <a:solidFill>
                  <a:srgbClr val="ffff00"/>
                </a:solidFill>
                <a:latin typeface="Arial"/>
                <a:ea typeface="宋体"/>
              </a:rPr>
              <a:t>、  创新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创新是一个民族的灵魂，是国家兴旺发达的不竭动力。青少年学生是知识经济时代的创新主体，培养创新意识，提高民族创造能力，决定着民族的命运和国家在世界竞争中的地位，决定着一个人生命的价值。青少年是最少保守思想、勇于创新的，因而有无限的创造潜能和理想化人格。所以，树立创新意识，成为现代社会需要的创造型人才，是每一个有作为青年的成才目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中学生创新意识的形成体现 </a:t>
            </a:r>
            <a:endParaRPr b="0" lang="en-US" sz="4400" spc="-1" strike="noStrike">
              <a:solidFill>
                <a:srgbClr val="ffffff"/>
              </a:solidFill>
              <a:latin typeface="Arial"/>
            </a:endParaRPr>
          </a:p>
        </p:txBody>
      </p:sp>
      <p:sp>
        <p:nvSpPr>
          <p:cNvPr id="144" name="PlaceHolder 2"/>
          <p:cNvSpPr>
            <a:spLocks noGrp="1"/>
          </p:cNvSpPr>
          <p:nvPr>
            <p:ph/>
          </p:nvPr>
        </p:nvSpPr>
        <p:spPr>
          <a:xfrm>
            <a:off x="456840" y="990720"/>
            <a:ext cx="8534520" cy="3962160"/>
          </a:xfrm>
          <a:prstGeom prst="rect">
            <a:avLst/>
          </a:prstGeom>
          <a:noFill/>
          <a:ln w="0">
            <a:noFill/>
          </a:ln>
        </p:spPr>
        <p:txBody>
          <a:bodyPr anchor="t">
            <a:normAutofit/>
          </a:bodyPr>
          <a:p>
            <a:pPr marL="533520" indent="-533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保持旺盛的求知欲。不断探索未知领域，发现新知，适应飞速发展的科学技术的变化； </a:t>
            </a:r>
            <a:endParaRPr b="0" lang="en-US" sz="2800" spc="-1" strike="noStrike">
              <a:solidFill>
                <a:srgbClr val="ffffff"/>
              </a:solidFill>
              <a:latin typeface="Arial"/>
            </a:endParaRPr>
          </a:p>
          <a:p>
            <a:pPr marL="533520" indent="-533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发展想象力和好奇心。经常运用观察、猜测、判断、验证等方法思考问题，用自己的头脑来获得知识； </a:t>
            </a:r>
            <a:endParaRPr b="0" lang="en-US" sz="2800" spc="-1" strike="noStrike">
              <a:solidFill>
                <a:srgbClr val="ffffff"/>
              </a:solidFill>
              <a:latin typeface="Arial"/>
            </a:endParaRPr>
          </a:p>
          <a:p>
            <a:pPr marL="533520" indent="-533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在活动中大胆质疑，开展创造性思维，提出创造性解决问题的途径和方法，具有较高的创造欲望和创造能力。为了培养创新精神，一定要注意克服胆怯感、神秘感和任意盲从、顺从的惰性行为</a:t>
            </a:r>
            <a:r>
              <a:rPr b="1" lang="zh-CN" sz="2800" spc="-1" strike="noStrike">
                <a:solidFill>
                  <a:srgbClr val="ffff00"/>
                </a:solidFill>
                <a:latin typeface="Arial"/>
                <a:ea typeface="宋体"/>
              </a:rPr>
              <a:t>. </a:t>
            </a:r>
            <a:endParaRPr b="0" lang="en-US" sz="2800" spc="-1" strike="noStrike">
              <a:solidFill>
                <a:srgbClr val="ffffff"/>
              </a:solidFill>
              <a:latin typeface="Arial"/>
            </a:endParaRPr>
          </a:p>
        </p:txBody>
      </p:sp>
      <p:sp>
        <p:nvSpPr>
          <p:cNvPr id="145" name="Text Box 4"/>
          <p:cNvSpPr/>
          <p:nvPr/>
        </p:nvSpPr>
        <p:spPr>
          <a:xfrm>
            <a:off x="304920" y="46306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青年素有开风气之先的特点，具有开创社会新风的现实作用。在建功立业的伟大征程中，随着创造型人才的大量涌现和创新实践的深入，相信青年中蕴含的创造能力定会很好地迸发出来，变成推动社会前进的力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5"/>
                                        </p:tgtEl>
                                        <p:attrNameLst>
                                          <p:attrName>style.visibility</p:attrName>
                                        </p:attrNameLst>
                                      </p:cBhvr>
                                      <p:to>
                                        <p:strVal val="visible"/>
                                      </p:to>
                                    </p:set>
                                    <p:animEffect filter="blinds(horizontal)" transition="in">
                                      <p:cBhvr additive="repl">
                                        <p:cTn id="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47" name="PlaceHolder 2"/>
          <p:cNvSpPr>
            <a:spLocks noGrp="1"/>
          </p:cNvSpPr>
          <p:nvPr>
            <p:ph/>
          </p:nvPr>
        </p:nvSpPr>
        <p:spPr>
          <a:xfrm>
            <a:off x="456840" y="1371600"/>
            <a:ext cx="853452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5</a:t>
            </a:r>
            <a:r>
              <a:rPr b="1" lang="zh-CN" sz="2800" spc="-1" strike="noStrike">
                <a:solidFill>
                  <a:srgbClr val="ffff00"/>
                </a:solidFill>
                <a:latin typeface="Arial"/>
                <a:ea typeface="宋体"/>
              </a:rPr>
              <a:t>、 竞争与合作的意识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中学生成长的过程是充满竞争的。学习上的竞争或竞赛能增强人的智力效能，注意力集中，感知敏锐准确，记忆状态良好，思维敏捷灵活，学习成绩显著提高；集体之间的竞争可以增强每个人的荣誉感和责任心，人人为集体争光，提高了集体的凝聚力和为集体奋斗的精神；升学、就业也充满竞争，有时甚至是无情的。但升学也好，就业也好，应该说充满了机遇和挑战，这是好事。积极地面对竞争，努力拼搏进取，充分发挥出自己最大的潜能，会使我们在各个方面取得更大的进步，人生过得充实而有意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5960" y="304920"/>
            <a:ext cx="876276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中学生的学习，生活和工作离不开合作。因为个人的力量总是微小的、有限的，只有师生间、同学间的合作与交流，集思广益、取长补短，才能有效地攻克难题，控制环境，取得进步。其实人都有向群心理和从众倾向，总是希望得到理解、支持和帮助，集体生活每个人要学会合作，学会交往，学会宽容和谅解，在集体中相互关心，相互鼓励，提倡交流，那么你们就会相互促进，实现美好的宿愿。 </a:t>
            </a:r>
            <a:endParaRPr b="0" lang="en-US" sz="2800" spc="-1" strike="noStrike">
              <a:solidFill>
                <a:srgbClr val="ffffff"/>
              </a:solidFill>
              <a:latin typeface="Arial"/>
            </a:endParaRPr>
          </a:p>
        </p:txBody>
      </p:sp>
      <p:sp>
        <p:nvSpPr>
          <p:cNvPr id="149" name="Text Box 3"/>
          <p:cNvSpPr/>
          <p:nvPr/>
        </p:nvSpPr>
        <p:spPr>
          <a:xfrm>
            <a:off x="457200" y="3581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应该正确理解竞争与合作的关系。二者相辅相成，合作中有竞争，竞争中有合作。竞争促进了合作的加强，合作保证了竞争的胜利。在充满竞争与合作的时代，我们要积极投入到集体的合作之中，保持旺盛精力和学习的热情，最大限度地发挥自己的优势和特长，在学校社会中大显身手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9"/>
                                        </p:tgtEl>
                                        <p:attrNameLst>
                                          <p:attrName>style.visibility</p:attrName>
                                        </p:attrNameLst>
                                      </p:cBhvr>
                                      <p:to>
                                        <p:strVal val="visible"/>
                                      </p:to>
                                    </p:set>
                                    <p:animEffect filter="blinds(horizontal)" transition="in">
                                      <p:cBhvr additive="repl">
                                        <p:cTn id="1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5120" y="1417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坚定信念，构筑精神支柱 </a:t>
            </a:r>
            <a:endParaRPr b="0" lang="en-US" sz="4400" spc="-1" strike="noStrike">
              <a:solidFill>
                <a:srgbClr val="ffffff"/>
              </a:solidFill>
              <a:latin typeface="Arial"/>
            </a:endParaRPr>
          </a:p>
        </p:txBody>
      </p:sp>
      <p:sp>
        <p:nvSpPr>
          <p:cNvPr id="151" name="Rectangle 2"/>
          <p:cNvSpPr/>
          <p:nvPr/>
        </p:nvSpPr>
        <p:spPr>
          <a:xfrm>
            <a:off x="1905120" y="525780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提高素质，勇于肩负重任 </a:t>
            </a:r>
            <a:endParaRPr b="0" lang="en-US" sz="4400" spc="-1" strike="noStrike">
              <a:solidFill>
                <a:srgbClr val="ffffff"/>
              </a:solidFill>
              <a:latin typeface="Arial"/>
            </a:endParaRPr>
          </a:p>
        </p:txBody>
      </p:sp>
      <p:sp>
        <p:nvSpPr>
          <p:cNvPr id="152" name="Rectangle 2"/>
          <p:cNvSpPr/>
          <p:nvPr/>
        </p:nvSpPr>
        <p:spPr>
          <a:xfrm>
            <a:off x="1905120" y="236232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发奋学习，掌握过硬本领 </a:t>
            </a:r>
            <a:endParaRPr b="0" lang="en-US" sz="4400" spc="-1" strike="noStrike">
              <a:solidFill>
                <a:srgbClr val="ffffff"/>
              </a:solidFill>
              <a:latin typeface="Arial"/>
            </a:endParaRPr>
          </a:p>
        </p:txBody>
      </p:sp>
      <p:sp>
        <p:nvSpPr>
          <p:cNvPr id="153" name="Rectangle 2"/>
          <p:cNvSpPr/>
          <p:nvPr/>
        </p:nvSpPr>
        <p:spPr>
          <a:xfrm>
            <a:off x="1905120" y="426708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自立自强，不断创新成果 </a:t>
            </a:r>
            <a:endParaRPr b="0" lang="en-US" sz="4400" spc="-1" strike="noStrike">
              <a:solidFill>
                <a:srgbClr val="ffffff"/>
              </a:solidFill>
              <a:latin typeface="Arial"/>
            </a:endParaRPr>
          </a:p>
        </p:txBody>
      </p:sp>
      <p:sp>
        <p:nvSpPr>
          <p:cNvPr id="154" name="Rectangle 2"/>
          <p:cNvSpPr/>
          <p:nvPr/>
        </p:nvSpPr>
        <p:spPr>
          <a:xfrm>
            <a:off x="1905120" y="327672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艰苦奋斗，自觉服务社会 </a:t>
            </a:r>
            <a:endParaRPr b="0" lang="en-US" sz="4400" spc="-1" strike="noStrike">
              <a:solidFill>
                <a:srgbClr val="ffffff"/>
              </a:solidFill>
              <a:latin typeface="Arial"/>
            </a:endParaRPr>
          </a:p>
        </p:txBody>
      </p:sp>
      <p:sp>
        <p:nvSpPr>
          <p:cNvPr id="155" name="Text Box 7"/>
          <p:cNvSpPr/>
          <p:nvPr/>
        </p:nvSpPr>
        <p:spPr>
          <a:xfrm>
            <a:off x="457200" y="3808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五大使命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599840" y="1600200"/>
            <a:ext cx="80010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解放思想、实事求是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与时俱进、勇于创新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知难而进、一往无前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艰苦奋斗、务求实效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淡泊名利、无私奉献的精神。 </a:t>
            </a:r>
            <a:endParaRPr b="0" lang="en-US" sz="4400" spc="-1" strike="noStrike">
              <a:solidFill>
                <a:srgbClr val="ffffff"/>
              </a:solidFill>
              <a:latin typeface="Arial"/>
            </a:endParaRPr>
          </a:p>
        </p:txBody>
      </p:sp>
      <p:sp>
        <p:nvSpPr>
          <p:cNvPr id="157" name="Text Box 3"/>
          <p:cNvSpPr/>
          <p:nvPr/>
        </p:nvSpPr>
        <p:spPr>
          <a:xfrm>
            <a:off x="457200" y="3808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五大精神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914400" y="380880"/>
            <a:ext cx="7772400" cy="6248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       </a:t>
            </a:r>
            <a:r>
              <a:rPr b="1" lang="zh-CN" sz="3600" spc="-1" strike="noStrike">
                <a:solidFill>
                  <a:srgbClr val="ffff00"/>
                </a:solidFill>
                <a:latin typeface="Arial"/>
                <a:ea typeface="宋体"/>
              </a:rPr>
              <a:t>青年是国家的未来和民族的希望。一个有远见的民族，总是把关注的目光投向青年；一个有远见的政党，总是把青年看作是推动历史发展和社会前进的力量；一个有志青年，总是把国家的富强作为己任，积极承担创造未来的历史使命。我们的民族就是这样的民族，我们的党就是这样的党，人们的共青团组织就是这样源源不断地为社会培养出德才兼备的社会主义建设者和接班人。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533160"/>
            <a:ext cx="876276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       </a:t>
            </a:r>
            <a:r>
              <a:rPr b="1" lang="zh-CN" sz="4000" spc="-1" strike="noStrike">
                <a:solidFill>
                  <a:srgbClr val="ffff00"/>
                </a:solidFill>
                <a:latin typeface="Arial"/>
                <a:ea typeface="宋体"/>
              </a:rPr>
              <a:t>同学们，实现中华民族的伟大复兴，需要你们去奋斗。希望你们珍惜大好年华，牢记党和人民的厚望，矢志奋斗，不懈进取，在建设有中国特色社会主义事业的伟大征程中谱写出更加壮美的青春之歌！为了祖国更加美好 的明天，努力奋斗吧！ </a:t>
            </a:r>
            <a:br>
              <a:rPr sz="4000"/>
            </a:br>
            <a:r>
              <a:rPr b="1" lang="zh-CN" sz="4000" spc="-1" strike="noStrike">
                <a:solidFill>
                  <a:srgbClr val="ffff00"/>
                </a:solidFill>
                <a:latin typeface="Arial"/>
                <a:ea typeface="宋体"/>
              </a:rPr>
              <a:t>       党和国家对你们寄予厚望，相信你们会在新的世纪中勇往直前，大有作为。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作业：</a:t>
            </a:r>
            <a:endParaRPr b="0" lang="en-US" sz="4400" spc="-1" strike="noStrike">
              <a:solidFill>
                <a:srgbClr val="ffffff"/>
              </a:solidFill>
              <a:latin typeface="Arial"/>
            </a:endParaRPr>
          </a:p>
        </p:txBody>
      </p:sp>
      <p:sp>
        <p:nvSpPr>
          <p:cNvPr id="161" name="PlaceHolder 2"/>
          <p:cNvSpPr>
            <a:spLocks noGrp="1"/>
          </p:cNvSpPr>
          <p:nvPr>
            <p:ph/>
          </p:nvPr>
        </p:nvSpPr>
        <p:spPr>
          <a:xfrm>
            <a:off x="457200" y="1599840"/>
            <a:ext cx="784872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          </a:t>
            </a:r>
            <a:r>
              <a:rPr b="1" lang="zh-CN" sz="4000" spc="-1" strike="noStrike">
                <a:solidFill>
                  <a:srgbClr val="ffff00"/>
                </a:solidFill>
                <a:latin typeface="Arial"/>
                <a:ea typeface="宋体"/>
              </a:rPr>
              <a:t>共青团员要树立五大意识，担负五大使命，要弘扬五种精神，你打算怎样将它们化做坚实的行动？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 </a:t>
            </a:r>
            <a:r>
              <a:rPr b="1" lang="zh-CN" sz="4400" spc="-1" strike="noStrike">
                <a:solidFill>
                  <a:srgbClr val="ffff00"/>
                </a:solidFill>
                <a:latin typeface="Arial"/>
                <a:ea typeface="宋体"/>
              </a:rPr>
              <a:t>（一）入团的基本条件：</a:t>
            </a:r>
            <a:endParaRPr b="0" lang="en-US" sz="4400" spc="-1" strike="noStrike">
              <a:solidFill>
                <a:srgbClr val="ffffff"/>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年龄在</a:t>
            </a:r>
            <a:r>
              <a:rPr b="1" lang="zh-CN" sz="3200" spc="-1" strike="noStrike">
                <a:solidFill>
                  <a:srgbClr val="ffff00"/>
                </a:solidFill>
                <a:latin typeface="Arial"/>
                <a:ea typeface="宋体"/>
              </a:rPr>
              <a:t>14</a:t>
            </a:r>
            <a:r>
              <a:rPr b="1" lang="zh-CN" sz="3200" spc="-1" strike="noStrike">
                <a:solidFill>
                  <a:srgbClr val="ffff00"/>
                </a:solidFill>
                <a:latin typeface="Arial"/>
                <a:ea typeface="宋体"/>
              </a:rPr>
              <a:t>周岁以上，</a:t>
            </a:r>
            <a:r>
              <a:rPr b="1" lang="zh-CN" sz="3200" spc="-1" strike="noStrike">
                <a:solidFill>
                  <a:srgbClr val="ffff00"/>
                </a:solidFill>
                <a:latin typeface="Arial"/>
                <a:ea typeface="宋体"/>
              </a:rPr>
              <a:t>28</a:t>
            </a:r>
            <a:r>
              <a:rPr b="1" lang="zh-CN" sz="3200" spc="-1" strike="noStrike">
                <a:solidFill>
                  <a:srgbClr val="ffff00"/>
                </a:solidFill>
                <a:latin typeface="Arial"/>
                <a:ea typeface="宋体"/>
              </a:rPr>
              <a:t>周岁以下的中国青年，承认团的章程，愿意参加团的一个组织并在其中积极工作，执行团的决议和按期交纳团费的，可以申请加入中国共产主义青年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533520" y="2971800"/>
            <a:ext cx="86104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祝愿同学们早日成为一名合格的</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共青团员！</a:t>
            </a:r>
            <a:endParaRPr b="0" lang="en-US" sz="4400" spc="-1" strike="noStrike">
              <a:solidFill>
                <a:srgbClr val="ffffff"/>
              </a:solidFill>
              <a:latin typeface="Arial"/>
            </a:endParaRPr>
          </a:p>
        </p:txBody>
      </p:sp>
      <p:sp>
        <p:nvSpPr>
          <p:cNvPr id="163" name="Rectangle 3"/>
          <p:cNvSpPr/>
          <p:nvPr/>
        </p:nvSpPr>
        <p:spPr>
          <a:xfrm>
            <a:off x="3996720" y="1725480"/>
            <a:ext cx="11865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谢谢！</a:t>
            </a:r>
            <a:endParaRPr b="0" lang="en-US" sz="4400" spc="-1" strike="noStrike">
              <a:solidFill>
                <a:srgbClr val="ffffff"/>
              </a:solidFill>
              <a:latin typeface="Arial"/>
            </a:endParaRPr>
          </a:p>
        </p:txBody>
      </p:sp>
      <p:sp>
        <p:nvSpPr>
          <p:cNvPr id="164" name="Text Box 4"/>
          <p:cNvSpPr/>
          <p:nvPr/>
        </p:nvSpPr>
        <p:spPr>
          <a:xfrm>
            <a:off x="4419720" y="5029200"/>
            <a:ext cx="3962160" cy="1015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楷体_GB2312"/>
              </a:rPr>
              <a:t>xxx</a:t>
            </a:r>
            <a:r>
              <a:rPr b="1" lang="zh-CN" sz="2400" spc="-1" strike="noStrike">
                <a:solidFill>
                  <a:srgbClr val="ffff00"/>
                </a:solidFill>
                <a:latin typeface="Arial"/>
                <a:ea typeface="楷体_GB2312"/>
              </a:rPr>
              <a:t>中学团委</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楷体_GB2312"/>
              </a:rPr>
              <a:t>2009</a:t>
            </a:r>
            <a:r>
              <a:rPr b="1" lang="zh-CN" sz="2400" spc="-1" strike="noStrike">
                <a:solidFill>
                  <a:srgbClr val="ffff00"/>
                </a:solidFill>
                <a:latin typeface="Arial"/>
                <a:ea typeface="楷体_GB2312"/>
              </a:rPr>
              <a:t>年</a:t>
            </a:r>
            <a:r>
              <a:rPr b="1" lang="en-US" sz="2400" spc="-1" strike="noStrike">
                <a:solidFill>
                  <a:srgbClr val="ffff00"/>
                </a:solidFill>
                <a:latin typeface="Arial"/>
                <a:ea typeface="楷体_GB2312"/>
              </a:rPr>
              <a:t>12</a:t>
            </a:r>
            <a:r>
              <a:rPr b="1" lang="zh-CN" sz="2400" spc="-1" strike="noStrike">
                <a:solidFill>
                  <a:srgbClr val="ffff00"/>
                </a:solidFill>
                <a:latin typeface="Arial"/>
                <a:ea typeface="楷体_GB2312"/>
              </a:rPr>
              <a:t>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5" name="Group 2"/>
          <p:cNvGrpSpPr/>
          <p:nvPr/>
        </p:nvGrpSpPr>
        <p:grpSpPr>
          <a:xfrm>
            <a:off x="0" y="0"/>
            <a:ext cx="8466120" cy="6858000"/>
            <a:chOff x="0" y="0"/>
            <a:chExt cx="8466120" cy="6858000"/>
          </a:xfrm>
        </p:grpSpPr>
        <p:sp>
          <p:nvSpPr>
            <p:cNvPr id="16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Arial"/>
              </a:endParaRPr>
            </a:p>
          </p:txBody>
        </p:sp>
        <p:pic>
          <p:nvPicPr>
            <p:cNvPr id="16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6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 </a:t>
            </a:r>
            <a:r>
              <a:rPr b="1" lang="zh-CN" sz="4400" spc="-1" strike="noStrike">
                <a:solidFill>
                  <a:srgbClr val="ffff00"/>
                </a:solidFill>
                <a:latin typeface="Arial"/>
                <a:ea typeface="宋体"/>
              </a:rPr>
              <a:t>（二）入团必须履行以下手续：</a:t>
            </a:r>
            <a:endParaRPr b="0" lang="en-US" sz="4400" spc="-1" strike="noStrike">
              <a:solidFill>
                <a:srgbClr val="ffffff"/>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入团的青年要向团支部提出申请，填写入团志愿书，有两名团员做介绍人。</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介绍人应负责地向被介绍人说明团章，向团组织说明被介绍人的思想、表现和经历。</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经支部委员会审查合格，提交支部大会讨论通过。 </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报上级委员会批准。 </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新团员必须在团旗下进行入团宣誓。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新的世纪 新的使命 </a:t>
            </a:r>
            <a:endParaRPr b="0" lang="en-US" sz="4400" spc="-1" strike="noStrike">
              <a:solidFill>
                <a:srgbClr val="ffffff"/>
              </a:solidFill>
              <a:latin typeface="Arial"/>
            </a:endParaRPr>
          </a:p>
        </p:txBody>
      </p:sp>
      <p:sp>
        <p:nvSpPr>
          <p:cNvPr id="129" name="PlaceHolder 2"/>
          <p:cNvSpPr>
            <a:spLocks noGrp="1"/>
          </p:cNvSpPr>
          <p:nvPr>
            <p:ph/>
          </p:nvPr>
        </p:nvSpPr>
        <p:spPr>
          <a:xfrm>
            <a:off x="152280" y="1143000"/>
            <a:ext cx="8763120" cy="50292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21 </a:t>
            </a:r>
            <a:r>
              <a:rPr b="1" lang="zh-CN" sz="3200" spc="-1" strike="noStrike">
                <a:solidFill>
                  <a:srgbClr val="ffff00"/>
                </a:solidFill>
                <a:latin typeface="Arial"/>
                <a:ea typeface="宋体"/>
              </a:rPr>
              <a:t>世纪是人类社会迈向更加先进和文明的时代，它给每一个国家带来希望和机遇的同时，也带来了挑战和竞争。 </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机遇与挑战同在，希望与困难并存。但总的说来，仍然是机遇大于挑战，希望多于困难。我们既要对面临任务的复杂性和艰巨性有足够的估计，更要对我国未来的发展充满信心。 </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作为一名 </a:t>
            </a:r>
            <a:r>
              <a:rPr b="1" lang="zh-CN" sz="3200" spc="-1" strike="noStrike">
                <a:solidFill>
                  <a:srgbClr val="ffff00"/>
                </a:solidFill>
                <a:latin typeface="Arial"/>
                <a:ea typeface="宋体"/>
              </a:rPr>
              <a:t>21 </a:t>
            </a:r>
            <a:r>
              <a:rPr b="1" lang="zh-CN" sz="3200" spc="-1" strike="noStrike">
                <a:solidFill>
                  <a:srgbClr val="ffff00"/>
                </a:solidFill>
                <a:latin typeface="Arial"/>
                <a:ea typeface="宋体"/>
              </a:rPr>
              <a:t>世纪的共青团员，为适应现代化社会的需要和新时代的要求，要努力树立“五大意识”，担负“五大使命”，弘扬“五种精神” </a:t>
            </a:r>
            <a:r>
              <a:rPr b="1" lang="zh-CN" sz="3200" spc="-1" strike="noStrike">
                <a:solidFill>
                  <a:srgbClr val="ffff00"/>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1</a:t>
            </a:r>
            <a:r>
              <a:rPr b="1" lang="zh-CN" sz="3200" spc="-1" strike="noStrike">
                <a:solidFill>
                  <a:srgbClr val="ffff00"/>
                </a:solidFill>
                <a:latin typeface="Arial"/>
                <a:ea typeface="宋体"/>
              </a:rPr>
              <a:t>、 政治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讲政治包括政治方向，政治立场，政治观点，政治纪律，政治鉴别力和政治敏锐性。坚持讲政治，是马克思主义的基本原理，是我们党的政治优势，是党的基本理论、基本路线和建设有中国特色社会主义伟大事业的必然要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71280"/>
            <a:ext cx="804528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中学生应具备的政治意识是 </a:t>
            </a:r>
            <a:endParaRPr b="0" lang="en-US" sz="3600" spc="-1" strike="noStrike">
              <a:solidFill>
                <a:srgbClr val="ffffff"/>
              </a:solidFill>
              <a:latin typeface="Arial"/>
            </a:endParaRPr>
          </a:p>
        </p:txBody>
      </p:sp>
      <p:sp>
        <p:nvSpPr>
          <p:cNvPr id="133" name="PlaceHolder 2"/>
          <p:cNvSpPr>
            <a:spLocks noGrp="1"/>
          </p:cNvSpPr>
          <p:nvPr>
            <p:ph type="subTitle"/>
          </p:nvPr>
        </p:nvSpPr>
        <p:spPr>
          <a:xfrm>
            <a:off x="-360" y="914400"/>
            <a:ext cx="8991720" cy="5486400"/>
          </a:xfrm>
          <a:prstGeom prst="rect">
            <a:avLst/>
          </a:prstGeom>
          <a:noFill/>
          <a:ln w="0">
            <a:noFill/>
          </a:ln>
        </p:spPr>
        <p:txBody>
          <a:bodyPr anchor="t">
            <a:noAutofit/>
          </a:bodyPr>
          <a:p>
            <a:pPr marL="457200" indent="-45720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宋体"/>
              </a:rPr>
              <a:t>学习政治的意识 。具体表现在：努力学习马列主义、毛泽东思想和邓小平理论，深入领会邓小平理论和江泽民“三个代表”重要思想的科学体系和精神实质，把学习政治理论同改革开放和现代化建设的新实践、新发展结合起来，把学习政治理论同改造主观世界结合起来，学以致用。 </a:t>
            </a:r>
            <a:endParaRPr b="0" lang="en-US" sz="2600" spc="-1" strike="noStrike">
              <a:solidFill>
                <a:srgbClr val="ffffff"/>
              </a:solidFill>
              <a:latin typeface="Arial"/>
            </a:endParaRPr>
          </a:p>
          <a:p>
            <a:pPr marL="457200" indent="-45720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宋体"/>
              </a:rPr>
              <a:t>关心政治的意识 。具体表现在：关心国家大事和祖国的命运前途，能够把个人的学习、生活同国家的建设与发展紧紧联系起来；关心武汉和国家的变化，立足武汉，放眼世界；具有关心社会、服务社会的意识和忠于祖国、热爱人民的思想感情。 </a:t>
            </a:r>
            <a:endParaRPr b="0" lang="en-US" sz="2600" spc="-1" strike="noStrike">
              <a:solidFill>
                <a:srgbClr val="ffffff"/>
              </a:solidFill>
              <a:latin typeface="Arial"/>
            </a:endParaRPr>
          </a:p>
          <a:p>
            <a:pPr marL="457200" indent="-45720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宋体"/>
              </a:rPr>
              <a:t>自觉贯彻党的路线、方针、政策的意识 。具体表现在：与党同心同德，坚持党的基本路线，自觉服从服务于改革、发展、稳定的大局，使自己的一言一行有利于改革、开放的发展和现代化建设的进行，具有正确的政治方向。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6320" y="228600"/>
            <a:ext cx="8686800" cy="647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中学生应加强自己的政治观念，而不能采取回避的态度。因为政治不是空的伟大的事业必须有科学理论和正确路线的指引，它是团结教育广大青年的精神支柱，也是提高我们辨别大是大非、抵御腐朽思想侵蚀能力的重要基础。 </a:t>
            </a:r>
            <a:r>
              <a:rPr b="1" lang="zh-CN" sz="3200" spc="-1" strike="noStrike">
                <a:solidFill>
                  <a:srgbClr val="ffff00"/>
                </a:solidFill>
                <a:latin typeface="Arial"/>
                <a:ea typeface="宋体"/>
              </a:rPr>
              <a:t>21 </a:t>
            </a:r>
            <a:r>
              <a:rPr b="1" lang="zh-CN" sz="3200" spc="-1" strike="noStrike">
                <a:solidFill>
                  <a:srgbClr val="ffff00"/>
                </a:solidFill>
                <a:latin typeface="Arial"/>
                <a:ea typeface="宋体"/>
              </a:rPr>
              <a:t>世纪，党和国家对年轻一代的政治素质提出了更高的要求。每个共青团员应坚定爱祖国、爱人民、爱科学、爱劳动、爱社会主义的思想，自觉维护社会稳定、民族团结和祖国统一，以贡献全部力量建设和保卫祖国为最大光荣，以损害国家利益、国家尊严为最大耻辱，具有民族自尊心、自信心和自豪感，为民族的振兴立志成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36" name="PlaceHolder 2"/>
          <p:cNvSpPr>
            <a:spLocks noGrp="1"/>
          </p:cNvSpPr>
          <p:nvPr>
            <p:ph/>
          </p:nvPr>
        </p:nvSpPr>
        <p:spPr>
          <a:xfrm>
            <a:off x="456840" y="1371600"/>
            <a:ext cx="8534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2</a:t>
            </a:r>
            <a:r>
              <a:rPr b="1" lang="zh-CN" sz="3200" spc="-1" strike="noStrike">
                <a:solidFill>
                  <a:srgbClr val="ffff00"/>
                </a:solidFill>
                <a:latin typeface="Arial"/>
                <a:ea typeface="宋体"/>
              </a:rPr>
              <a:t>、  民主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中学生应从小培养做主人的思想，不断增强主体意识，发展自主能力。在集体生活中行使自己的参与权、选举权和监督权；积极参与集体活动，跟踪表自己的意见或批评建议，认真地担负责任和履行义务，始终坚持在直理面前、在法律面前人人平等的原则，从党和人民的利益出发，坚持正确的思想和行为，反对和纠正错误的思想和行为。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38" name="PlaceHolder 2"/>
          <p:cNvSpPr>
            <a:spLocks noGrp="1"/>
          </p:cNvSpPr>
          <p:nvPr>
            <p:ph/>
          </p:nvPr>
        </p:nvSpPr>
        <p:spPr>
          <a:xfrm>
            <a:off x="456840" y="1371600"/>
            <a:ext cx="853452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3</a:t>
            </a:r>
            <a:r>
              <a:rPr b="1" lang="zh-CN" sz="3200" spc="-1" strike="noStrike">
                <a:solidFill>
                  <a:srgbClr val="ffff00"/>
                </a:solidFill>
                <a:latin typeface="Arial"/>
                <a:ea typeface="宋体"/>
              </a:rPr>
              <a:t>、  科技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中学生必须树立科技意识。提高科技素质的主要原因是：科技革命使知识和智力成为最重要的资源，是社会经济和生产力发展的基本杠杆，也是人类文明发展的必然结果。世界各国综合国力竞争的实质是科技的竞争和人才的较量。只有使未来社会的建设者和接班人掌握现代科学技术，才能使劳动者素质有一个可靠的基础，青年才能 真正发挥主力军和生力军的作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05:40:35Z</dcterms:created>
  <dc:creator>Geetesh Bajaj</dc:creator>
  <dc:description/>
  <cp:keywords/>
  <dc:language>en-US</dc:language>
  <cp:lastModifiedBy>a</cp:lastModifiedBy>
  <dcterms:modified xsi:type="dcterms:W3CDTF">2014-08-04T02:44:38Z</dcterms:modified>
  <cp:revision>58</cp:revision>
  <dc:subject/>
  <dc:title>Welco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