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909-A456-471A-94A6-1C72517A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D33-1E8C-4BAE-9485-5FD6360B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B36D2-9D81-42BE-893D-71104DFB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917F6-966D-42D6-9631-2F487D39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96B80-D21F-4870-83AD-7CC462D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119A6-5140-47E7-ABAF-290EB97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0F8C2-E50B-4B22-B451-EDCC6491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EBC98-12BE-43EB-981B-7E007EB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A581A-5212-45D5-B9D5-2194A71B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1A0B9-C2A8-41E1-A985-238BA50B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3EA21-9C6E-4390-A0AC-44BB3104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9AD5C-3F1F-4B30-AEDF-AAE16A60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89A-7D80-4158-B708-E6628B87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F7481-3B0B-4D0F-A7BB-4DF07FCE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0CD24-F14A-4515-9796-40437C75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09D35-D4A3-4CD2-8CC3-B33F727A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77677-DA31-419F-BE97-3A203E7E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9EE18-754D-45B9-8BD7-B37A7DD0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C2A98-E36B-4CDC-A7B6-F4024C8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1FC3D-4D5B-4E8C-968F-C7FB8E44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0AE4E-B5BB-498F-85DA-D081A10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8F403-1204-492E-8EAC-351DB416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7DCFC-CC08-4F4D-8ACB-0C1E0F8B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9F4-7139-4815-849D-2D1E1EA2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28314-4300-47EA-824A-8B06B113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62510-8F19-4B34-AF68-FCD0F62C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E4CE-3B05-4183-A13D-521E7F22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98838-ACC5-4836-8D23-5A963B0D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A8653-50AB-4AB6-A655-B1B7CA1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185CF-7BBF-4E19-BB70-F787999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427F0-90F1-49AF-9F8C-09508ECE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E24AD-1040-4AFA-B94C-D4DC677C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947AD-66BA-4FD0-83E2-5F5F48A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5C3C9-659B-413C-B92F-2D352289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6507-DA84-44D0-BC8F-811DA232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139A7-0C4B-4983-B414-4474FC94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9C70B-1EF7-4071-8BA8-19FEFCDE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48E24-7BDC-4D5C-92E3-FDD46E3D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E1A51-EDDF-4A0E-8EF8-D85EA2BB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C96D7-D471-43FA-85B7-C26FA747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AF3B1-AEDD-43B3-BB71-49FE04D0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D6074-D9F0-4A48-9AE3-513F6824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6C869-4378-412E-903A-3FCCE19E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65447-9612-462D-9FD8-F5097DC1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2EEDE-04BC-44DE-9A48-4FD94A43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6886-BCEC-484E-B47D-C4CE5F7D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CC22B-5DD0-443F-80E9-76C706BE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269F2-9115-41CA-A86E-F61E78F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4BD5A-2051-4664-9E6C-38F04D16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34FCE-A6C8-4DB7-B83F-EC30CC02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63D4E-75D4-4B40-B2D2-E654C762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EE19F-87B3-4C7B-A05C-ACE14653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9BA0D-BC57-408F-A9C9-9DB8692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BBBAC-7826-457A-AA29-7C0AB93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105CA-BD06-45C8-8918-1F6A0556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0D214-EE67-43F9-80AF-C2FCF07C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8491-535C-46BF-9EE5-B1F6873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6AB2D-D90B-463F-910F-0C94BB28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30485-7FB3-46FA-8908-8D74DFE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4410F-C819-4BE3-A586-4A9C847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8677C-C46E-4C54-9F09-DC936F4E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91FDE-F365-405C-B33F-182921E4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15D01-A679-4444-B950-4157D099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B2A44-581B-42DD-A957-C930F35C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C135-4DCF-4DB7-BC0A-334E4431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9988-7C25-4C1C-B458-335E4879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EE41-870F-4781-BD14-1409D841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17C2-7096-4FB7-B9B6-9F292D16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2B4-5F7D-472B-8C5E-0B62DA15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EE93-BAE2-4E07-BDF2-29E61D3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E78-E72D-40F1-AA60-53BE1538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4E66-4A49-4F1E-AC8B-6B96C103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FA8C-EC0E-4755-8E9F-102F184F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900C-BF2E-4D8E-A805-E9475CE3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9C94-18E4-4306-A451-36F2DAE3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5D69-E23C-47D9-8D76-14633150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E257-F54C-48F5-B8D0-CF1975CC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2FA3-9DE5-4F5C-B5EB-55A6CD6E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CF39-0639-4E28-9248-C7237E03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106-D771-43A2-A5F8-A33C6A4D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7E64-1C68-462A-8B5C-5C6455BE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43B6-2576-42FD-8B95-A1BB2AD3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B832-0368-425C-919E-3DFD404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E940-9D9B-4660-8CDC-C26BE4A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0869-7079-4380-A17C-FC2CE171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B029-63F2-45A7-820E-88505A27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7703-C713-4E3D-A132-1E1A2FC8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D5FE-DA4D-448B-92AA-8959FD81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A13B-393E-4BDC-8B87-7A272B85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5F2F-BA44-492F-AD50-C39A4A91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4A8-FA2B-49AD-8391-CB4E70A6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EF0C6-3EB9-467C-9808-F69A0674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9136F-2886-4852-BBC6-F1C3EE95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E8F46-4389-46D5-9D8B-215F4B7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03076-0ED8-4A74-87B8-2659F2F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06D8-B0F2-4505-BE17-BFAA9CC9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2F00-5AAC-438E-9B37-1E8A240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C93B-EE4B-4D01-BBB9-2D3E8874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0C80-C4D3-43E1-9F1C-B5020458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56B36-51F6-4F2A-B2A2-780C4FE9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D39E-80AC-418B-84E5-87699D15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2D1-47EB-4762-A1AD-799BF1E8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9ADD-F232-43CB-B106-70184676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1BDE8-AFA2-4AF1-81E9-2581B24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0355-9ACC-46C6-AD09-AD90C1C2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AE51-3535-43A3-A28F-7A164CF1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A7590-0596-45EF-81F2-B2788FBF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82D1C-677A-43FE-9498-9B65AA4D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590A-B615-4E87-A71E-4975D37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2C8A7-2687-4ADA-8BEA-1DA2E40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ACE37-E6A6-4A97-9EE3-4B59BC82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71B0-BC13-4655-A436-547CAF9F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C07-0501-4E3D-A899-18BCD044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916C2-0471-40A0-B25B-F3121EF6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598F3-D791-46B6-BC87-C9827D64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EB84-D8F7-432F-AC1E-74AAE8C9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991CE-BD11-4D20-8D4C-DF2CF636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D6EF7-741A-4924-8D1E-8C8C8079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07FAD-B029-490D-BC17-373C9F8E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9F884-EC70-4F9F-9F6E-19B21EB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AEC2-D11F-40B5-A35A-023E6352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FB9D-F5B5-4959-8CA6-83A9F66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15E5-73B0-4561-9A69-BEDD19A8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680-5BAF-4DDB-A45C-068D58F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E9EA6-A94B-408C-A823-97524EAD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9315F-EF93-4095-B1A1-F913BD12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9B33-4E09-4C54-A48A-3299A34B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05533-77E1-4948-9799-69EAFE0E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23C17-2195-47BB-A2F9-C5A052C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DFE8-5C4B-4DE9-BCBE-7230259D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12E9E-033E-4D09-A33E-F0795103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0614-803B-42AD-AFA8-127B987B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D1986-CB9F-45F5-8B17-22F38E6D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C484-C60A-4437-A327-E8FE6392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233-8A96-4B16-BBBE-3CB309F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E074-7278-4D95-875A-5863CC5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4ED37-3C74-4782-98AB-47AF379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6297A-A1CD-48C1-8C32-C9A0F23B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9E8FC-801D-480A-86A8-ED0C7B18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80C4-EB34-49FF-8591-5D5C0B07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4CF0-D8F5-4D3D-A190-B395501D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73F61-10CA-48A0-9FE2-999C9F6E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1619-E957-4407-80B1-C936923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7734-73E5-4C65-869D-365D7585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148FD-7C6F-4849-8AF6-B1B1057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90D-62D3-4154-8E6A-AB2A08C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CA150-3C21-4760-AFA6-6943F0E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98C36-1E51-4A0A-8AB2-5C9E9F9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59F2-C9BB-4234-9A3C-A1C6CAB1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2448E-461D-40AB-8709-BED9154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D16AC-3BA3-410E-921D-A307EA4F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BC6B-8862-4C0E-A71C-F4C8693B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94A11-963F-4B62-8D0E-BDEF55A5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3B403-1508-4371-AF58-0A24070C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F517F-DF0B-4257-8434-CE016785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70C0F-B0FA-446F-B677-30C44810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9198-64D8-425E-9B36-EE73783628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9244-ADEE-46CF-9884-79BC6417E5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7859-ADEE-47DC-8B69-832C60D79B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1375-4C10-40E5-9DFE-E7D6049522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2D1-8A2F-41C7-A638-B89015F7A3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6A99-2528-4C31-9364-BE14F4756D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DE4-301B-4641-A2EE-76498F9360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1025-EDBF-40A0-8DD7-D95AC0A5978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ED5-3749-48BC-BF26-000EA4EDC9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819C-C5AB-4795-8A14-95C1D05C17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8C9A-017B-4A60-B2DF-7981A1B53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FAF0-527B-4A8D-B44F-7CA02E5617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799-7B41-4EA3-80B8-A677884D29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E17-8D8E-4378-804B-DF5479E449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74C-7839-4446-AEC3-5D764D8D63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A1F1-35B4-4012-AC6C-5241D29814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36BC-93DA-4C6B-8DFE-AF03F66726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DBC6-D2D0-4289-81BC-B5C16F19F0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8F1F-3975-440C-9278-3DF05728CD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E2F0-8B72-46B3-AB97-E03FBF8505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3888-587A-4BB4-8DEF-4E5A1F1EB6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614-652D-49CD-A1A6-CD6DC95E8A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20CF-D68D-4590-AD95-C032B938F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B9F-D1AA-4B0D-9290-93E15A139D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EE03-5147-4E02-A89C-FE8EC21C3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tuanqi"/>
          <p:cNvPicPr/>
          <p:nvPr/>
        </p:nvPicPr>
        <p:blipFill>
          <a:blip r:embed="rId1"/>
          <a:stretch/>
        </p:blipFill>
        <p:spPr>
          <a:xfrm>
            <a:off x="914400" y="1752480"/>
            <a:ext cx="4876920" cy="4876920"/>
          </a:xfrm>
          <a:prstGeom prst="rect">
            <a:avLst/>
          </a:prstGeom>
          <a:ln w="0">
            <a:noFill/>
          </a:ln>
        </p:spPr>
      </p:pic>
      <p:grpSp>
        <p:nvGrpSpPr>
          <p:cNvPr id="534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35" name="Picture 4" descr="banner_0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Text Box 8"/>
          <p:cNvSpPr/>
          <p:nvPr/>
        </p:nvSpPr>
        <p:spPr>
          <a:xfrm>
            <a:off x="3105360" y="2706840"/>
            <a:ext cx="2863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认识我们的</a:t>
            </a:r>
            <a:r>
              <a:rPr b="1" lang="zh-CN" sz="4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共青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838080" y="53341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979880" y="385452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团基本知识讲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08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7"/>
          <p:cNvSpPr/>
          <p:nvPr/>
        </p:nvSpPr>
        <p:spPr>
          <a:xfrm>
            <a:off x="3308760" y="157968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团员的权利和义务之间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辩证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的关系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既有联系又有区别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2184120" y="2570040"/>
            <a:ext cx="41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联系：</a:t>
            </a: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没有无义务的权利，也没有无权利的义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3212280" y="31798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履行义务是一个使自己不断进取、成熟的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4583520" y="37893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无原则的放弃权利也是一种不负责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1926000" y="4703760"/>
            <a:ext cx="34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区别：</a:t>
            </a: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义务与权利反映的关系范围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3348360" y="53132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权利是团员特有的，部分义务则所有人都应该履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3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20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Text Box 7"/>
          <p:cNvSpPr/>
          <p:nvPr/>
        </p:nvSpPr>
        <p:spPr>
          <a:xfrm>
            <a:off x="2866680" y="1711440"/>
            <a:ext cx="420408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团的基本制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选举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三会一课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民主生活会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民主评议干部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团员证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推荐优秀青年入党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二十八周岁以下青年团员参加团的组织生活会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团的宣传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26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Text Box 7"/>
          <p:cNvSpPr/>
          <p:nvPr/>
        </p:nvSpPr>
        <p:spPr>
          <a:xfrm>
            <a:off x="1279440" y="1736640"/>
            <a:ext cx="725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《团章》第十二条规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共产主义青年团是按照民主集中制组织起来的统一整体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这一项规定阐明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民主集中制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是共青团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根本组织原则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WordArt 8"/>
          <p:cNvSpPr txBox="1"/>
          <p:nvPr/>
        </p:nvSpPr>
        <p:spPr>
          <a:xfrm>
            <a:off x="1295280" y="464832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民主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2" name="WordArt 9"/>
          <p:cNvSpPr txBox="1"/>
          <p:nvPr/>
        </p:nvSpPr>
        <p:spPr>
          <a:xfrm>
            <a:off x="3733920" y="464832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集中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3" name="WordArt 10"/>
          <p:cNvSpPr txBox="1"/>
          <p:nvPr/>
        </p:nvSpPr>
        <p:spPr>
          <a:xfrm>
            <a:off x="6400800" y="4343400"/>
            <a:ext cx="205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团结的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共青团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3009600" y="4572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5618160" y="4572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3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38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Text Box 7"/>
          <p:cNvSpPr/>
          <p:nvPr/>
        </p:nvSpPr>
        <p:spPr>
          <a:xfrm>
            <a:off x="838080" y="16002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合格团员必须符合的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8"/>
          <p:cNvSpPr/>
          <p:nvPr/>
        </p:nvSpPr>
        <p:spPr>
          <a:xfrm rot="985800">
            <a:off x="1823760" y="3007800"/>
            <a:ext cx="1460520" cy="143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信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坚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9"/>
          <p:cNvSpPr/>
          <p:nvPr/>
        </p:nvSpPr>
        <p:spPr>
          <a:xfrm rot="21118200">
            <a:off x="4644360" y="2514600"/>
            <a:ext cx="1460520" cy="143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认真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"/>
          <p:cNvSpPr/>
          <p:nvPr/>
        </p:nvSpPr>
        <p:spPr>
          <a:xfrm rot="387000">
            <a:off x="3647880" y="4759200"/>
            <a:ext cx="1460520" cy="143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品德良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1"/>
          <p:cNvSpPr/>
          <p:nvPr/>
        </p:nvSpPr>
        <p:spPr>
          <a:xfrm rot="20532000">
            <a:off x="6468480" y="4344480"/>
            <a:ext cx="1460520" cy="143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团结同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12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49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3" name="Picture 7" descr="02"/>
          <p:cNvPicPr/>
          <p:nvPr/>
        </p:nvPicPr>
        <p:blipFill>
          <a:blip r:embed="rId2"/>
          <a:stretch/>
        </p:blipFill>
        <p:spPr>
          <a:xfrm>
            <a:off x="2438280" y="1371600"/>
            <a:ext cx="4648320" cy="269388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8"/>
          <p:cNvSpPr/>
          <p:nvPr/>
        </p:nvSpPr>
        <p:spPr>
          <a:xfrm>
            <a:off x="1371600" y="44481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中国共产主义青年团团旗旗面为红色，象征革命胜利；左上角缀黄色五角星，周围环绕黄色圆圈，象征中国青年一代紧密团结在中国共产党周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611280" y="981000"/>
            <a:ext cx="8521560" cy="167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宋体"/>
              </a:rPr>
              <a:t>•  </a:t>
            </a:r>
            <a:r>
              <a:rPr b="1" lang="zh-CN" sz="2700" spc="-1" strike="noStrike">
                <a:solidFill>
                  <a:srgbClr val="ff0000"/>
                </a:solidFill>
                <a:latin typeface="宋体"/>
              </a:rPr>
              <a:t>来历 ：</a:t>
            </a:r>
            <a:r>
              <a:rPr b="1" lang="zh-CN" sz="27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团旗是毛泽东、周恩来等老一辈无产阶级革命家亲自审定，并经党中央批准的。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召开的中国新民主主义青年团第一次全国代表大会上，团员代表代表们提出了应有一面共青团自己的旗帜的想法，被大会采纳。会议结束后，团中央开始着手实施这项工作。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5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月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人民日报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头版刊登了征求团旗图案的启事。各地的团组织、团员、青年和社会各界人士纷纷响应，共设计出一百多种团旗图案。经过多方评选和几度修改，最后选出几种式样，于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月呈报党中央审定。毛泽东同志于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28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日在其中一个团旗式样上批示“同意此式”，周恩来同志在同一式样上批示“同意这个”，并提出具体修改意见。团中央根据党中央的指示，于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日发出了关于颁发团旗的决定，由此团旗诞生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57" name="Picture 4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62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Picture 7" descr="tuanhui01"/>
          <p:cNvPicPr/>
          <p:nvPr/>
        </p:nvPicPr>
        <p:blipFill>
          <a:blip r:embed="rId2"/>
          <a:stretch/>
        </p:blipFill>
        <p:spPr>
          <a:xfrm>
            <a:off x="3200400" y="1219320"/>
            <a:ext cx="3048120" cy="303372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8"/>
          <p:cNvSpPr/>
          <p:nvPr/>
        </p:nvSpPr>
        <p:spPr>
          <a:xfrm>
            <a:off x="1143000" y="43434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团徽的内容为团旗、齿轮、麦穗、初升的太阳及其光芒、写有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中国共青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五字的绶带。团徽颜色为金红两色。它象征着共青团在马克思列宁主义、毛泽东思想的光辉照耀下，团结各族青年，朝着党所指引的方向奋勇前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1116000" y="1628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中国共产主义青年团团徽是经党中央审定批准，在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959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年“五四”运动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周年纪念日这一天由共青团中央委员会颁布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70" name="Picture 4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Rectangle 8"/>
          <p:cNvSpPr/>
          <p:nvPr/>
        </p:nvSpPr>
        <p:spPr>
          <a:xfrm>
            <a:off x="1158480" y="1027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来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76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0" name="Picture 7" descr="C:/Users/a/AppData/Roaming/kingsoft/office6/templates/download/默认/http:/www.xtw.fdzx.cq.cn/tyz.jpg"/>
          <p:cNvPicPr/>
          <p:nvPr/>
        </p:nvPicPr>
        <p:blipFill>
          <a:blip r:embed="rId2"/>
          <a:stretch/>
        </p:blipFill>
        <p:spPr>
          <a:xfrm>
            <a:off x="1828800" y="2133720"/>
            <a:ext cx="2209680" cy="2819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8" descr="C:/Users/a/AppData/Roaming/kingsoft/office6/templates/download/默认/http:/www.xtw.fdzx.cq.cn/new_pa57.jpg"/>
          <p:cNvPicPr/>
          <p:nvPr/>
        </p:nvPicPr>
        <p:blipFill>
          <a:blip r:embed="rId3"/>
          <a:stretch/>
        </p:blipFill>
        <p:spPr>
          <a:xfrm>
            <a:off x="5334120" y="2152800"/>
            <a:ext cx="2060280" cy="27716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9"/>
          <p:cNvSpPr/>
          <p:nvPr/>
        </p:nvSpPr>
        <p:spPr>
          <a:xfrm>
            <a:off x="1981080" y="51055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Times New Roman"/>
              </a:rPr>
              <a:t>旧版团员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5467320" y="518148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Times New Roman"/>
              </a:rPr>
              <a:t>新版团员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85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9" name="Picture 7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8"/>
          <p:cNvSpPr/>
          <p:nvPr/>
        </p:nvSpPr>
        <p:spPr>
          <a:xfrm>
            <a:off x="1600200" y="2438280"/>
            <a:ext cx="70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团员证封面为墨绿色，象征着青春和朝气蓬勃的青年运动；封面上方印有红色烫金团徽，象征着共青团是团结教育青年的核心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43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Text Box 7"/>
          <p:cNvSpPr/>
          <p:nvPr/>
        </p:nvSpPr>
        <p:spPr>
          <a:xfrm>
            <a:off x="2159640" y="173196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共青团的性质是什么？怎样理解这一性质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>
            <a:hlinkClick r:id="rId2" action="ppaction://hlinksldjump"/>
          </p:cNvPr>
          <p:cNvSpPr/>
          <p:nvPr/>
        </p:nvSpPr>
        <p:spPr>
          <a:xfrm>
            <a:off x="2281680" y="2438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共青团的基本任务是什么？怎样理解这一任务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9">
            <a:hlinkClick r:id="rId3" action="ppaction://hlinksldjump"/>
          </p:cNvPr>
          <p:cNvSpPr/>
          <p:nvPr/>
        </p:nvSpPr>
        <p:spPr>
          <a:xfrm>
            <a:off x="914400" y="3200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共青团员应履行的义务与享有的权利各是什么？如何正确对待团员的权利和义务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">
            <a:hlinkClick r:id="rId4" action="ppaction://hlinksldjump"/>
          </p:cNvPr>
          <p:cNvSpPr/>
          <p:nvPr/>
        </p:nvSpPr>
        <p:spPr>
          <a:xfrm>
            <a:off x="9144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共青团组织制度的根本原则是什么？怎样理解这一原则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1">
            <a:hlinkClick r:id="rId5" action="ppaction://hlinksldjump"/>
          </p:cNvPr>
          <p:cNvSpPr/>
          <p:nvPr/>
        </p:nvSpPr>
        <p:spPr>
          <a:xfrm>
            <a:off x="914400" y="5029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合格团员必须符合的标准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914400" y="5715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理解团旗、团徽、团员证的含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1275120" y="1052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新的世纪 新的使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93" name="Picture 4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Text Box 8"/>
          <p:cNvSpPr/>
          <p:nvPr/>
        </p:nvSpPr>
        <p:spPr>
          <a:xfrm>
            <a:off x="1039680" y="1739880"/>
            <a:ext cx="792504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作为一名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21 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世纪的共青团员，为适应现代化社会的需要和新时代的要求，要努力树立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五大意识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”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，担负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五大使命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”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、</a:t>
            </a:r>
            <a:r>
              <a:rPr b="1" lang="zh-CN" sz="2500" spc="-1" strike="noStrike">
                <a:solidFill>
                  <a:srgbClr val="ff0000"/>
                </a:solidFill>
                <a:latin typeface="宋体"/>
              </a:rPr>
              <a:t>五大意识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政治意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　　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 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民主意识　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科技意识　　　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创新意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　　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竞争与合作的意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、</a:t>
            </a:r>
            <a:r>
              <a:rPr b="1" lang="zh-CN" sz="2500" spc="-1" strike="noStrike">
                <a:solidFill>
                  <a:srgbClr val="ff0000"/>
                </a:solidFill>
                <a:latin typeface="宋体"/>
              </a:rPr>
              <a:t>五大使命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坚定信念，构筑精神支柱；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发奋学习，掌握过硬的本领；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艰苦奋斗，自觉服务社会；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自立自强，不断创造新的成果；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高素质，勇于肩负重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4457880" y="501480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"/>
          <p:cNvGrpSpPr/>
          <p:nvPr/>
        </p:nvGrpSpPr>
        <p:grpSpPr>
          <a:xfrm>
            <a:off x="990720" y="0"/>
            <a:ext cx="6476400" cy="3961800"/>
            <a:chOff x="990720" y="0"/>
            <a:chExt cx="6476400" cy="3961800"/>
          </a:xfrm>
        </p:grpSpPr>
        <p:sp>
          <p:nvSpPr>
            <p:cNvPr id="700" name="Rectangle 4"/>
            <p:cNvSpPr/>
            <p:nvPr/>
          </p:nvSpPr>
          <p:spPr>
            <a:xfrm>
              <a:off x="990720" y="0"/>
              <a:ext cx="6476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5"/>
            <p:cNvGrpSpPr/>
            <p:nvPr/>
          </p:nvGrpSpPr>
          <p:grpSpPr>
            <a:xfrm>
              <a:off x="990720" y="0"/>
              <a:ext cx="6476040" cy="3961800"/>
              <a:chOff x="990720" y="0"/>
              <a:chExt cx="6476040" cy="3961800"/>
            </a:xfrm>
          </p:grpSpPr>
          <p:sp>
            <p:nvSpPr>
              <p:cNvPr id="702" name="Rectangle 6"/>
              <p:cNvSpPr/>
              <p:nvPr/>
            </p:nvSpPr>
            <p:spPr>
              <a:xfrm>
                <a:off x="990720" y="0"/>
                <a:ext cx="6476040" cy="9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入团申请书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7"/>
              <p:cNvSpPr/>
              <p:nvPr/>
            </p:nvSpPr>
            <p:spPr>
              <a:xfrm>
                <a:off x="990720" y="943560"/>
                <a:ext cx="647604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一、入团申请书的写法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、标题：一般写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入团申请书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、称谓：一般写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敬爱的团支部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、正文：主要包括：（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）对团的认识；（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）入团动机和对待入团的态度，表明自己的入团愿望；（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）个人在政治、思想、学习等方面的主要表现情况；（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4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）今后努力方向以及如何以实际行动争取早日加入团组织等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4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、结尾：一般写：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恳请团组织批准我的入团申请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”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作为正文结束，加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此致，敬礼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”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等用语结束正文。申请书的最后要署名及注明日期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例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8"/>
              <p:cNvSpPr/>
              <p:nvPr/>
            </p:nvSpPr>
            <p:spPr>
              <a:xfrm>
                <a:off x="990720" y="3125880"/>
                <a:ext cx="6476040" cy="83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914400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入  团  申  请  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团支部：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是初二四班的赖俊文，在班里任职宣传委员，成绩在班上排中上，在上学期期末考试里得全班第七名。一直以来我都认为加入共青团是一件光荣的事，因为共青团是中国共产党领导的先进青年的组织，是共产党的助手和后备军。所以我对已经加入了中国共青团的同学非常羡慕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这次有机会加入共青团我十分兴奋，因为进团可以学习建设有中国特色社会主义的理论，广泛开展党的基本路线教育，爱国主义、集体主义和社会主义思想教育，近代史、现代史教育和国情教育，民主和法制教育，增强我们的民主自尊，自信和自强精神，树立正确的理想、信念和价值观念。加入共青团还可以增加我们对学习的信心，帮助我们学习现代科学文化知识，不断提高青年的思想道德素质和科学文化素质。所以我要积极加入共青团，为实现共产主义而奋斗终身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国共青团成立于</a:t>
            </a:r>
            <a:r>
              <a:rPr b="1" lang="en-US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22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的，它以马克思列宁主义、毛泽东思想为行动指南，实事求是，团结全国各族青年，为把我国建设成为富强、民主、文明的社会主义现代化国家，为最终实现共产主义的社会制度而奋斗。中国共产主义青年团的基本任务是：坚定不移地贯彻党在社会主义的基本路线，团结广大青年，造就有理想、有道德、有文化、有纪律的接班人，努力为党输送新鲜血液，为国家培养青年建设人才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在团组织批准我入团后，我将更加刻苦学习、工作要勤奋、品德要高尚、团结同学、助人为乐，要有自我批评精神。努力成为对社会建设有用的人，做共产主义事业的接班人。在组织不批准时，我也要做到不灰心，积极努力争取，为早日实现自己的伟大理想而奋斗，加入到团组织去，为人民服务。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                        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申请人：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  * 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                    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  *                                         *  *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月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日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0" y="0"/>
            <a:ext cx="876312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入团申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敬爱的校团委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好</a:t>
            </a:r>
            <a:r>
              <a:rPr b="1" lang="en-US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!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是初三五班的陈立邦。在初二时</a:t>
            </a:r>
            <a:r>
              <a:rPr b="1" lang="en-US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通过对团章的学习</a:t>
            </a:r>
            <a:r>
              <a:rPr b="1" lang="en-US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团组织、老师、父母和团员同学的帮助下，认识到作为跨时代的青年必须积极争取加入青年人自己的组织</a:t>
            </a:r>
            <a:r>
              <a:rPr b="1" lang="en-US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国共产主义青年团。但那时我的成绩不算太拔尖，便决定再等一等。以后，每当看到同学胸前戴着团徽，都会觉得很羡慕他们，觉得他们是那么的光荣。于是，我便暗暗下决心把成绩提上来，尽快加入共青团。现在，我的成绩都上来了，所以我才有胆量试一试，希望能够加入共青团这个大家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共青团是党领导下的先进青年的群众性组织，是党的可靠的助手和后备军，是培养青年学习共产主义，使他们具有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四有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”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五爱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品质的大学校。正因为这样，我恳切要求加入共青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向团委保证：我一定会用实际行动积极争取早日加入共青团，请考验、请批准。如果我被批准了，我决心遵守团章、执行团的决议、遵守团的纪律、履行团的义务、参加团的工作，多做有利于团、有利于群众的事情，处处起模范带头作用，作个名副其实的共青团员，为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四化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贡献力量，作二十一世纪的栋梁；如果我一时未被批准，说明我还有不足之处，但我决不灰心，再接再厉，继续争取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此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敬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                                    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 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学    初三五班    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 * *                 * * * 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月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0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54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Text Box 7"/>
          <p:cNvSpPr/>
          <p:nvPr/>
        </p:nvSpPr>
        <p:spPr>
          <a:xfrm>
            <a:off x="1219320" y="20350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《团章》在总则开头就明确指出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共产主义青年团是中国共产党领导的先进青年的群众组织，是广大青年在实践中学习中国特色社会主义和共产主义的学校，是中国共产党的助手和后备军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8"/>
          <p:cNvSpPr/>
          <p:nvPr/>
        </p:nvSpPr>
        <p:spPr>
          <a:xfrm flipH="1">
            <a:off x="2514240" y="3581280"/>
            <a:ext cx="228600" cy="3812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9"/>
          <p:cNvSpPr/>
          <p:nvPr/>
        </p:nvSpPr>
        <p:spPr>
          <a:xfrm flipH="1">
            <a:off x="5409720" y="4191120"/>
            <a:ext cx="228600" cy="3808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0"/>
          <p:cNvSpPr/>
          <p:nvPr/>
        </p:nvSpPr>
        <p:spPr>
          <a:xfrm flipH="1">
            <a:off x="3276360" y="4800600"/>
            <a:ext cx="228600" cy="3808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1" descr="tuanqi"/>
          <p:cNvPicPr/>
          <p:nvPr/>
        </p:nvPicPr>
        <p:blipFill>
          <a:blip r:embed="rId2"/>
          <a:stretch/>
        </p:blipFill>
        <p:spPr>
          <a:xfrm>
            <a:off x="7772400" y="548640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12"/>
          <p:cNvSpPr/>
          <p:nvPr/>
        </p:nvSpPr>
        <p:spPr>
          <a:xfrm>
            <a:off x="1697760" y="98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青团的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65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Text Box 7"/>
          <p:cNvSpPr/>
          <p:nvPr/>
        </p:nvSpPr>
        <p:spPr>
          <a:xfrm>
            <a:off x="1066680" y="14479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共青团的</a:t>
            </a:r>
            <a:r>
              <a:rPr b="0" lang="zh-CN" sz="2000" spc="-1" strike="noStrike">
                <a:solidFill>
                  <a:srgbClr val="000099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十五大</a:t>
            </a:r>
            <a:r>
              <a:rPr b="0" lang="zh-CN" sz="2000" spc="-1" strike="noStrike">
                <a:solidFill>
                  <a:srgbClr val="000099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通过的新《团章》明确指出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中国共产主义青年团在现阶段的基本任务是：坚定不移地贯彻党在社会主义初级阶段的基本路线，以经济建设为中心，坚持四项基本原则，坚持改革开放，在建设中国特色社会主义的伟大实践中，造就有理想、有道德、有文化、有纪律的接班人，努力为党输送新鲜血液，为国家培养青年建设人才，团结带领广大青年，自力更生，艰苦创业，积极推动社会主义物质文明、政治文明和精神文明建设，为全面建设小康社会、加快推进社会主义现代化贡献智慧和力量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1371600" y="3962520"/>
            <a:ext cx="2133720" cy="205740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69440 h 2057400"/>
              <a:gd name="textAreaBottom" fmla="*/ 15879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育青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的任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9"/>
          <p:cNvSpPr/>
          <p:nvPr/>
        </p:nvSpPr>
        <p:spPr>
          <a:xfrm>
            <a:off x="3886200" y="4495680"/>
            <a:ext cx="2133720" cy="205740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69440 h 2057400"/>
              <a:gd name="textAreaBottom" fmla="*/ 15879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领青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的任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0"/>
          <p:cNvSpPr/>
          <p:nvPr/>
        </p:nvSpPr>
        <p:spPr>
          <a:xfrm>
            <a:off x="6172200" y="3733920"/>
            <a:ext cx="2133720" cy="205740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69440 h 2057400"/>
              <a:gd name="textAreaBottom" fmla="*/ 15879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务青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的任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11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12"/>
          <p:cNvSpPr/>
          <p:nvPr/>
        </p:nvSpPr>
        <p:spPr>
          <a:xfrm>
            <a:off x="982800" y="98100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青团的目标和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76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7"/>
          <p:cNvSpPr/>
          <p:nvPr/>
        </p:nvSpPr>
        <p:spPr>
          <a:xfrm>
            <a:off x="826920" y="1484280"/>
            <a:ext cx="77724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宋体"/>
              </a:rPr>
              <a:t>一、共青团的奋斗目标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团章总则中提出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中国共产主义青年团坚决拥护中国共产党的纲领，以马克思列宁主义、毛泽东思想和邓小平理论为行动指南，解放思想，实事求是，团结全国各族青年，为把我国建设成为富强、民主、文明的社会主义现代化国家，为最终实现共产主义的社会制度而奋斗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。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这个目标包含两层含义：一要为建设社会主义现代化国家而奋斗；二要为实现共产主义而奋斗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82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Text Box 7"/>
          <p:cNvSpPr/>
          <p:nvPr/>
        </p:nvSpPr>
        <p:spPr>
          <a:xfrm>
            <a:off x="826920" y="1611360"/>
            <a:ext cx="754380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宋体"/>
              </a:rPr>
              <a:t>二、共青团的基本任务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中国共产主义青年团章程明确规定，在现阶段共青团的基本任务是：坚定不移地贯彻党在社会主义初级阶段的基本路线，团结带领广大青年，以经济建设为中心，坚持四项基本原则，坚持改革开放，自力更生，艰苦创业，促进生产力发展和社会进步，在建设有中国特色社会主义的伟大实践中，造就有理想、有道德、有文化、有纪律的接班人，努力为党输送新鲜血液，为国家培养青年建设人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88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7"/>
          <p:cNvSpPr/>
          <p:nvPr/>
        </p:nvSpPr>
        <p:spPr>
          <a:xfrm>
            <a:off x="179280" y="1055520"/>
            <a:ext cx="90360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中国共产主义青年团章程第二条明确规定：团员必须履行下列义务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努力学习马克思列宁主义、毛泽东思想和邓小平理论，学习团的基本知识，学习科学、文化和业务知识，不断提高为人民服务的本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宣传、执行党的基本路线和各项方针政策，积极参加改革开放和社会主义现代化建设，努力完成团组织交给的任务，在学习、劳动、工作及其他社会活动中起模范作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自觉遵守国家的法律和团的纪律，执行团的决议，发扬社会主义新风尚，提倡共产主义道德，维护国家和人民的利益，为保护国家财产和人民群众的安全挺身而出，英勇斗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4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接受国防教育，增强国防意识，积极履行保卫祖国的义务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5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虚心向人民群众学习，热心帮助青年进步，及时反映青年的意见和要求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6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开展批评和自我批评，勇于改正缺点和错误，自觉维护团结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26920" y="981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团员的义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968400" y="1914480"/>
            <a:ext cx="79246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为一名中学生要针对实际做到以下几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宋体"/>
              </a:rPr>
              <a:t>了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一）认真学习理论和科学文化知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二）当好党的宣传员，充分发挥先锋模范作用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三）做一名遵纪守法，勇于奉献的好公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四）接受国防教育，积极履行保卫祖国的神圣义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五）密切联系群众，做群众的知心朋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六）完善自我，共同提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96" name="Picture 4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01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Text Box 7"/>
          <p:cNvSpPr/>
          <p:nvPr/>
        </p:nvSpPr>
        <p:spPr>
          <a:xfrm>
            <a:off x="879480" y="1557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一）参加团的有关会议和团组织开展的各类活动，接受团组织的教育和培训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二）在团内有选举权，被选举权和表决权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三）在团的会议和团的报刊上，参加关于团的工作各青年关心的问题的讨论，对团的工作提出建议，监督、批评团的领导机关和团的工作人员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四）对团的决议如有不同意见，在坚决执行的前提出，可以保留并且可以向团的上级组织提出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五）参加团的组织讨论对自己处分的会议，并且可以申辩，其它团员可以为其作证和辩护。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六）向团的任何一级组织直到中央委员会，提出请求，申诉和控告，并要求有关组织给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以负责的答复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1216800" y="10270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团员的权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23:55:23Z</dcterms:created>
  <dc:creator/>
  <dc:description/>
  <cp:keywords/>
  <dc:language>en-US</dc:language>
  <cp:lastModifiedBy>a</cp:lastModifiedBy>
  <dcterms:modified xsi:type="dcterms:W3CDTF">2014-08-11T07:36:20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