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309-B81E-43DA-B9F0-05649D85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1B3-E24D-42D5-96D9-DD222DB3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FF956-6C51-44E5-ADDD-F4903382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ABFA5-9D9C-47ED-B8BB-D1D78D84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B4401-964E-4914-A388-B52676C3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845AB-BDF8-4879-8192-61B00A1E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75697-2B4C-4D3E-B4CC-915A8C7C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AE2E5-126B-4DF7-BFE5-35DFE3C4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252B3-B85C-45E2-8347-B2DA0ED7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4363A-B621-4643-A483-AB5A1211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C2938-134C-4801-8740-15E007F0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092F4-9F95-415F-B6E3-E2489217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880-5F15-4A9C-BD8D-616BB068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6A688-6FE9-4D5D-A407-713B6047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9D5A0-D9A5-44AD-BE85-D102BE19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C7590-CA45-4D3C-9B4B-385245A8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90E00-18A1-4D02-91A9-4FC1C18B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39051-D02F-4991-98AF-313241C2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3FAF9-00F2-477B-A782-BAA51362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445AA-EAC5-4F7A-B5BD-72F498EA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CAE0F-8291-435C-9C66-CD9E1273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3DB80-2BD0-4C93-9931-B9844C0E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ED248-FAC0-4DEA-A63B-BE418FB0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F349-D80E-4BD8-ABBD-444F4A3E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DC2AA-9043-43E5-A41D-F8AA5004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9FDFA-8E76-43D2-9A54-A29E4055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23021-6CF2-4BCE-B48D-EFF3DB01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37D38-F015-44A0-8892-8C872524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60530-9217-4D84-9077-77B11626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D166C-04F4-4CF6-8CE6-1E59E750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276C0-DCB3-4228-8B50-54A7C33C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20333-7F8C-4CB2-B95F-7C36ECD9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64021-D5B8-442F-A5A5-9E22446B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8DBB4-FC17-4938-B8EE-80EC0E8C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B1B9-2FD9-463F-8EA0-33530AC49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44F63-5F28-4627-A6E1-380D97E8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2CD50-2902-4EE5-9431-EFB7E922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42E0D-F380-431A-BD80-7B2CD988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4303B-0827-49F2-8D41-1381ECA1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6C792-11A2-42C1-9177-2573578A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20B7D-F1CF-4810-AA82-4A93190F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5604A-5746-4D45-9002-10A2D9D6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B222A-1FDC-4391-8C1D-BD50E03B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E0ED3-1B2A-4039-8327-8C51FAF9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48EFF-4C8B-41E6-B0C5-E80C6783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853E-0F95-4D29-B4AA-993EC148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C3EB0-1EEC-421E-A0C0-F8662C40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A5595-C356-4419-AD98-F6DCAB07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3243F-E1CE-452B-99BE-5D6F0AD6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76385-82ED-4396-AC12-0A65542D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B8319-B441-4730-B2B1-01D2B30F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DE6D4-03C7-4455-8420-F6B65B27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B502B-572D-4027-9861-32A543A0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B1A7E0-194F-4D82-8AC0-67CE7B07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07FE2-D51E-4CDD-B28B-71D1CD92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662B97-E8DF-4296-9A92-12FAF435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7B96-CA87-4C6A-8479-CDCB5706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4486E-79B9-49D0-A9E3-F117BE9C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1BA52-9386-41F5-B7C3-4FD8A176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4158E-E1DF-493A-B2D4-92E1B8C3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03734-F5A6-4238-ABF4-475FF245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68D4B-645E-4EE5-9967-A10AAE98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29FE3-C248-49AD-8A2B-65253514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16103A-95C0-4AE0-BA55-C9B320EF0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1D29-5296-42D5-9EA8-F0D0554B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E6B6-1E80-46BC-9AB6-9411F181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A645-FC61-4715-8889-74C33809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C449-2275-4B53-B49C-F9C4CAE7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EE5-40E2-4175-9D8B-2DB78B36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1FEF-B7DB-4330-806E-94A658FE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9BE8-066A-4E81-A711-CE71AA54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360E-C75E-4166-BC50-55309D53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E283-2D7E-4074-8B42-08BF7F2C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A42B-CFC2-4C8A-A7D6-704DC988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553F8-0F8F-4F65-A752-AE55169E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A7404-6704-45C1-9C0A-0FB1CCFC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5006F-6E9F-4B10-8883-AED6DDE6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2C250-44A2-4A4C-84EB-985345CD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C8965-C15F-4039-A66A-39F418DA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3AE2-90A1-4466-9CA7-21791FB9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58D9D-6CD2-4A19-A2FA-B412C1B2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3D634-8EC1-4EEA-ACB8-6DC1B544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AC9AE-4B20-4C03-A387-DB3C8937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88268-51CB-4CA8-8699-69BFD108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32F89-5397-4985-A5B7-60B7A312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82C2E-863B-413A-9D5C-ACA2C657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B6EF7-EE3B-49EC-9DD0-22345C96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45AC5-D854-4118-A3A2-79597E9B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67E8B-15D1-4338-AC7E-CC121BAA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CD2B9-30A0-4D49-847B-7228EE3F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412F-420A-492D-9477-D43526F3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19D3E-82BA-4D37-9F5C-0F5CE8B6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4C417-BCE9-4F96-94C4-1022C893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63AE3-4262-463A-B32E-30C34DD1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49A39-7A15-48C1-B916-F7684D48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6D322-61E8-488C-B0B3-8FB6BDBC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0D541-5C79-4D3B-93B1-65BEC6B7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70271-D3D2-4DB2-9B4E-7EAC0EB5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B56F8-B496-4245-80E4-92192BB1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D1B8F-D29F-45F8-8541-CAF4D668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E0F0D-1446-406D-9CA2-CAF4C35B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2A5E-8451-4E86-ADA5-5D47AD44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B4E58-2921-495C-972C-10C9D8B2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3E7F5-F493-4ED5-AA92-9398EBF6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161BD-D0DE-436B-8225-4C767BB6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2C47D-51E3-44DD-9D48-7CA351C6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328B4-699E-49B2-BE1F-936CC7EF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6434A-A172-470F-851F-C9EA104A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FBCE9-9B0F-4A22-95D4-F6EF7DFB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FE039-60E8-4C50-A789-21F2E8E7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CCCEE-F4DC-4E58-922E-6A01ADF9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F5DFB-8829-46E1-BD3E-0BDD0583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73C-ED86-450B-973B-0E4662BE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C2396E-4A3A-4006-A691-10A6462A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0C0E5-085C-4FAA-B5A3-6E6B6612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74921-978B-4B9E-B60B-4F7E97BE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4DEB7-31D9-4338-BAB2-BC667196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65C30-FB03-4474-9FC7-4D36C63C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C5B0D-9991-483E-887E-978CC6F9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0F445-6CDF-4DD8-8146-B2464199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EEE82-212F-4963-AA76-7E111346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EE2FB-1843-43B6-96A7-C4D79EF8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0D1F3-8E48-4695-B1A9-19182FF0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4BAE-A6C1-4E9A-BF5A-9085A0D6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D8824-D784-40E6-BC3B-BC29E807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952EC-C45A-4BF3-A6BB-D33BD694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74453-368C-47A5-BE18-042C3759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55D39-A503-47C6-927F-6ACF75D1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83FCC-C67A-4256-BA03-E30E3E07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CD5E7-5EAD-4CF8-9D7D-958769A8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58275-07FB-4E91-81F5-DB25CC36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24176-8D09-4953-B94D-DAA14671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A509F-5B83-4442-A78D-BF377137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58AD1-FF47-4C83-B12E-9223868B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D3F8-E9A0-4E85-BC96-0BFDFC1E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6B4C7-47AB-430B-B338-96CBFD84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F94FB-0739-4EF3-B7EE-6CAE2BEC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EF370-F348-41C2-96DD-4BDD191E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9C8D2-0B04-4B2D-BC6C-45926182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C9A9A-4F75-4605-B21C-5624D8FC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8D838-3B49-4650-AAFC-FB0508F0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21D17-2BDA-4B66-AAEA-28C44A16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7EC05-D832-426F-BFF3-559979EF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58675-79E5-4C81-94C5-04639847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F8065-4C45-4816-8EEC-D3F783B1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974-A7E9-4708-815F-29BC8FBF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77E90-FFFA-4926-8C1E-A449CF986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F73E2-A251-45E5-8C41-00E7EFA2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B89B2-E942-4377-A018-E82A0594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80ADD-1AEF-4A4D-8F6F-38844868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43184-A911-4C46-A9CB-A751C4FA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F2A3C-8335-48C4-B149-6AF3871A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FA963-2872-4C6D-BBD4-D9A9222D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C4160-BB43-4CAF-9AB0-DC323D18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04EE6-51D2-496D-BA8D-54DF1D24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8BC96-C76A-45E6-9498-77F1342B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e0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1CCD-444E-4818-9944-E4D0F55B933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78AA-1EAD-43A9-8C1A-3770AFBFC3E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F779-5B0C-4B9F-8601-01D74CAEF8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67D2-ACD1-4955-9F97-EF40EED27EA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75C1-3283-4299-9CB8-D8BF6D62DD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5A68-6493-460E-9807-EDEA33056FF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7CFF-E370-4A72-9A76-181AEEEF16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5985-D028-435D-9ACB-DF2DA53CB1F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9967-41D8-485A-A9BB-6C67701CA6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ADDB-AC56-4CF7-8CE4-A069BF19BEB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8499-D87B-4D62-8965-870FFB4CAB8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9874-1C2E-4416-9E06-6CF38970AE2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E219-1F56-491A-9F79-A476EA6413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49A5-CB1C-4AE3-96BD-4572483351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95FB-4641-4853-BA87-5E008193DC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B81F-F6B1-4463-8D6F-DA52E162100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80BB-33B6-4224-8F0B-191886489F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70B6-AC97-417E-BCF7-C113CD19E23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274B-7EEE-49CA-9AEB-2F3099DB04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6CAE-1CB2-4417-A94B-150BC43A14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3867-506F-4141-91DA-AD9F9E2835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D612-C6B2-4A75-844F-A4BBFC15A4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66C9-2C62-4BBD-9443-2614FEA50C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9846-A4CA-4912-A0C5-05CE25D64D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0F36-6B42-4D53-987E-23F018E9F5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684360" y="0"/>
            <a:ext cx="7848360" cy="2492280"/>
          </a:xfrm>
          <a:prstGeom prst="rect">
            <a:avLst/>
          </a:prstGeom>
          <a:solidFill>
            <a:srgbClr val="b7290d"/>
          </a:solidFill>
          <a:ln w="381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684360" y="0"/>
            <a:ext cx="7848360" cy="2492280"/>
          </a:xfrm>
          <a:prstGeom prst="rect">
            <a:avLst/>
          </a:prstGeom>
          <a:solidFill>
            <a:srgbClr val="b7290d"/>
          </a:solidFill>
          <a:ln w="381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1332000" y="1413000"/>
            <a:ext cx="6624720" cy="1584360"/>
          </a:xfrm>
          <a:prstGeom prst="rect">
            <a:avLst/>
          </a:prstGeom>
          <a:solidFill>
            <a:srgbClr val="fefcce"/>
          </a:solidFill>
          <a:ln w="381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vantGarde ALT"/>
                <a:ea typeface="宋体"/>
              </a:rPr>
              <a:t>How to easily off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900000" y="5877000"/>
            <a:ext cx="7344000" cy="0"/>
          </a:xfrm>
          <a:prstGeom prst="line">
            <a:avLst/>
          </a:prstGeom>
          <a:ln w="381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5148360" y="450864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Yahoo"/>
                <a:ea typeface="宋体"/>
              </a:rPr>
              <a:t>Attitude            Goal            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684360" y="0"/>
            <a:ext cx="7775280" cy="549360"/>
          </a:xfrm>
          <a:prstGeom prst="rect">
            <a:avLst/>
          </a:prstGeom>
          <a:solidFill>
            <a:srgbClr val="b729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3"/>
          <p:cNvSpPr/>
          <p:nvPr/>
        </p:nvSpPr>
        <p:spPr>
          <a:xfrm>
            <a:off x="4211640" y="1413000"/>
            <a:ext cx="4932360" cy="0"/>
          </a:xfrm>
          <a:prstGeom prst="line">
            <a:avLst/>
          </a:prstGeom>
          <a:ln w="28440">
            <a:solidFill>
              <a:srgbClr val="f2c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4"/>
          <p:cNvSpPr/>
          <p:nvPr/>
        </p:nvSpPr>
        <p:spPr>
          <a:xfrm>
            <a:off x="4067280" y="1341360"/>
            <a:ext cx="144360" cy="122400"/>
          </a:xfrm>
          <a:prstGeom prst="ellipse">
            <a:avLst/>
          </a:prstGeom>
          <a:solidFill>
            <a:srgbClr val="f2c16a"/>
          </a:solidFill>
          <a:ln w="9360">
            <a:solidFill>
              <a:srgbClr val="f2c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5"/>
          <p:cNvSpPr/>
          <p:nvPr/>
        </p:nvSpPr>
        <p:spPr>
          <a:xfrm>
            <a:off x="179280" y="2781360"/>
            <a:ext cx="1152720" cy="503280"/>
          </a:xfrm>
          <a:custGeom>
            <a:avLst/>
            <a:gdLst>
              <a:gd name="textAreaLeft" fmla="*/ 180000 w 1152720"/>
              <a:gd name="textAreaRight" fmla="*/ 1008720 w 1152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7290d"/>
          </a:solidFill>
          <a:ln w="93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"/>
          <p:cNvSpPr/>
          <p:nvPr/>
        </p:nvSpPr>
        <p:spPr>
          <a:xfrm>
            <a:off x="179280" y="5084640"/>
            <a:ext cx="1152720" cy="503280"/>
          </a:xfrm>
          <a:custGeom>
            <a:avLst/>
            <a:gdLst>
              <a:gd name="textAreaLeft" fmla="*/ 180000 w 1152720"/>
              <a:gd name="textAreaRight" fmla="*/ 1008720 w 1152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7290d"/>
          </a:solidFill>
          <a:ln w="93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7"/>
          <p:cNvSpPr/>
          <p:nvPr/>
        </p:nvSpPr>
        <p:spPr>
          <a:xfrm>
            <a:off x="1476360" y="4941720"/>
            <a:ext cx="6048360" cy="720720"/>
          </a:xfrm>
          <a:prstGeom prst="roundRect">
            <a:avLst>
              <a:gd name="adj" fmla="val 16667"/>
            </a:avLst>
          </a:prstGeom>
          <a:solidFill>
            <a:srgbClr val="fefcce"/>
          </a:solidFill>
          <a:ln w="2844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vantGarde Bk BT"/>
                <a:ea typeface="宋体"/>
              </a:rPr>
              <a:t>Improving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8"/>
          <p:cNvSpPr/>
          <p:nvPr/>
        </p:nvSpPr>
        <p:spPr>
          <a:xfrm>
            <a:off x="1979640" y="6237360"/>
            <a:ext cx="7164360" cy="0"/>
          </a:xfrm>
          <a:prstGeom prst="line">
            <a:avLst/>
          </a:prstGeom>
          <a:ln w="381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9"/>
          <p:cNvSpPr/>
          <p:nvPr/>
        </p:nvSpPr>
        <p:spPr>
          <a:xfrm>
            <a:off x="1476360" y="3860640"/>
            <a:ext cx="6048360" cy="720720"/>
          </a:xfrm>
          <a:prstGeom prst="roundRect">
            <a:avLst>
              <a:gd name="adj" fmla="val 16667"/>
            </a:avLst>
          </a:prstGeom>
          <a:solidFill>
            <a:srgbClr val="fefcce"/>
          </a:solidFill>
          <a:ln w="2844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vantGarde Bk BT"/>
                <a:ea typeface="宋体"/>
              </a:rPr>
              <a:t>Make up your dream---make sure your 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0"/>
          <p:cNvSpPr/>
          <p:nvPr/>
        </p:nvSpPr>
        <p:spPr>
          <a:xfrm>
            <a:off x="179280" y="3933720"/>
            <a:ext cx="1152720" cy="503280"/>
          </a:xfrm>
          <a:custGeom>
            <a:avLst/>
            <a:gdLst>
              <a:gd name="textAreaLeft" fmla="*/ 180000 w 1152720"/>
              <a:gd name="textAreaRight" fmla="*/ 1008720 w 1152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7290d"/>
          </a:solidFill>
          <a:ln w="93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1"/>
          <p:cNvSpPr/>
          <p:nvPr/>
        </p:nvSpPr>
        <p:spPr>
          <a:xfrm>
            <a:off x="1476360" y="2708280"/>
            <a:ext cx="6048360" cy="720720"/>
          </a:xfrm>
          <a:prstGeom prst="roundRect">
            <a:avLst>
              <a:gd name="adj" fmla="val 16667"/>
            </a:avLst>
          </a:prstGeom>
          <a:solidFill>
            <a:srgbClr val="fefcce"/>
          </a:solidFill>
          <a:ln w="2844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vantGarde Bk BT"/>
                <a:ea typeface="宋体"/>
              </a:rPr>
              <a:t>A good attitude in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5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5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684360" y="0"/>
            <a:ext cx="7848360" cy="549360"/>
          </a:xfrm>
          <a:prstGeom prst="rect">
            <a:avLst/>
          </a:prstGeom>
          <a:solidFill>
            <a:srgbClr val="b7290d"/>
          </a:solidFill>
          <a:ln w="93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3"/>
          <p:cNvSpPr/>
          <p:nvPr/>
        </p:nvSpPr>
        <p:spPr>
          <a:xfrm>
            <a:off x="2195640" y="6237360"/>
            <a:ext cx="6948360" cy="0"/>
          </a:xfrm>
          <a:prstGeom prst="line">
            <a:avLst/>
          </a:prstGeom>
          <a:ln w="381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4"/>
          <p:cNvSpPr/>
          <p:nvPr/>
        </p:nvSpPr>
        <p:spPr>
          <a:xfrm>
            <a:off x="826920" y="1125360"/>
            <a:ext cx="3024360" cy="2880000"/>
          </a:xfrm>
          <a:prstGeom prst="hexagon">
            <a:avLst>
              <a:gd name="adj" fmla="val 26253"/>
              <a:gd name="vf" fmla="val 115470"/>
            </a:avLst>
          </a:prstGeom>
          <a:solidFill>
            <a:srgbClr val="fefcce"/>
          </a:solidFill>
          <a:ln w="2844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A b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without purp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will never me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the right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5"/>
          <p:cNvSpPr/>
          <p:nvPr/>
        </p:nvSpPr>
        <p:spPr>
          <a:xfrm>
            <a:off x="3059280" y="2565360"/>
            <a:ext cx="3024000" cy="2879640"/>
          </a:xfrm>
          <a:prstGeom prst="hexagon">
            <a:avLst>
              <a:gd name="adj" fmla="val 26253"/>
              <a:gd name="vf" fmla="val 115470"/>
            </a:avLst>
          </a:prstGeom>
          <a:solidFill>
            <a:srgbClr val="fefcce"/>
          </a:solidFill>
          <a:ln w="2844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Taking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with a strong fa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6"/>
          <p:cNvSpPr/>
          <p:nvPr/>
        </p:nvSpPr>
        <p:spPr>
          <a:xfrm>
            <a:off x="5292720" y="1125360"/>
            <a:ext cx="3024360" cy="2880000"/>
          </a:xfrm>
          <a:prstGeom prst="hexagon">
            <a:avLst>
              <a:gd name="adj" fmla="val 26253"/>
              <a:gd name="vf" fmla="val 115470"/>
            </a:avLst>
          </a:prstGeom>
          <a:solidFill>
            <a:srgbClr val="fefcce"/>
          </a:solidFill>
          <a:ln w="2844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Coordin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with the pers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who are o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FrutigerCnd"/>
                <a:ea typeface="宋体"/>
              </a:rPr>
              <a:t>way to succe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5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5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5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684360" y="0"/>
            <a:ext cx="7848360" cy="620640"/>
          </a:xfrm>
          <a:prstGeom prst="rect">
            <a:avLst/>
          </a:prstGeom>
          <a:solidFill>
            <a:srgbClr val="b7290d"/>
          </a:solidFill>
          <a:ln w="93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3"/>
          <p:cNvSpPr/>
          <p:nvPr/>
        </p:nvSpPr>
        <p:spPr>
          <a:xfrm>
            <a:off x="2484360" y="6237360"/>
            <a:ext cx="6659640" cy="71280"/>
          </a:xfrm>
          <a:prstGeom prst="line">
            <a:avLst/>
          </a:prstGeom>
          <a:ln w="381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611280" y="1197000"/>
            <a:ext cx="649080" cy="647640"/>
          </a:xfrm>
          <a:prstGeom prst="rect">
            <a:avLst/>
          </a:prstGeom>
          <a:solidFill>
            <a:srgbClr val="7e0300"/>
          </a:solidFill>
          <a:ln w="9360">
            <a:solidFill>
              <a:srgbClr val="7e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611280" y="2421000"/>
            <a:ext cx="649080" cy="647640"/>
          </a:xfrm>
          <a:prstGeom prst="rect">
            <a:avLst/>
          </a:prstGeom>
          <a:solidFill>
            <a:srgbClr val="7e0300"/>
          </a:solidFill>
          <a:ln w="9360">
            <a:solidFill>
              <a:srgbClr val="7e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611280" y="3716280"/>
            <a:ext cx="649080" cy="647640"/>
          </a:xfrm>
          <a:prstGeom prst="rect">
            <a:avLst/>
          </a:prstGeom>
          <a:solidFill>
            <a:srgbClr val="7e0300"/>
          </a:solidFill>
          <a:ln w="9360">
            <a:solidFill>
              <a:srgbClr val="7e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611280" y="4941720"/>
            <a:ext cx="649080" cy="648000"/>
          </a:xfrm>
          <a:prstGeom prst="rect">
            <a:avLst/>
          </a:prstGeom>
          <a:solidFill>
            <a:srgbClr val="7e0300"/>
          </a:solidFill>
          <a:ln w="9360">
            <a:solidFill>
              <a:srgbClr val="7e0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1692360" y="126828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1692360" y="242100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utiger-Normal"/>
                <a:ea typeface="宋体"/>
              </a:rPr>
              <a:t>Experiencing the joy in con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1692360" y="1197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utiger-Normal"/>
                <a:ea typeface="张晓明 纤体宋 英文"/>
              </a:rPr>
              <a:t>Enjoying the job you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1"/>
          <p:cNvSpPr/>
          <p:nvPr/>
        </p:nvSpPr>
        <p:spPr>
          <a:xfrm>
            <a:off x="1692360" y="364500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utiger-Normal"/>
                <a:ea typeface="宋体"/>
              </a:rPr>
              <a:t>Needing a song in the 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2"/>
          <p:cNvSpPr/>
          <p:nvPr/>
        </p:nvSpPr>
        <p:spPr>
          <a:xfrm>
            <a:off x="1692360" y="4869000"/>
            <a:ext cx="69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utiger-Normal"/>
                <a:ea typeface="宋体"/>
              </a:rPr>
              <a:t>Conquering the challenges in job with a positive at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785 -0.12523 C 0.1776 -0.13056 0.26753 -0.13588 0.25139 -0.11296 C 0.23524 -0.09005 0.00799 -0.03079 -0.0092 0.01227 C -0.02639 0.05532 0.14687 0.14768 0.14844 0.1456 C 0.15 0.14352 0.075 0.07176 -1.94444E-006 3.7037E-007 E">
                                      <p:cBhvr>
                                        <p:cTn id="10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68 -0.00209 C -0.01788 0.03379 0.00105 0.06967 0.00834 0.06065 C 0.01563 0.05162 0.01129 -0.03033 0.0073 -0.05648 C 0.00313 -0.08264 -0.01406 -0.09908 -0.01614 -0.09699 C -0.01823 -0.09491 -0.0493 -0.05834 -0.00503 -0.04445 C 0.03924 -0.03056 0.24844 -0.02153 0.24931 -0.01412 C 0.25 -0.00672 0.125 -0.00348 -3.33333E-006 2.96296E-006 E">
                                      <p:cBhvr>
                                        <p:cTn id="114" dur="2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7 -0.02824 C 0.06077 -0.06365 0.13837 -0.09907 0.1606 -0.09074 C 0.18282 -0.0824 0.14185 0.02686 0.11667 0.02223 C 0.0915 0.0176 0.04862 -0.11273 0.00903 -0.11898 C -0.03056 -0.12523 -0.1198 -0.03588 -0.12136 -0.01597 C -0.12292 0.00394 -0.02171 -0.00578 5E-006 -3.33333E-006 E">
                                      <p:cBhvr>
                                        <p:cTn id="123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3 C -0.00052 -0.03287 0.12934 -0.1 0.15382 -0.09097 C 0.1783 -0.08194 0.1618 0.06181 0.14618 0.0544 C 0.13055 0.04699 0.09496 -0.11551 0.05989 -0.13541 C 0.02482 -0.15532 -0.05278 -0.10416 -0.06441 -0.06481 C -0.07604 -0.02546 -0.04601 0.07269 -0.0099 0.10093 C 0.02621 0.12917 0.15052 0.12176 0.15225 0.10487 C 0.15399 0.08797 -0.00087 0.03241 -0.0007 -0.00023 Z">
                                      <p:cBhvr>
                                        <p:cTn id="132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755640" y="0"/>
            <a:ext cx="7704000" cy="620640"/>
          </a:xfrm>
          <a:prstGeom prst="rect">
            <a:avLst/>
          </a:prstGeom>
          <a:solidFill>
            <a:srgbClr val="b7290d"/>
          </a:solidFill>
          <a:ln w="93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"/>
          <p:cNvSpPr/>
          <p:nvPr/>
        </p:nvSpPr>
        <p:spPr>
          <a:xfrm>
            <a:off x="2700360" y="6237360"/>
            <a:ext cx="6443640" cy="0"/>
          </a:xfrm>
          <a:prstGeom prst="line">
            <a:avLst/>
          </a:prstGeom>
          <a:ln w="381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5292720" y="1557360"/>
            <a:ext cx="2952720" cy="3530520"/>
          </a:xfrm>
          <a:prstGeom prst="flowChartDelay">
            <a:avLst/>
          </a:prstGeom>
          <a:solidFill>
            <a:srgbClr val="fefcce"/>
          </a:solidFill>
          <a:ln w="2844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Filtering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filtering the e-ma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efficiency and we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focus on attention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the most important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5"/>
          <p:cNvSpPr/>
          <p:nvPr/>
        </p:nvSpPr>
        <p:spPr>
          <a:xfrm rot="10800000">
            <a:off x="1042920" y="1557000"/>
            <a:ext cx="2952720" cy="3529080"/>
          </a:xfrm>
          <a:prstGeom prst="flowChartDelay">
            <a:avLst/>
          </a:prstGeom>
          <a:solidFill>
            <a:srgbClr val="fefcce"/>
          </a:solidFill>
          <a:ln w="2844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Keeping a simple,cl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purpose and dir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understanding wha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do ,what can’t 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which can av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repeating the s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job decrea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utiger56"/>
                <a:ea typeface="宋体"/>
              </a:rPr>
              <a:t>making mista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49" dur="indefinite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0" dur="indefinite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0" dur="indefinite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1" dur="indefinite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684360" y="0"/>
            <a:ext cx="7775280" cy="549360"/>
          </a:xfrm>
          <a:prstGeom prst="rect">
            <a:avLst/>
          </a:prstGeom>
          <a:solidFill>
            <a:srgbClr val="b7290d"/>
          </a:solidFill>
          <a:ln w="93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"/>
          <p:cNvSpPr/>
          <p:nvPr/>
        </p:nvSpPr>
        <p:spPr>
          <a:xfrm>
            <a:off x="2556000" y="6308640"/>
            <a:ext cx="6588000" cy="0"/>
          </a:xfrm>
          <a:prstGeom prst="line">
            <a:avLst/>
          </a:prstGeom>
          <a:ln w="38160">
            <a:solidFill>
              <a:srgbClr val="b72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WordArt 4"/>
          <p:cNvSpPr txBox="1"/>
          <p:nvPr/>
        </p:nvSpPr>
        <p:spPr>
          <a:xfrm>
            <a:off x="2268360" y="2565360"/>
            <a:ext cx="41911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张晓明 纤体宋 英文"/>
              </a:rPr>
              <a:t>THANKS</a:t>
            </a:r>
            <a:endParaRPr b="0" lang="en-US" sz="6600" spc="1" strike="noStrike">
              <a:ln w="0">
                <a:noFill/>
              </a:ln>
              <a:solidFill>
                <a:srgbClr val="3366ff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张晓明 纤体宋 英文"/>
              <a:ea typeface="张晓明 纤体宋 英文"/>
            </a:endParaRPr>
          </a:p>
        </p:txBody>
      </p:sp>
      <p:sp>
        <p:nvSpPr>
          <p:cNvPr id="571" name="WordArt 5"/>
          <p:cNvSpPr txBox="1"/>
          <p:nvPr/>
        </p:nvSpPr>
        <p:spPr>
          <a:xfrm rot="10800000">
            <a:off x="2268360" y="3357720"/>
            <a:ext cx="4104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e0e0e0"/>
                    </a:gs>
                    <a:gs pos="100000">
                      <a:srgbClr val="336699"/>
                    </a:gs>
                  </a:gsLst>
                  <a:lin ang="16200000"/>
                </a:gra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张晓明 纤体宋 英文"/>
              </a:rPr>
              <a:t>SKNAHT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e0e0e0"/>
                  </a:gs>
                  <a:gs pos="100000">
                    <a:srgbClr val="336699"/>
                  </a:gs>
                </a:gsLst>
                <a:lin ang="16200000"/>
              </a:gra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张晓明 纤体宋 英文"/>
              <a:ea typeface="张晓明 纤体宋 英文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12T01:59:55Z</dcterms:modified>
  <cp:revision>1</cp:revision>
  <dc:subject/>
  <dc:title>PowerPoint 演示文稿</dc:title>
</cp:coreProperties>
</file>