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ACE-D5D5-4D55-A2DE-4118FEB2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775-F62A-48F9-B191-ADEEB92A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F31-5C68-4DD4-8BFE-93D4B28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910-E7CC-4F24-B159-B7E07EA0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6CC-E015-4AAD-A1D0-E09383E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90C-062E-4469-8E65-892EDC49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928-714F-44D3-8EED-E9A5F33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66E-F871-40FE-ADC7-095769F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769-37E0-4133-8EEA-CECEEC7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659-1E9C-4BC4-96E3-097DCA22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4D4-73F2-4031-B825-92D6A6F9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0A9-6358-4D17-8F20-46F76ADE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-752400" y="1773360"/>
            <a:ext cx="7269120" cy="4798800"/>
          </a:xfrm>
          <a:prstGeom prst="ellipse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9389-E905-4E81-8C08-8584382703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C0E-166B-41CB-AB22-7839B07727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203640" y="4292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075280" y="4956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4870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414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a</cp:lastModifiedBy>
  <dcterms:modified xsi:type="dcterms:W3CDTF">2014-07-30T04:59:54Z</dcterms:modified>
  <cp:revision>5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