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8999538" cy="6011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44FE-36BC-400A-BC95-E3F1C4A68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EEE4-98D9-45C7-8571-30964CBE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5957-DA14-44FC-BBC1-45F50E58D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704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892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704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BB16-9187-4987-893D-DA7B9C7F4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AF07-BDF3-49B6-B304-8363B56D3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11D0-7972-44FC-8512-71D2CC54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477C-203C-4DD1-8913-C35C4004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AEE5-4B31-44C3-A3BA-558CDA97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F45C4-E5E7-433D-AFB9-0BE62638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48920" y="240840"/>
            <a:ext cx="810108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E92B7-8388-4591-8DA3-4A9497FA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06A9-1466-4BC9-B92D-DA93AEE3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E942-865D-46E1-BF28-949B4BA4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DDFA-5E5D-469B-9954-A5973A84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0E9E-A37E-4A4C-A676-C88789E4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FE45-00EA-44A2-B540-7F91C666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3989-792F-4F3F-AA30-E6EEFE6F0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780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2704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892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780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2704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7827-8FAF-4C15-8FD2-24DEA160D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36EC-9AD6-4E67-BFD9-65042734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69C4-8185-4589-930C-156EFE5B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9F11-0477-4588-A3A7-860C8AD6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8920" y="240840"/>
            <a:ext cx="810108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BB49-599F-44BA-84BC-8BD37E89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FA4A-5DBB-4671-9C2E-68584E1C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8B86-BA0B-4E5A-97A5-238E9FBB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B176-9BF6-4EAC-A934-00612DB2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66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127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88960" indent="-212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0720" y="5473800"/>
            <a:ext cx="20988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2C8F-C4D0-4C91-B720-F067F2BBB8C3}" type="datetime">
              <a:rPr b="0" lang="zh-CN" sz="13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5473800"/>
            <a:ext cx="28494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0120" y="5473800"/>
            <a:ext cx="210024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5D18-623D-4634-A223-0C81473354EE}" type="slidenum">
              <a:rPr b="0" lang="zh-CN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9880" indent="-299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0880" indent="-2491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1880" indent="-200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01840" indent="-200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03240" indent="-199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03240" indent="-199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03240" indent="-199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49280" y="5475240"/>
            <a:ext cx="21002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A342-7AE2-41BA-A09A-A0F26ECD52BE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74760" y="5475240"/>
            <a:ext cx="28494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0120" y="5475240"/>
            <a:ext cx="21002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265A-8F77-4280-978B-DCF84B053F0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wg_blurred_backgrounds_9"/>
          <p:cNvPicPr/>
          <p:nvPr/>
        </p:nvPicPr>
        <p:blipFill>
          <a:blip r:embed="rId1"/>
          <a:stretch/>
        </p:blipFill>
        <p:spPr>
          <a:xfrm>
            <a:off x="0" y="6480"/>
            <a:ext cx="8999640" cy="5999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4280" y="1866600"/>
            <a:ext cx="7650360" cy="1289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雅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49280" y="3406320"/>
            <a:ext cx="6300720" cy="15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zh-CN" sz="29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0360" y="1402920"/>
            <a:ext cx="8099640" cy="32590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微软雅黑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wg_blurred_backgrounds_9"/>
          <p:cNvPicPr/>
          <p:nvPr/>
        </p:nvPicPr>
        <p:blipFill>
          <a:blip r:embed="rId1"/>
          <a:srcRect l="0" t="0" r="0" b="80108"/>
          <a:stretch/>
        </p:blipFill>
        <p:spPr>
          <a:xfrm>
            <a:off x="0" y="4807080"/>
            <a:ext cx="899964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7640" y="240840"/>
            <a:ext cx="664236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07640" y="1403280"/>
            <a:ext cx="664236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微软雅黑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wg_blurred_backgrounds_9"/>
          <p:cNvPicPr/>
          <p:nvPr/>
        </p:nvPicPr>
        <p:blipFill>
          <a:blip r:embed="rId1"/>
          <a:srcRect l="50797" t="0" r="30143" b="0"/>
          <a:stretch/>
        </p:blipFill>
        <p:spPr>
          <a:xfrm>
            <a:off x="0" y="6480"/>
            <a:ext cx="1716120" cy="59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4857840" y="914400"/>
            <a:ext cx="107316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4857840" y="914400"/>
            <a:ext cx="107316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2222640" y="882720"/>
            <a:ext cx="4030560" cy="4030560"/>
          </a:xfrm>
          <a:custGeom>
            <a:avLst/>
            <a:gdLst>
              <a:gd name="textAreaLeft" fmla="*/ 590040 w 4030560"/>
              <a:gd name="textAreaRight" fmla="*/ 3440520 w 4030560"/>
              <a:gd name="textAreaTop" fmla="*/ 590040 h 4030560"/>
              <a:gd name="textAreaBottom" fmla="*/ 3440520 h 4030560"/>
            </a:gdLst>
            <a:ahLst/>
            <a:rect l="textAreaLeft" t="textAreaTop" r="textAreaRight" b="textAreaBottom"/>
            <a:pathLst>
              <a:path w="21600" h="21600">
                <a:moveTo>
                  <a:pt x="20439" y="9939"/>
                </a:moveTo>
                <a:cubicBezTo>
                  <a:pt x="20311" y="8505"/>
                  <a:pt x="19865" y="7117"/>
                  <a:pt x="19132" y="5877"/>
                </a:cubicBezTo>
                <a:lnTo>
                  <a:pt x="20098" y="5306"/>
                </a:lnTo>
                <a:cubicBezTo>
                  <a:pt x="20916" y="6690"/>
                  <a:pt x="21414" y="8239"/>
                  <a:pt x="21557" y="9840"/>
                </a:cubicBezTo>
                <a:lnTo>
                  <a:pt x="24246" y="9600"/>
                </a:lnTo>
                <a:lnTo>
                  <a:pt x="21288" y="13137"/>
                </a:lnTo>
                <a:lnTo>
                  <a:pt x="17750" y="10179"/>
                </a:lnTo>
                <a:lnTo>
                  <a:pt x="20439" y="9939"/>
                </a:lnTo>
                <a:close/>
              </a:path>
            </a:pathLst>
          </a:custGeom>
          <a:solidFill>
            <a:srgbClr val="8573c0"/>
          </a:solidFill>
          <a:ln w="25560">
            <a:solidFill>
              <a:srgbClr val="5b4d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5533920" y="2997360"/>
            <a:ext cx="107496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5533920" y="2997360"/>
            <a:ext cx="107496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2298600" y="819000"/>
            <a:ext cx="4030920" cy="4030920"/>
          </a:xfrm>
          <a:custGeom>
            <a:avLst/>
            <a:gdLst>
              <a:gd name="textAreaLeft" fmla="*/ 590040 w 4030920"/>
              <a:gd name="textAreaRight" fmla="*/ 3440880 w 4030920"/>
              <a:gd name="textAreaTop" fmla="*/ 590040 h 4030920"/>
              <a:gd name="textAreaBottom" fmla="*/ 3440880 h 4030920"/>
            </a:gdLst>
            <a:ahLst/>
            <a:rect l="textAreaLeft" t="textAreaTop" r="textAreaRight" b="textAreaBottom"/>
            <a:pathLst>
              <a:path w="21600" h="21600">
                <a:moveTo>
                  <a:pt x="14593" y="19703"/>
                </a:moveTo>
                <a:cubicBezTo>
                  <a:pt x="16123" y="19051"/>
                  <a:pt x="17459" y="18016"/>
                  <a:pt x="18473" y="16697"/>
                </a:cubicBezTo>
                <a:lnTo>
                  <a:pt x="19363" y="17381"/>
                </a:lnTo>
                <a:cubicBezTo>
                  <a:pt x="18231" y="18853"/>
                  <a:pt x="16740" y="20008"/>
                  <a:pt x="15032" y="20735"/>
                </a:cubicBezTo>
                <a:lnTo>
                  <a:pt x="16091" y="23219"/>
                </a:lnTo>
                <a:lnTo>
                  <a:pt x="11812" y="21497"/>
                </a:lnTo>
                <a:lnTo>
                  <a:pt x="13534" y="17219"/>
                </a:lnTo>
                <a:lnTo>
                  <a:pt x="14593" y="19703"/>
                </a:lnTo>
                <a:close/>
              </a:path>
            </a:pathLst>
          </a:custGeom>
          <a:solidFill>
            <a:srgbClr val="8573c0"/>
          </a:solidFill>
          <a:ln w="25560">
            <a:solidFill>
              <a:srgbClr val="5b4d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3762360" y="4284720"/>
            <a:ext cx="107316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3513240" y="4284720"/>
            <a:ext cx="107460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0"/>
          <p:cNvSpPr/>
          <p:nvPr/>
        </p:nvSpPr>
        <p:spPr>
          <a:xfrm>
            <a:off x="2222640" y="882720"/>
            <a:ext cx="4030560" cy="4030560"/>
          </a:xfrm>
          <a:custGeom>
            <a:avLst/>
            <a:gdLst>
              <a:gd name="textAreaLeft" fmla="*/ 590040 w 4030560"/>
              <a:gd name="textAreaRight" fmla="*/ 3440520 w 4030560"/>
              <a:gd name="textAreaTop" fmla="*/ 590040 h 4030560"/>
              <a:gd name="textAreaBottom" fmla="*/ 3440520 h 4030560"/>
            </a:gdLst>
            <a:ahLst/>
            <a:rect l="textAreaLeft" t="textAreaTop" r="textAreaRight" b="textAreaBottom"/>
            <a:pathLst>
              <a:path w="21600" h="21600">
                <a:moveTo>
                  <a:pt x="3738" y="17417"/>
                </a:moveTo>
                <a:cubicBezTo>
                  <a:pt x="4875" y="18631"/>
                  <a:pt x="6306" y="19531"/>
                  <a:pt x="7893" y="20031"/>
                </a:cubicBezTo>
                <a:lnTo>
                  <a:pt x="7556" y="21101"/>
                </a:lnTo>
                <a:cubicBezTo>
                  <a:pt x="5785" y="20543"/>
                  <a:pt x="4188" y="19539"/>
                  <a:pt x="2919" y="18184"/>
                </a:cubicBezTo>
                <a:lnTo>
                  <a:pt x="949" y="20031"/>
                </a:lnTo>
                <a:lnTo>
                  <a:pt x="1098" y="15421"/>
                </a:lnTo>
                <a:lnTo>
                  <a:pt x="5708" y="15571"/>
                </a:lnTo>
                <a:lnTo>
                  <a:pt x="3738" y="17417"/>
                </a:lnTo>
                <a:close/>
              </a:path>
            </a:pathLst>
          </a:custGeom>
          <a:solidFill>
            <a:srgbClr val="8573c0"/>
          </a:solidFill>
          <a:ln w="25560">
            <a:solidFill>
              <a:srgbClr val="5b4d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1990800" y="2997360"/>
            <a:ext cx="107460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1990800" y="2997360"/>
            <a:ext cx="107460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3"/>
          <p:cNvSpPr/>
          <p:nvPr/>
        </p:nvSpPr>
        <p:spPr>
          <a:xfrm>
            <a:off x="2187720" y="973080"/>
            <a:ext cx="4030560" cy="4030560"/>
          </a:xfrm>
          <a:custGeom>
            <a:avLst/>
            <a:gdLst>
              <a:gd name="textAreaLeft" fmla="*/ 590040 w 4030560"/>
              <a:gd name="textAreaRight" fmla="*/ 3440520 w 4030560"/>
              <a:gd name="textAreaTop" fmla="*/ 590040 h 4030560"/>
              <a:gd name="textAreaBottom" fmla="*/ 3440520 h 4030560"/>
            </a:gdLst>
            <a:ahLst/>
            <a:rect l="textAreaLeft" t="textAreaTop" r="textAreaRight" b="textAreaBottom"/>
            <a:pathLst>
              <a:path w="21600" h="21600">
                <a:moveTo>
                  <a:pt x="2027" y="6713"/>
                </a:moveTo>
                <a:cubicBezTo>
                  <a:pt x="1430" y="7993"/>
                  <a:pt x="1122" y="9387"/>
                  <a:pt x="1122" y="10800"/>
                </a:cubicBezTo>
                <a:cubicBezTo>
                  <a:pt x="1122" y="10827"/>
                  <a:pt x="1122" y="10855"/>
                  <a:pt x="1122" y="10883"/>
                </a:cubicBezTo>
                <a:lnTo>
                  <a:pt x="0" y="10893"/>
                </a:lnTo>
                <a:cubicBezTo>
                  <a:pt x="0" y="10862"/>
                  <a:pt x="0" y="10831"/>
                  <a:pt x="0" y="10800"/>
                </a:cubicBezTo>
                <a:cubicBezTo>
                  <a:pt x="0" y="9224"/>
                  <a:pt x="344" y="7667"/>
                  <a:pt x="1010" y="6239"/>
                </a:cubicBezTo>
                <a:lnTo>
                  <a:pt x="-1438" y="5099"/>
                </a:lnTo>
                <a:lnTo>
                  <a:pt x="2895" y="3520"/>
                </a:lnTo>
                <a:lnTo>
                  <a:pt x="4474" y="7853"/>
                </a:lnTo>
                <a:lnTo>
                  <a:pt x="2027" y="6713"/>
                </a:lnTo>
                <a:close/>
              </a:path>
            </a:pathLst>
          </a:custGeom>
          <a:solidFill>
            <a:srgbClr val="8573c0"/>
          </a:solidFill>
          <a:ln w="25560">
            <a:solidFill>
              <a:srgbClr val="5b4d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2666880" y="914400"/>
            <a:ext cx="107496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2666880" y="914400"/>
            <a:ext cx="107496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6"/>
          <p:cNvSpPr/>
          <p:nvPr/>
        </p:nvSpPr>
        <p:spPr>
          <a:xfrm>
            <a:off x="2222640" y="882720"/>
            <a:ext cx="4030560" cy="4030560"/>
          </a:xfrm>
          <a:custGeom>
            <a:avLst/>
            <a:gdLst>
              <a:gd name="textAreaLeft" fmla="*/ 590040 w 4030560"/>
              <a:gd name="textAreaRight" fmla="*/ 3440520 w 4030560"/>
              <a:gd name="textAreaTop" fmla="*/ 590040 h 4030560"/>
              <a:gd name="textAreaBottom" fmla="*/ 3440520 h 4030560"/>
            </a:gdLst>
            <a:ahLst/>
            <a:rect l="textAreaLeft" t="textAreaTop" r="textAreaRight" b="textAreaBottom"/>
            <a:pathLst>
              <a:path w="21600" h="21600">
                <a:moveTo>
                  <a:pt x="12664" y="1303"/>
                </a:moveTo>
                <a:cubicBezTo>
                  <a:pt x="12050" y="1182"/>
                  <a:pt x="11425" y="1122"/>
                  <a:pt x="10799" y="1122"/>
                </a:cubicBezTo>
                <a:cubicBezTo>
                  <a:pt x="9857" y="1122"/>
                  <a:pt x="8920" y="1259"/>
                  <a:pt x="8018" y="1530"/>
                </a:cubicBezTo>
                <a:lnTo>
                  <a:pt x="7695" y="455"/>
                </a:lnTo>
                <a:cubicBezTo>
                  <a:pt x="8702" y="153"/>
                  <a:pt x="9748" y="0"/>
                  <a:pt x="10799" y="0"/>
                </a:cubicBezTo>
                <a:cubicBezTo>
                  <a:pt x="11498" y="0"/>
                  <a:pt x="12195" y="67"/>
                  <a:pt x="12880" y="202"/>
                </a:cubicBezTo>
                <a:lnTo>
                  <a:pt x="13401" y="-2448"/>
                </a:lnTo>
                <a:lnTo>
                  <a:pt x="15972" y="1380"/>
                </a:lnTo>
                <a:lnTo>
                  <a:pt x="12144" y="3952"/>
                </a:lnTo>
                <a:lnTo>
                  <a:pt x="12664" y="1303"/>
                </a:lnTo>
                <a:close/>
              </a:path>
            </a:pathLst>
          </a:custGeom>
          <a:solidFill>
            <a:srgbClr val="8573c0"/>
          </a:solidFill>
          <a:ln w="25560">
            <a:solidFill>
              <a:srgbClr val="5b4d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3"/>
          <p:cNvSpPr/>
          <p:nvPr/>
        </p:nvSpPr>
        <p:spPr>
          <a:xfrm>
            <a:off x="1639800" y="1349280"/>
            <a:ext cx="292104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0040" rIns="320040" tIns="320040" bIns="320040" anchor="ctr">
            <a:noAutofit/>
          </a:bodyPr>
          <a:p>
            <a:pPr algn="ctr">
              <a:lnSpc>
                <a:spcPct val="90000"/>
              </a:lnSpc>
              <a:spcAft>
                <a:spcPts val="17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4560840" y="1349280"/>
            <a:ext cx="292248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0040" rIns="320040" tIns="320040" bIns="320040" anchor="ctr">
            <a:noAutofit/>
          </a:bodyPr>
          <a:p>
            <a:pPr algn="ctr">
              <a:lnSpc>
                <a:spcPct val="90000"/>
              </a:lnSpc>
              <a:spcAft>
                <a:spcPts val="17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1639800" y="3357720"/>
            <a:ext cx="292104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0040" rIns="320040" tIns="320040" bIns="320040" anchor="ctr">
            <a:noAutofit/>
          </a:bodyPr>
          <a:p>
            <a:pPr algn="ctr">
              <a:lnSpc>
                <a:spcPct val="90000"/>
              </a:lnSpc>
              <a:spcAft>
                <a:spcPts val="17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4560840" y="3357720"/>
            <a:ext cx="292104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0040" rIns="320040" tIns="320040" bIns="320040" anchor="ctr">
            <a:noAutofit/>
          </a:bodyPr>
          <a:p>
            <a:pPr algn="ctr">
              <a:lnSpc>
                <a:spcPct val="90000"/>
              </a:lnSpc>
              <a:spcAft>
                <a:spcPts val="17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0"/>
          <p:cNvSpPr/>
          <p:nvPr/>
        </p:nvSpPr>
        <p:spPr>
          <a:xfrm>
            <a:off x="3684600" y="2554200"/>
            <a:ext cx="1752480" cy="803520"/>
          </a:xfrm>
          <a:prstGeom prst="roundRect">
            <a:avLst>
              <a:gd name="adj" fmla="val 16667"/>
            </a:avLst>
          </a:prstGeom>
          <a:solidFill>
            <a:srgbClr val="b0bf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3724200" y="2593800"/>
            <a:ext cx="16732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1360" rIns="171360" tIns="171360" bIns="171360" anchor="ctr">
            <a:noAutofit/>
          </a:bodyPr>
          <a:p>
            <a:pPr algn="ctr">
              <a:lnSpc>
                <a:spcPct val="90000"/>
              </a:lnSpc>
              <a:spcAft>
                <a:spcPts val="17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wg_blurred_backgrounds_9"/>
          <p:cNvPicPr/>
          <p:nvPr/>
        </p:nvPicPr>
        <p:blipFill>
          <a:blip r:embed="rId1"/>
          <a:stretch/>
        </p:blipFill>
        <p:spPr>
          <a:xfrm>
            <a:off x="0" y="6480"/>
            <a:ext cx="8999640" cy="59990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4280" y="2069640"/>
            <a:ext cx="7650360" cy="128772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492120" y="0"/>
            <a:ext cx="7421400" cy="6012000"/>
            <a:chOff x="492120" y="0"/>
            <a:chExt cx="7421400" cy="6012000"/>
          </a:xfrm>
        </p:grpSpPr>
        <p:sp>
          <p:nvSpPr>
            <p:cNvPr id="115" name="矩形 4"/>
            <p:cNvSpPr/>
            <p:nvPr/>
          </p:nvSpPr>
          <p:spPr>
            <a:xfrm>
              <a:off x="1030680" y="0"/>
              <a:ext cx="5930640" cy="62748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492120" y="1503000"/>
              <a:ext cx="7421400" cy="450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Box 7"/>
            <p:cNvSpPr/>
            <p:nvPr/>
          </p:nvSpPr>
          <p:spPr>
            <a:xfrm rot="20926800">
              <a:off x="2163600" y="3123000"/>
              <a:ext cx="4091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yellownancy</dc:creator>
  <dc:description/>
  <cp:keywords/>
  <dc:language>en-US</dc:language>
  <cp:lastModifiedBy>a</cp:lastModifiedBy>
  <dcterms:modified xsi:type="dcterms:W3CDTF">2014-07-20T07:58:45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